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EB6B-24D1-4B6F-93A7-D81E1E91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D0EA-AC60-4452-9694-B0543B46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3D36-89AD-4F68-93D8-005F461E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B29-A3BB-47AA-A3EA-49402B27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4DBF-E01D-4263-8CB2-E911A555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17AE-AE02-4AC2-8947-111C5A15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8DA4-9A10-45AB-AE79-5B8E93DA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E177-6D3D-408E-BCD0-5B3C6F94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7BD5-B1DC-42E5-8638-668ECF9A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2D49-4203-4926-9791-02BDBBFC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264B-7279-4ACC-AEBC-A3348A6D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2A48-6212-40E6-9983-C0793454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1722-8873-4B7A-8379-85755D80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2B0F-00DA-4A1A-A58E-A257A9DE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81EC-8A83-4620-999D-BE453342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9A8D-C767-4521-9100-ED93F1C3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1F47-7194-4D82-AB1E-0D888E6C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7307-F790-4652-9901-629242C0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6497-292A-49D6-B86D-FFF79664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C96C-3435-4B1B-8659-126341E0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A868-6632-44BD-A7F5-9D4969A9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1513-F058-426D-A8F8-99D9683C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C2AF-76C8-4726-B83D-5BFE3C0E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92A2-572B-4A78-B9F5-113E0003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C8B8-CB0F-40CD-98A3-588595C29A0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C153-0D9B-4CB8-817F-8B977A538A9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ДНК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Днк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– Дезоксирибонуклеиновая кислот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881680" y="692280"/>
            <a:ext cx="293832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становлено, что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 образовании межнуклеотидной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связи участвуют гидроксильные группы в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3'- и 5'-положениях остатков углевода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В настоящее время проводятся исследования первичных структур различных молекул ДНК. Около 15 лет назад была полностью расшифрована нуклеотидная последовательность митохондриальной ДНК человека (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16569 пар нуклеотидов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. Известны полные нуклеотидные последовательности ДНК ряда вирусов и плазми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всем недавно завершено определение нуклеотидных последовательностей геномов двух прокариотических организмов (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Haemophilus influenzae и Mycoplasma genitalum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 и появились сообщения о расшифровке генома первого эукариотического организма – дрожжей. Близки к завершению аналогичные исследования геном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E.coli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 генома нематоды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Caenorhabditis elegans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Исследователи активно работают над полной расшифровкой генома человек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ри варианта схемы нуклеотидной последовательности ДНК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67690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Строение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ДНК</a:t>
            </a: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полимер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Мономеры</a:t>
            </a: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нуклеотид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Нуклеотид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химическое соединение остатков трех веществ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340000" y="3573000"/>
            <a:ext cx="4619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Строение нуклеоти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436572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692000" y="4365720"/>
            <a:ext cx="7189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56000" y="436572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4365720"/>
            <a:ext cx="6490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5118120"/>
            <a:ext cx="19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Азотист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основания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Аденин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Гуани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ffcc00"/>
                </a:solidFill>
                <a:latin typeface="Verdana"/>
              </a:rPr>
              <a:t>Цитаз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cc0066"/>
                </a:solidFill>
                <a:latin typeface="Verdana"/>
              </a:rPr>
              <a:t>Ти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48000" y="5373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Углевод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Дезоксириб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530064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00"/>
                </a:solidFill>
                <a:uFillTx/>
                <a:latin typeface="Verdana"/>
              </a:rPr>
              <a:t>Остаток фосфорной кислоты</a:t>
            </a:r>
            <a:r>
              <a:rPr b="0" lang="en-US" sz="1800" spc="-1" strike="noStrike">
                <a:solidFill>
                  <a:srgbClr val="ffcc66"/>
                </a:solidFill>
                <a:latin typeface="Verdana"/>
              </a:rPr>
              <a:t> (Ф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Конформации компонентов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се 5 гетероциклических оснований, входящих в состав НК, имеют плоскую конформацию. Для остатков рибозы и дезоксирибозы плоская конформация энергетически невыгодна. Среди многочисленных теоритически возможных конформаций этих остатков в полинуклеотидах выделяются только 2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427640" y="2637000"/>
            <a:ext cx="4716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Син- и анти- конформации нуклеозид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вободных нуклеозидах и нуклеотидах переход от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2`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эндо- к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3`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- эндо- между син – и анти-конформациями происходит достаточно легко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4360" y="3429000"/>
            <a:ext cx="7632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Макромолекулярная структура ДН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1953 г.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Дж.Уотсон и Ф.Крик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предложили модель структуры ДНК. При постоении стуктуры ученые основывались н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4 группах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данных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ДНК представляет собой полимер, состоящий из нуклеотидов, соединенных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`-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5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`-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фосфодиэфирными связям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Состав нуклеотидов ДНК подчиняется правилам Чаргафф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A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G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) = (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T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C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); число остатков А=Т, 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G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C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Рентгенограммы волокон ДНК указывают на то, что молекула обладает спиральной структурой и содержит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более одной полинуклеотидной цепи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Стабильность структуры за счет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одородных связе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Макромолекулярная структура ДН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правильная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правовинтовая спираль, состоящая из 2 полинуклеатидных цепей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которые закручены друг относительно друга вокруг общей ос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цепи имею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антипараллельную ориентацию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пиримидиновые и пуриновые основания уложены стопкой с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интервалом 0,34 н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длина витка спирали –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3,40 н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стабильность цепи за сче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водородных связей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наличие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комплиментарных пар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– основания,которые образуют пары, в которых они сочетаются водородными связям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48320" y="1484280"/>
            <a:ext cx="4038480" cy="4969080"/>
            <a:chOff x="4648320" y="1484280"/>
            <a:chExt cx="4038480" cy="4969080"/>
          </a:xfrm>
        </p:grpSpPr>
        <p:pic>
          <p:nvPicPr>
            <p:cNvPr id="211" name="" descr=""/>
            <p:cNvPicPr/>
            <p:nvPr/>
          </p:nvPicPr>
          <p:blipFill>
            <a:blip r:embed="rId1"/>
            <a:srcRect l="53239" t="25781" r="21075" b="18526"/>
            <a:stretch/>
          </p:blipFill>
          <p:spPr>
            <a:xfrm>
              <a:off x="4648320" y="1484280"/>
              <a:ext cx="4038480" cy="496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 txBox="1"/>
            <p:nvPr/>
          </p:nvSpPr>
          <p:spPr>
            <a:xfrm>
              <a:off x="4648320" y="1484280"/>
              <a:ext cx="4038480" cy="49690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олиморфизм двойной спирали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ые спирали образуют 2 семейства: </a:t>
            </a:r>
            <a:r>
              <a:rPr b="0" lang="ru-RU" sz="3200" spc="-1" strike="noStrike">
                <a:solidFill>
                  <a:srgbClr val="66ff33"/>
                </a:solidFill>
                <a:latin typeface="Verdana"/>
              </a:rPr>
              <a:t>А-семейство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онформация сахара С3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эндо-) и </a:t>
            </a:r>
            <a:r>
              <a:rPr b="0" lang="ru-RU" sz="3200" spc="-1" strike="noStrike">
                <a:solidFill>
                  <a:srgbClr val="66ff33"/>
                </a:solidFill>
                <a:latin typeface="Verdana"/>
              </a:rPr>
              <a:t>В-семейство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онформация сахара С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-эндо-). Структуры в пределах каждого из семейств в зависимости от условий (концентрации соли, температуры) могут иметь разное число пар, приходящихся на виток спирал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Розалинда Франклин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получила эксперементальные свидетельства существования весьм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упорядоченной структуры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в ориентированных вытягиванием и подсушенных волокнах ДНК. Эта структура получила название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А-форма ДНК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Этой форме долгое время не придавали особого значения, т.к. она возникла при малой влажности, т.е. не при физиологических условия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352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С3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`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- эндоконформация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сахара приводит к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меньшению расстояния между фосфатными группам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, следовательно, к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меньшению расстояния между нуклеотидными парами вдоль оси спирал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Это ведет к увеличению количества нуклеотидов на виток спирали (11 нуклеотидных остатков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788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Дезоксирибонуклеиновая кисло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ДНК</a:t>
            </a: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биологический полимер, состоящий из двух спирально закрученных цепоче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877000" y="1268280"/>
            <a:ext cx="2655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Пары основан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в А-форме образуют с осью спирали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гол около 20 градусов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очень сильно отодвинуты от оси спирали к переферии молекулы: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сдвиг достигает 0,4 – 0,5 н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т.е. почти половину радиус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аствует в транскрипции и передаче информации от ДНК к РНК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788000" y="1268280"/>
            <a:ext cx="3313080" cy="1627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788000" y="3068640"/>
            <a:ext cx="3384360" cy="1440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788000" y="4653000"/>
            <a:ext cx="3384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454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В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ля этого семейства характерно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структурное разнообрази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ДНК со случайными последовательностями могут находиться в В-,С-,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и других конформационных состояниях. На структуру ДНК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лияют тип и концентрация катионов, а также температур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На виток приходится 10 пар нуклеотид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частвует в репликативных процесса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-форма в хранении информац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219640" y="134136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21964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Z</a:t>
            </a: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 – форма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Левоспиральная конформация ДНК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 Она была открыта в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1979 г. при исследовании структуры гексануклеотида  d(CG)3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 Если полинуклеотид poly(dG-dC) поместить в водный раствор с высокой концентрацией MgCl2, NaCl или спирта, то образуется левая двойная спираль Z-ДНК .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Повторяющейся единицей спирали является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не пара нуклеотидов, а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двойка соседних пар.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В каждой из комплементарных нитей Z-ДНК происходи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чередование син- и анти-конформаций нуклеотидных звеньев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а в каждой паре оснований одно всегда находится в син-конформации относительно гликозидной связи, другое - в анти-конформаци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3527640" cy="2303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076720" y="3860640"/>
            <a:ext cx="3527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Взаимодействия между гетероциклическими основаниями в нуклеиновых кислотах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2 типа взаимодействия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между гетероциклическими основаниями нуклеотидных остатков: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взаимодействия м/у основаниями в комплиментарных парах и вертикальными межплоскостными взаимодействиями оснований,расположенными друг над друго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ru-RU" sz="2000" spc="-1" strike="noStrike">
                <a:solidFill>
                  <a:srgbClr val="ff3399"/>
                </a:solidFill>
                <a:latin typeface="Verdana"/>
              </a:rPr>
              <a:t>стэкинг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заимодействия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роме уотсон-криковских пар 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-T, G-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 гетероциклические основания способны образовывать множество связанными водородными связями пар другой структур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бразование пар между двумя пуринами, двумя пиримидинами или некомплиментарными основаниями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-C, G-T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 стерически затруднено, что нарушает геометрию спирал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Стэкинг – взаимодейств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обусловлены ван-дер-ваальсовыми сил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исят от состава комплиментарных пар и от их последователь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1869 г.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Фридрих Мишер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швейцарский врач биохимик, выделил нуклеиновые кислоты из ядер клеток гноя. Эти клетки содержали фосфоорганическое вещество, которое Мишер назвал «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нуклеино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зучая его состав было получено, что данное соединение носит кислотный характер и содержит белковые компоненты. Остальная часть элементарного состава представлена такими элементами, как: С,Н,О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Альтман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бнаружил ортофосфорную кислоту в составе аминокислот. Именно ее он поначалу называл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нуклеиновой кислот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Пиккард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 конце 19 века открыл азотистое основание –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гуанин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Позже были обнаружены тимин, аденин и ураци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1912 г. Леви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обнаружил, что в состав нуклеиновых кислот входит углевод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пентоза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В начале 20 века был полностью изучен состав всех нуклеиновых кислот, однако вопрос об их строении оставался открытым до 50-х г. 20 ве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Ф. Мишер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сделал правильное предположение о том, что </a:t>
            </a: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нуклеиновые кислоты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заполняют ядро и принимают участие в оплодотворении и передаче наследственной информаци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днако, эта правильная точка зрения просуществовала не долго. При гистохимическом анализе кислот было обнаружено, что гигантские хромосомы не дают похожего аналитического эффекта с нуклеиновыми кислота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Был сделан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вывод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о том, что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не все хромосомы содержат нуклеин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и он не может быть наследственным материалом. Долгое время таким материалом считали белки. А существовавшие в то время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нуклеиновые кислоты подразделяли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на растительные и животные (тимоаминокислоты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В 1936 г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советский ученый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Белозерский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доказал что в проростках конского каштана содержится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тимонуклеиновая кислота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которая относится только  к животным кислота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Девидсон и Брамс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доказали, что растительные нуклеиновые кислоты существуют и животных клетка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С 1936 г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стали различать дезоксирибонуклеи- новую и рибонуклеиновую кислот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53 г. американские биохимики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Дж.</a:t>
            </a: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Уотсон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Ф.Крик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установили расположение частей молекулы ДН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3214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од </a:t>
            </a:r>
            <a:r>
              <a:rPr b="0" lang="en-US" sz="2000" spc="-1" strike="noStrike">
                <a:solidFill>
                  <a:srgbClr val="ff3399"/>
                </a:solidFill>
                <a:latin typeface="Verdana"/>
              </a:rPr>
              <a:t>первичной структурой нуклеиновых кислот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понимают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порядок, последовательность расположения мононуклеотидов в полинуклеотидной цепи ДНК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Поскольку молекулярная масса нуклеиновых кислот колеблется в широких пределах (от 2•10(4) до 10(10)–10(11), установить первичную структуру ДНК весьма сложн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Тем не менее в одноцепочечной нуклеиновой кислоте имеется один и тот же тип связи –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3',5'-фосфодиэфирная связь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между соседними нуклеотидами. Эту общую основу структуры можно представить следующим образом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43280" y="4437000"/>
            <a:ext cx="3889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2:42:33Z</dcterms:created>
  <dc:creator>Devilry</dc:creator>
  <dc:description/>
  <dc:language>en-US</dc:language>
  <cp:lastModifiedBy>Devilry</cp:lastModifiedBy>
  <dcterms:modified xsi:type="dcterms:W3CDTF">2009-10-11T15:42:44Z</dcterms:modified>
  <cp:revision>2</cp:revision>
  <dc:subject/>
  <dc:title>ДНК</dc:title>
</cp:coreProperties>
</file>