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0C4-9BA7-499E-9018-B17BB371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AA3-97AC-4824-8530-C4B0E48F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E37-4B03-404A-9388-B0DA81D9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864-E14E-4467-AECA-4F4021F3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7A00-0A07-48F0-86E5-09258C9A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2945-982B-4EB3-9D60-5739BF68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0B34-4943-4F6A-84A7-BD6AF881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B6DC-18CA-4BC9-8914-89DCE0A4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B0D4-B9E8-4832-BE13-BBDD7BA9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F0E1-1C15-44D6-986E-E5F0BDA0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747E-52AE-4B21-96CB-53D4AF42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09D-AE9E-4A92-9C4A-4400890E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D707-9AA2-4911-9F30-9F3C5B6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D132-DB94-4D05-8989-1C0BA8F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B5E1-5452-48BA-8C71-964279B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7584-FE5D-40A2-AFCA-F206D94D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F795-0379-47F0-A527-8A4D0896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856-DCD3-480A-9F03-CDEC3120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8C5-E8E6-4E05-9FBF-CB16645E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4D9-78EF-4601-B165-1F9FDF54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318-7608-4B66-AC73-90479AF0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323-D3C4-44E2-9549-95D269DC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37D-908A-43F7-81B0-D14DD77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F26-0BDB-45B0-8B5A-43E5585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6834-D5DC-4B7C-A5A5-7D75E2C5CB7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BE4D-C472-4501-BD25-05359A182A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нк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– Дезоксирибонуклеиновая кисл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81680" y="692280"/>
            <a:ext cx="2938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лено, чт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 образовании межнуклеотидно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вязи участвуют гидроксильные группы в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'- и 5'-положениях остатков углевод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астоящее время проводятся исследования первичных структур различных молекул ДНК. Около 15 лет назад была полностью расшифрована нуклеотидная последовательность митохондриальной ДНК человека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16569 пар нуклеоти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Известны полные нуклеотидные последовательности ДНК ряда вирусов и плазм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сем недавно завершено определение нуклеотидных последовательностей геномов двух прокариотических организмов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Haemophilus influenzae и Mycoplasma genitalum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и появились сообщения о расшифровке генома первого эукариотического организма – дрожжей. Близки к завершению аналогичные исследования гено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E.col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генома нематоды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Caenorhabditis elegan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Исследователи активно работают над полной расшифровкой генома чело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и варианта схемы нуклеотидной последовательности ДНК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пол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уклеоти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Нуклеотид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40000" y="357300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Строение нуклеот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92000" y="4365720"/>
            <a:ext cx="718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365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65720"/>
            <a:ext cx="64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1812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Азо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основания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Аденин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Гуан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Цита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Ти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Углевод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Дезоксириб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300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Остаток фосфорной кислоты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(Ф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Конформации компонентов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5 гетероциклических оснований, входящих в состав НК, имеют плоскую конформацию. Для остатков рибозы и дезоксирибозы плоская конформация энергетически невыгодна. Среди многочисленных теоритически возможных конформаций этих остатков в полинуклеотидах выделяются только 2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7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ин- и анти- конформации нуклеоз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бодных нуклеозидах и нуклеотидах переход о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2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ндо- к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3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ндо- между син – и анти-конформациями происходит достаточно легк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763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3 г.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Дж.Уотсон и Ф.Кри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едложили модель структуры ДНК. При постоении стуктуры ученые основывались н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4 групп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анны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ДНК представляет собой полимер, состоящий из нуклеотидов, соединенных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фосфодиэфирными связ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Состав нуклеотидов ДНК подчиняется правилам Чаргафф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; число остатков А=Т,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Рентгенограммы волокон ДНК указывают на то, что молекула обладает спиральной структурой и содержи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более одной полинуклеотидной цеп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табильность структуры за сче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равильная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равовинтовая спираль, состоящая из 2 полинуклеатидных цепе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которые закручены друг относительно друга вокруг общей ос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цепи имею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антипараллельную ориент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иримидиновые и пуриновые основания уложены стопкой с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интервалом 0,34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длина витка спирали –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3,40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стабильность цепи за сче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наличие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комплиментарных па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основания,которые образуют пары, в которых они сочетаются водородными связ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48320" y="1484280"/>
            <a:ext cx="4038480" cy="4969080"/>
            <a:chOff x="4648320" y="1484280"/>
            <a:chExt cx="4038480" cy="49690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53239" t="25781" r="21075" b="18526"/>
            <a:stretch/>
          </p:blipFill>
          <p:spPr>
            <a:xfrm>
              <a:off x="4648320" y="1484280"/>
              <a:ext cx="40384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4648320" y="1484280"/>
              <a:ext cx="403848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олиморфизм двойной спирал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ые спирали образуют 2 семейства: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А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ндо-) и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В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эндо-). Структуры в пределах каждого из семейств в зависимости от условий (концентрации соли, температуры) могут иметь разное число пар, приходящихся на виток спир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Розалинда Франкли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лучила эксперементальные свидетельства существования весь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упорядоченной структу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ориентированных вытягиванием и подсушенных волокнах ДНК. Эта структура получила название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А-форма ДН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Этой форме долгое время не придавали особого значения, т.к. она возникла при малой влажности, т.е. не при физиологически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3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`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- эндоко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ахара приводит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фосфатными группа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, следовательно,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нуклеотидными парами вдоль оси спира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то ведет к увеличению количества нуклеотидов на виток спирали (11 нуклеотидных остатк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77000" y="1268280"/>
            <a:ext cx="265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ары основ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 А-форме образуют с осью спирали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гол около 20 градус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очень сильно отодвинуты от оси спирали к переферии молекулы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двиг достигает 0,4 – 0,5 н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т.е. почти половину радиу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вует в транскрипции и передаче информации от ДНК к РН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38436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33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этого семейства характерн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структурное разнообраз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ДНК со случайными последовательностями могут находиться в В-,С-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 других конформационных состояниях. На структуру ДНК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лияют тип и концентрация катионов, а также температу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На виток приходится 10 пар нуклеотид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аствует в репликативных процесс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-форма в хранении информ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 – форма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Левоспиральная конформация ДН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Она была открыта в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1979 г. при исследовании структуры гексануклеотида  d(CG)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Если полинуклеотид poly(dG-dC) поместить в водный раствор с высокой концентрацией MgCl2, NaCl или спирта, то образуется левая двойная спираль Z-ДНК .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овторяющейся единицей спирали являетс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ара нуклеотидов, а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двойка соседних пар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В каждой из комплементарных нитей Z-ДНК происходи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чередование син- и анти-конформаций нуклеотидных звенье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а в каждой паре оснований одно всегда находится в син-конформации относительно гликозидной связи, другое - в анти-конформац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52764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Взаимодействия между гетероциклическими основаниями в нуклеиновых кислота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 типа взаимодейств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гетероциклическими основаниями нуклеотидных остатков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заимодействия м/у основаниями в комплиментарных парах и вертикальными межплоскостными взаимодействиями оснований,расположенными друг над дру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стэкинг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аимодействия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ме уотсон-криковских пар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T, G-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гетероциклические основания способны образовывать множество связанными водородными связями пар другой структу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ние пар между двумя пуринами, двумя пиримидинами или некомплиментарными основаниями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C, G-T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стерически затруднено, что нарушает геометрию спира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тэкинг – взаимодейств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условлены ван-дер-ваальсовыми сил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ят от состава комплиментарных пар и от их последова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69 г.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Фридрих Мише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швейцарский врач биохимик, выделил нуклеиновые кислоты из ядер клеток гноя. Эти клетки содержали фосфоорганическое вещество, которое Мишер назвал «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уклеин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ая его состав было получено, что данное соединение носит кислотный характер и содержит белковые компоненты. Остальная часть элементарного состава представлена такими элементами, как: С,Н,О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Альтман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наружил ортофосфорную кислоту в составе аминокислот. Именно ее он поначалу называл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нуклеиновой кисло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Пиккар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онце 19 века открыл азотистое основание –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гуанин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озже были обнаружены тимин, аденин и ураци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1912 г. Лев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обнаружил, что в состав нуклеиновых кислот входит углевод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пенто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В начале 20 века был полностью изучен состав всех нуклеиновых кислот, однако вопрос об их строении оставался открытым до 50-х г.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Ф. Мише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делал правильное предположение о том, что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уклеи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полняют ядро и принимают участие в оплодотворении и передаче наследственной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ако, эта правильная точка зрения просуществовала не долго. При гистохимическом анализе кислот было обнаружено, что гигантские хромосомы не дают похожего аналитического эффекта с нуклеиновыми кисло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л сделан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выво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 том, что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е все хромосомы содержат нуклеи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 он не может быть наследственным материалом. Долгое время таким материалом считали белки. А существовавшие в то время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уклеиновые кислоты подразделя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на растительные и животные (тимоаминокисл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В 1936 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советский ученый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Белозерский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доказал что в проростках конского каштана содержится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тимонуклеиновая кислот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которая относится только  к животным кислот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Девидсон и Брам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казали, что растительные нуклеиновые кислоты существуют и животных клет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 1936 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тали различать дезоксирибонуклеи- новую и рибонуклеиновую кисло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3 г. американские биохимик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Дж.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Уотсон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Ф.Кри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en-US" sz="2000" spc="-1" strike="noStrike">
                <a:solidFill>
                  <a:srgbClr val="ff3399"/>
                </a:solidFill>
                <a:latin typeface="Verdana"/>
              </a:rPr>
              <a:t>первичной структурой нуклеиновых кислот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нимают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порядок, последовательность расположения мононуклеотидов в полинуклеотидной цепи ДНК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скольку молекулярная масса нуклеиновых кислот колеблется в широких пределах (от 2•10(4) до 10(10)–10(11), установить первичную структуру ДНК весьма слож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 не менее в одноцепочечной нуклеиновой кислоте имеется один и тот же тип связи –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3',5'-фосфодиэфирная связь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между соседними нуклеотидами. Эту общую основу структуры можно представи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38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Devilry</cp:lastModifiedBy>
  <dcterms:modified xsi:type="dcterms:W3CDTF">2009-10-11T15:42:44Z</dcterms:modified>
  <cp:revision>2</cp:revision>
  <dc:subject/>
  <dc:title>ДНК</dc:title>
</cp:coreProperties>
</file>