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E9A-8343-472F-89B3-E500E3B6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42D-5299-4A31-BF49-1247E295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D0B-077E-411B-BA14-C4A43203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E25-FA0B-4384-AF70-05D6B433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ABC7-BD44-4A97-8518-5A0E5851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207D-EFC0-4453-9C33-DF7CD81B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6BE6-62EE-4DA2-A1CA-74BA0856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7B88-356B-4360-BB8C-0040ABA4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9F35-F1AA-4A7F-9ECD-5CF7DD5D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7766-B320-40F3-B622-C53D6689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18C9-CB36-4C94-9528-B99248D5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1E4-186E-4F34-8BB5-60CF5DC8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FD64-17E4-4316-A15D-A4DDEF7E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7F76-055D-4B4B-92C9-49606C8C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6B90-F528-4026-A241-212378AA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D187-0A74-4DC6-BE3D-837EEA7D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8045-781E-4BCD-9FC3-8BE256AD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4B0C-31C1-4A35-BA8B-19267C62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8E004-B543-496D-92B0-CA5C053F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F755-AAC0-4350-A2BD-5FCEAA05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6D78-2ACE-44E8-9A8F-E4465367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F54C-D19D-401E-A4D1-8402F8DC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D35-09A9-4C0B-B24E-F98CDE62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C06D-2780-4C3B-89F5-B0B1DE10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1D5B-0A09-49A5-9923-43AB97C0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57B7-9FDE-4F27-8AC2-CC9BE299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1D0F-A97D-47F3-AD15-D70C9E9E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F406-8B13-4862-B3B5-759D4075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C784-4CBD-4600-AA04-129FBEF1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311C-9E8A-4116-9DBB-E25251FE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6C9C9-9DF7-46D4-BACF-016F764B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EC7E9-0067-49AE-8AB0-514AF904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B3413-D425-49F2-A509-EFB40730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997-C74C-4BC9-B7B3-B39A2282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77F57-06F2-4E89-9F0E-801A5F95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A65ED-BE7C-4E55-B5BF-2A5EA16F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D47B0-55CC-4EBE-A3AA-25DFD43B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5D2A6-5FEC-47FD-9CE1-6994E44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1A7B6-405A-40A5-8626-9BA1F657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70CF9-C373-42E5-A76F-E643322C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E270-BAB0-4E73-8444-77DA906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308E0-6CCC-403F-994B-7F56E49A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31D18-5AED-4F22-87B6-9BE2FDA6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9A0A6-BEE7-4003-9BA6-DF944E07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A55-410D-4D69-BAF2-B1BB540D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6DA7-B052-42A9-89E6-68D0E73D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6791E-B6B4-479F-858C-ED945A40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4C960-0E76-4C50-8CC4-AFC8ECB4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E1CE3-EF4A-42B5-BC11-077F091D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FE52B-00CE-420A-A536-FD7C77E9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BDC6C-6B5D-4942-B70D-E6B3D990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5CAFB-E06A-4A22-B66F-2F167CD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20A61-A5DD-4731-B5FF-A9E38BE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D9E12-062C-4EA5-9A1C-37AD4AFD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16668-4849-40D8-BD27-22EB4F20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FEF-729D-4A2E-B834-2267639F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48E10-FF40-4C2C-BF83-DC43E38F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7F5-016F-4181-9D56-8230550D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E31-598D-439C-9B1A-F167B7F9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088-E5EA-4359-8582-5872BF90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ABCE-EB60-4693-98BB-506481798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F86C-9B39-4585-AFBC-910BB37256D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BB3E-C61A-429A-9BC6-FDDEB81A3E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B649-F456-4DFC-B90F-A0AB1F898FC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2EDF-6E49-4B13-B638-7195AEC32B4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litva.ru/" TargetMode="External"/><Relationship Id="rId3" Type="http://schemas.openxmlformats.org/officeDocument/2006/relationships/hyperlink" Target="http://www.liveinternet.ru/" TargetMode="External"/><Relationship Id="rId4" Type="http://schemas.openxmlformats.org/officeDocument/2006/relationships/hyperlink" Target="http://www.zoovet.ru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Отряды пти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200400" y="3505320"/>
            <a:ext cx="4572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Л. И. Наб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 СОШ №80 им. В. П.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п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общую характеристику отрядов птиц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-отряд Дневные хищные пт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-отряд Сов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-отряд Ку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-отряд Воробьин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-отрядАист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упление с характеристикой признаков указанного отряда, заполнить таблицу в рабочей тетр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7940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447920"/>
          <a:ext cx="8229600" cy="512100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5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533520"/>
          <a:ext cx="8077320" cy="60213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умеренной длины, у большинства с острыми когтями. Клюв крючковидный, изогнут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треб, сокол, гри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ороткие или умеренно длинные, наружный палец может быть обращен и впереди и назад. Надклювье загнутое, с острыми кра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а, пустыни, тундра, го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н, ушастая сова, домовой сыч, сипух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средней длины, ильные; крылья короткие, широкие; летают тяжело. Клюв короткий, сильный; надклювье слегка загнуто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и, леса, пустын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к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ев, фазан, индейка, куропатк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гах первый палец обращен назад. строение крыльев и клюва разнообраз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, дрозд, ласточка, синица, жаворон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е ноги, гибкая длинная шея, маленькая голова, Клюв удлиненный, заостренный. Перьевой покров рыхлый, крылья относительно большие, широкие. Хвост коротки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пля рыжая, выпь малая, аист бел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2" name="Rectangle 134"/>
          <p:cNvSpPr/>
          <p:nvPr/>
        </p:nvSpPr>
        <p:spPr>
          <a:xfrm>
            <a:off x="30492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вучить видеозапись представителей отрядов в виде монолога животного, указав признаки, распространение, образ жизни, голос данного представ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ел степ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а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х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ек пол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 большая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россворд «Птицы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изонтали: 1. Мелкий представитель воробьинообразных. 2. Нелетающая, но хорошо плавающая и ныряющая птица. 3. Вид дро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Крупная нелетающая птица. 6. Птица из отряда воробьинообразных, в песне которой слыш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Ты Витю видел?». 8. Представитель воробьинообразных, мельче воробья. 9. Крупный дневной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0. Представитель воробьинообразных, прекрасный певец. 16. Вид крупных говорящих попуг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 Птица из семейства вьюр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вертикали: 4. Птица — дневной хищник. 6. Мелкая утка. 7. Яркоокрашенный представитель курообразных. 8. Птица из отряда воробьинообразных. 11. Представитель вр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2. Синица, вьющая гнездо из пуха в виде «варежки». 13. Мелкая сова.  15. Крупная морская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какие из этих птиц действительно могут поселиться в сквореч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кроссвор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изонтали: 1. Воробей. 2 . Пингвин. 3. Рябинник. 5. Страус. 6. Чечевица. 8. Пищуха. 9. орел. 10. соловей. 14. Скворец. 16. Ара. 17. Чи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вертикали: 4. Ястреб. 6. чирок. 7. Фазан. 8. пеночка. 11. ворон. 12. Ремез. 13. Сыч. 15. Буревес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 воробей, пищуха, скворец, пен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икторина «Живые синонимы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 в русской речи мы используем слова-синонимы, которые могут отразить и характер человека, внешний вид, особенности передвижения, особенности разговора. Например, мы говорим «топаешь как медведь», «это и ежу понятно», «голодный как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какими птицами сравнивают человека, когда говор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Щебечет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Ворковать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Шипеть,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Накаркать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Долбить (говорить одно и то же)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Надутый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Плыть (идти плавно)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тветы на вопросы викторин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Г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В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Дят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Инд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 интересно было сегодня работат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узнали нового и интерес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WordArt 4"/>
          <p:cNvSpPr txBox="1"/>
          <p:nvPr/>
        </p:nvSpPr>
        <p:spPr>
          <a:xfrm>
            <a:off x="1295280" y="22860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ведём  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многообразие птиц различных отря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особенности строения птиц, связанные с образом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овать роль птиц в природе и хозяйственной деятельности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ть находить известных птиц на рисунках, фотографиях, таблицах, находить необходимую информацию в тексте, электронном пособ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Латюшин В. В., Шапкин В. А. Биология. Животные: Учебник для 7 кл. общеобразоват. учеб, заведений. - М.: Дрофа, 2008 - 304 с.: и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. Латюшин В.В. Биология. Животные 7 класс Тематическое и поурочное планирование к учебнику В.В. Латюшина и В.А.Шапкина «Биология. Животные»: Пособие для учителя 2-е изд.,стереотип-М.: Дрофа, 2003-193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И.Ф. Ишкина Биология. 7 класс. Поурочные планы по учебнику В.В. Латюшина и В.А.Шапкина. Издательство «Учитель АСТ», Волгоград 2002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Анашкина Е.Н. Кроссворды для школьников. Биология.- Ярославль.6 «Академия развития», 1997.-128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Алексеев В.А. 300 вопросов и ответов о животных. –Ярославль: Академия развития, 1997.-240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Мультимедийный справочник-определитель. Животный мир России. Птицы. Европкйская Россия, Урал, Западная Сибирь//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O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Авторы: В.К. Рябицев, О.Д. Вепринцева, Н.Ю. Киселева, А.А. Мосалов, Н.П. Овсянникова,  С.А. Букреев, О.В. Безюмки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Фото Императорский пингвин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alitva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Фото Африканский страус //subaryata.org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Фото Американский нанду// alexsh16.livejournal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Фото Казуар// vbkfzrjitxrf.beon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Фото Серый гусь// en.academic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Фото Казарка краснозобая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veintern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Фото Лебедь шипун //zoopar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Фото Орел степной// pesi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Фото Сова белая// fotki.yandex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Фото Глухарь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zoov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ото Конек полевой //lifecity.com.u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Фото Цапля большая белая// www.omskhunter.com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Задани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те рисунки птиц разных отрядов. Выполните следующие зад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название птицам, изображённым на фо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отряды, к которым относятся данные пт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признаки отряда. (по выбор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из них занесены в красную книгу Новосибирской обла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8" descr="http://im4-tub.yandex.net/i?id=108655168&amp;tov=4"/>
          <p:cNvPicPr/>
          <p:nvPr/>
        </p:nvPicPr>
        <p:blipFill>
          <a:blip r:embed="rId1"/>
          <a:stretch/>
        </p:blipFill>
        <p:spPr>
          <a:xfrm>
            <a:off x="6477120" y="1828800"/>
            <a:ext cx="2074680" cy="196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http://im0-tub.yandex.net/i?id=6145330&amp;tov=0"/>
          <p:cNvPicPr/>
          <p:nvPr/>
        </p:nvPicPr>
        <p:blipFill>
          <a:blip r:embed="rId2"/>
          <a:stretch/>
        </p:blipFill>
        <p:spPr>
          <a:xfrm>
            <a:off x="6770520" y="4495680"/>
            <a:ext cx="1748160" cy="213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1" descr="http://im8-tub.yandex.net/i?id=11458522&amp;tov=8"/>
          <p:cNvPicPr/>
          <p:nvPr/>
        </p:nvPicPr>
        <p:blipFill>
          <a:blip r:embed="rId3"/>
          <a:stretch/>
        </p:blipFill>
        <p:spPr>
          <a:xfrm>
            <a:off x="2514600" y="44956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i?id=99095301&amp;tov=4"/>
          <p:cNvPicPr/>
          <p:nvPr/>
        </p:nvPicPr>
        <p:blipFill>
          <a:blip r:embed="rId4"/>
          <a:stretch/>
        </p:blipFill>
        <p:spPr>
          <a:xfrm>
            <a:off x="320040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8"/>
          <p:cNvSpPr/>
          <p:nvPr/>
        </p:nvSpPr>
        <p:spPr>
          <a:xfrm>
            <a:off x="12193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40384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73915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990720" y="418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3"/>
          <p:cNvSpPr/>
          <p:nvPr/>
        </p:nvSpPr>
        <p:spPr>
          <a:xfrm>
            <a:off x="31240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5"/>
          <p:cNvSpPr/>
          <p:nvPr/>
        </p:nvSpPr>
        <p:spPr>
          <a:xfrm>
            <a:off x="5334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73915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1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6" descr=""/>
          <p:cNvPicPr/>
          <p:nvPr/>
        </p:nvPicPr>
        <p:blipFill>
          <a:blip r:embed="rId6"/>
          <a:stretch/>
        </p:blipFill>
        <p:spPr>
          <a:xfrm>
            <a:off x="457200" y="4495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8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азуар. Отряд Казуа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Лебедь шипун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Африканский страус. Отряд Страус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Казарка краснозобая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ерый гусь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Императорский пингвин. Отряд Пинг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Американский нанду. Отряд Нанду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те рисунок. Выполните следующие зад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название птице, изображённой на ф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ть отряд, к которому относится данный ви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?id=11231&amp;tov=6"/>
          <p:cNvPicPr/>
          <p:nvPr/>
        </p:nvPicPr>
        <p:blipFill>
          <a:blip r:embed="rId1"/>
          <a:stretch/>
        </p:blipFill>
        <p:spPr>
          <a:xfrm>
            <a:off x="914400" y="129528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i?id=86208267&amp;tov=3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i?id=35598883&amp;tov=4"/>
          <p:cNvPicPr/>
          <p:nvPr/>
        </p:nvPicPr>
        <p:blipFill>
          <a:blip r:embed="rId3"/>
          <a:stretch/>
        </p:blipFill>
        <p:spPr>
          <a:xfrm>
            <a:off x="609480" y="42670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i?id=23074610&amp;tov=2"/>
          <p:cNvPicPr/>
          <p:nvPr/>
        </p:nvPicPr>
        <p:blipFill>
          <a:blip r:embed="rId4"/>
          <a:stretch/>
        </p:blipFill>
        <p:spPr>
          <a:xfrm>
            <a:off x="3429000" y="42670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?id=3198956&amp;tov=3"/>
          <p:cNvPicPr/>
          <p:nvPr/>
        </p:nvPicPr>
        <p:blipFill>
          <a:blip r:embed="rId5"/>
          <a:stretch/>
        </p:blipFill>
        <p:spPr>
          <a:xfrm>
            <a:off x="60958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11430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8098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8580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5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828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791320" y="914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86728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группа- Орел степной. Отряд Дневные хищные птицы (Соколообраз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группа- Сова белая. Отряд С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группа- Глухарь. Отряд Кури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группа- Конек полевой. Отряд Воробьин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группа- Цапля большая белая. Отряд Аист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4-10T15:0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