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CA8B-9A90-4743-B391-99BB702AF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EB73-359F-4F68-851E-CD74BDF24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C9B2-4B98-4480-8B14-B8F2F85E4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74A9-4F00-443E-9B43-7D1D6BF0F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90740-BAB8-4FD4-AF91-9CC54DD8A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482F8-3B42-44C6-8EB8-A9405F582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29C36-29D4-4FDF-B428-A6E60B8CF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B7824-F599-477F-803E-6F56DAC93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C3F0E-E956-46E2-85FB-DB962F0BA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D2D2B-2782-4003-AF77-DF952E0AF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EADB3-EEA8-469E-8A19-352B997D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C1A2-12D1-4B16-8F0B-E39477AF8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110EC-7ACA-45E1-BCE2-167132F8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9AA58-7A18-4238-8CBB-5737DBD2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925E3-1475-422A-8975-BCCA7B784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B3AB0-09E1-422D-83BC-39BFD4D9A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E11B4-C234-4DA7-824C-89CF8F050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182CF-7AAD-4E8A-9BDB-48CA8AE46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A9A79-88E3-458C-9F1F-9E473B6B4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C9492-1359-4690-99CD-A362BE90A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B3026-9023-425B-8FB3-1A2C9FD0B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C4392-014C-41ED-ACB0-47FB5F9B7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50F0-62F6-47CF-8CA3-27DA397F2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FD036-BC90-4B71-AC71-114606F06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2DE5D-7921-4C76-9320-4AF806CB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032F2-0C5E-4261-B841-E1587181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E7ECF-30E7-4037-9A98-555AAFEB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42F66-60B3-4129-B2CA-6C6EE8932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946F2-E150-4471-83EF-9F2B747AF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770AA-EAD2-4716-A41F-A99024A58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70638-D4E9-4D49-9AFF-A4FE59CFF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9DB67-1045-4E97-AB9F-607AE66F7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EC22E-C3A7-4069-87B0-CDB9B48E0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1869-A02F-4FF4-B9B6-3B3FD83A5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B3DAB-9E99-40C9-A69D-D4E1DCC4F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DF0D1-E08E-4A10-A37C-D674888D5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C350C-ECF4-442A-9B84-8028979D9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ECC2D-5748-49CD-B9BA-58D91FAA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B3D64-3DA6-44F2-999D-73A8EB4A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31969-6A79-4940-9274-1F64ECE2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7ACD9-7C54-40C1-96AF-55B110C71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F8897-BFAC-42DA-B465-CF9529765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590AB-43B0-44C7-8198-90C7DC9FF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B2A41-FF18-48F2-9BE0-2A6D9F0E8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B370-A3AF-4C7D-B764-C0B2D6C41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8A050-E4AE-49A1-8476-432C84161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3EDE1-DE4A-41A5-8616-08F83A2F9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7BEEB-34E4-44CF-A0AE-E9FE88678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AB47F-574D-4F16-A920-C8E25B225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9377B-6B4A-4B4F-9DE1-7D34C0573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ACE121-23B0-4DB3-8E7D-D25AF627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EA16F-575E-4D90-9E62-B5F657C6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C2E75-6E77-45CE-ACD5-21A313DD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DE099-BD80-4FEB-8DF0-424BCDA9C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FB27A-CA0B-4A08-86F9-8EFF8B4BF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D60C-D1FC-458A-B3D6-C6625C484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B0FE5-454F-4229-A7DC-4371BBB7A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58ED4-1615-4390-ACFD-45852BA9D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142AE-3B74-4509-A921-A6E98830F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863A1-6E70-4B54-9EC8-DC4B5ABA4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C7EBD0-B905-449E-8FA5-13CE8251D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A3889-6A27-42B2-B1AA-BE0FE54EA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3EC596-552B-40B1-9799-8D40D2BB2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79C4D0-1794-4ED1-952B-E7571B02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6E636-752B-4306-B7CD-F330FBFD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6D4BD-B563-43B5-A9B4-46F85E89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1112-0AAF-4F8E-B77B-736D7C1A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1D9DF4-7D38-4298-AD5F-1D542ECF6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BAED1-8765-482D-B9BD-D44517223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D4DAEF-177C-4507-AAF5-220D493E7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7DD532-55F8-47A6-BFFA-DC0E7AC75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D63430-77EC-403F-935F-1AF5A6935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EF4A3-C780-43F4-BC53-38660CB55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BDAEA-B00E-497F-94F4-9372C80E2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0004DA-D17F-4DA1-8850-4FF3EEF32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58D782-3F87-4C55-A5CE-602ECAB7E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6E6428-09B7-4458-BDC0-C5147EB8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27B3-42E9-42D9-B57F-54E3DBA0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E7548-1771-4FEB-A310-2639F315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A5D615-B9B2-45CA-8BF5-EFFC24C1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0F689A-7649-439F-BD37-C49943408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2E192D-0795-4DA2-9360-AE87D82C6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C35F7-F935-4B05-8563-9FDA67C33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6F6581-D3A5-4545-9691-BBC2E5A7A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CA2366-FF41-4EC8-B196-0F1B2C198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68F498-0123-46E3-98BB-3B491431F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606637-FDED-4D13-8B97-617176745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5F57DF-60F0-42D5-A703-123F8B68B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CD16-6127-42B7-A6E1-87818085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AABC68-0433-472D-8EFB-907D9FA33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C0E113-9873-48D8-B313-DBF81A58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CD76F4-8893-4411-942C-DFBC5981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55C9C7-C39B-4154-ABB2-47E28D66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FA7431-AA02-406E-BED8-5E48410B6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3EA98E-03A0-4C94-BDCA-E7279531A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3E774F-9695-440C-8770-EEA2DC170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26E25-0AB7-4301-9E9C-C30F7F6109F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Равнобедренный треугольник 6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808080"/>
              </a:gs>
              <a:gs pos="100000">
                <a:srgbClr val="e8e8e8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E69F4-4983-42B9-AD1E-3B89A29F311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9AE76-B21D-46D3-A2A5-3542B23B041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8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Равнобедренный треугольник 7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808080"/>
              </a:gs>
              <a:gs pos="100000">
                <a:srgbClr val="e8e8e8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Прямая соединительная линия 10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Прямая соединительная линия 9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2E5DD-5CF3-4FD2-AD24-4825478744C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544BC-2CE2-48E1-89DF-23A68298B9B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FF275-689D-4495-A335-851B6D97D51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47996-43E5-4963-821A-718E12B34E65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2D63D-2E93-40F3-91E9-00ECEC14E80D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Заголовок 1" descr=""/>
          <p:cNvPicPr/>
          <p:nvPr/>
        </p:nvPicPr>
        <p:blipFill>
          <a:blip r:embed="rId1"/>
          <a:stretch/>
        </p:blipFill>
        <p:spPr>
          <a:xfrm>
            <a:off x="566640" y="1195560"/>
            <a:ext cx="8454960" cy="1596960"/>
          </a:xfrm>
          <a:prstGeom prst="rect">
            <a:avLst/>
          </a:prstGeom>
          <a:ln w="0">
            <a:noFill/>
          </a:ln>
        </p:spPr>
      </p:pic>
      <p:pic>
        <p:nvPicPr>
          <p:cNvPr id="346" name="Подзаголовок 2" descr=""/>
          <p:cNvPicPr/>
          <p:nvPr/>
        </p:nvPicPr>
        <p:blipFill>
          <a:blip r:embed="rId2"/>
          <a:stretch/>
        </p:blipFill>
        <p:spPr>
          <a:xfrm>
            <a:off x="1920960" y="3413160"/>
            <a:ext cx="6978600" cy="1530360"/>
          </a:xfrm>
          <a:prstGeom prst="rect">
            <a:avLst/>
          </a:prstGeom>
          <a:ln w="0">
            <a:noFill/>
          </a:ln>
        </p:spPr>
      </p:pic>
      <p:sp>
        <p:nvSpPr>
          <p:cNvPr id="347" name="TextBox 4"/>
          <p:cNvSpPr/>
          <p:nvPr/>
        </p:nvSpPr>
        <p:spPr>
          <a:xfrm>
            <a:off x="2758320" y="5500800"/>
            <a:ext cx="348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ГБОУ СПО ТОМУ № 1 Узловая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2012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Заголовок 1" descr=""/>
          <p:cNvPicPr/>
          <p:nvPr/>
        </p:nvPicPr>
        <p:blipFill>
          <a:blip r:embed="rId1"/>
          <a:stretch/>
        </p:blipFill>
        <p:spPr>
          <a:xfrm>
            <a:off x="208080" y="281160"/>
            <a:ext cx="8240760" cy="14079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-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это нарушение развития половых желез вызванное аномалией половых хромосом. Развитие половых желез нарушается уже в раннем периоде развития зародыша. Этот синдром встречается с частотой одна на три тысячи родившихся девочек. Во время деления половых клеток родителей нарушается расхождение половых хромосом в результате чего вместо нормального количества Х-хромосом (а в норме у женщины их две), зародыш получает только одну Х-хромосому. Набор хромосом получается неполным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0" name="Рисунок 3" descr="default.jpeg"/>
          <p:cNvPicPr/>
          <p:nvPr/>
        </p:nvPicPr>
        <p:blipFill>
          <a:blip r:embed="rId2"/>
          <a:stretch/>
        </p:blipFill>
        <p:spPr>
          <a:xfrm>
            <a:off x="5357880" y="3857760"/>
            <a:ext cx="29541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285480" y="213840"/>
            <a:ext cx="8358120" cy="62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У ребенка с синдромом </a:t>
            </a:r>
            <a:r>
              <a:rPr b="0" lang="en-US" sz="1600" spc="-1" strike="noStrike">
                <a:solidFill>
                  <a:srgbClr val="ffff00"/>
                </a:solidFill>
                <a:latin typeface="Century Gothic"/>
              </a:rPr>
              <a:t>Шерешевского-Тернера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возникает первичное недоразвитие половых органов. Вместо яичников образуются тяжи из соединительной ткани, матка недоразвита. Этот синдром может сочетаться с недоразвитием других органов. Уже при рождении девочки обнаруживают утолщение кожных складок на затылке, типичный отек кистей рук и стоп. Часто ребенок рождается маленьким, с низкой массой тела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entury Gothic"/>
              </a:rPr>
              <a:t>                               </a:t>
            </a:r>
            <a:r>
              <a:rPr b="0" lang="en-US" sz="1800" spc="-1" strike="noStrike">
                <a:solidFill>
                  <a:srgbClr val="ffff00"/>
                </a:solidFill>
                <a:latin typeface="Century Gothic"/>
              </a:rPr>
              <a:t>Внешний вид ребенка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рост маленький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                           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искривление рук в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области локтевых суставов 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оттопыренные уши                     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маленькая нижняя                               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челюсть                               короткая шей с крыло –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видными складками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cxnSp>
        <p:nvCxnSpPr>
          <p:cNvPr id="352" name="Прямая со стрелкой 6"/>
          <p:cNvCxnSpPr/>
          <p:nvPr/>
        </p:nvCxnSpPr>
        <p:spPr>
          <a:xfrm flipH="1">
            <a:off x="1499400" y="2427840"/>
            <a:ext cx="715320" cy="4294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353" name="Прямая со стрелкой 31"/>
          <p:cNvCxnSpPr/>
          <p:nvPr/>
        </p:nvCxnSpPr>
        <p:spPr>
          <a:xfrm>
            <a:off x="5072040" y="2499840"/>
            <a:ext cx="572400" cy="50076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354" name="Прямая со стрелкой 33"/>
          <p:cNvCxnSpPr/>
          <p:nvPr/>
        </p:nvCxnSpPr>
        <p:spPr>
          <a:xfrm flipH="1">
            <a:off x="1713960" y="2643120"/>
            <a:ext cx="929160" cy="12866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355" name="Прямая со стрелкой 37"/>
          <p:cNvCxnSpPr/>
          <p:nvPr/>
        </p:nvCxnSpPr>
        <p:spPr>
          <a:xfrm>
            <a:off x="4143240" y="2571840"/>
            <a:ext cx="572400" cy="17150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356" name="Прямая со стрелкой 39"/>
          <p:cNvCxnSpPr/>
          <p:nvPr/>
        </p:nvCxnSpPr>
        <p:spPr>
          <a:xfrm flipH="1">
            <a:off x="3498480" y="2642760"/>
            <a:ext cx="2160" cy="107352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pic>
        <p:nvPicPr>
          <p:cNvPr id="357" name="Рисунок 40" descr="tmp4795-57.jpg"/>
          <p:cNvPicPr/>
          <p:nvPr/>
        </p:nvPicPr>
        <p:blipFill>
          <a:blip r:embed="rId1"/>
          <a:stretch/>
        </p:blipFill>
        <p:spPr>
          <a:xfrm>
            <a:off x="6429240" y="4143240"/>
            <a:ext cx="2500560" cy="2428920"/>
          </a:xfrm>
          <a:prstGeom prst="rect">
            <a:avLst/>
          </a:prstGeom>
          <a:ln w="0">
            <a:noFill/>
          </a:ln>
        </p:spPr>
      </p:pic>
      <p:pic>
        <p:nvPicPr>
          <p:cNvPr id="358" name="Рисунок 41" descr="endokrinologiya-18_0001.gif"/>
          <p:cNvPicPr/>
          <p:nvPr/>
        </p:nvPicPr>
        <p:blipFill>
          <a:blip r:embed="rId2"/>
          <a:stretch/>
        </p:blipFill>
        <p:spPr>
          <a:xfrm>
            <a:off x="6858000" y="1857240"/>
            <a:ext cx="1612800" cy="1714680"/>
          </a:xfrm>
          <a:prstGeom prst="rect">
            <a:avLst/>
          </a:prstGeom>
          <a:ln w="0">
            <a:noFill/>
          </a:ln>
        </p:spPr>
      </p:pic>
      <p:pic>
        <p:nvPicPr>
          <p:cNvPr id="359" name="Рисунок 42" descr="terner2.jpg"/>
          <p:cNvPicPr/>
          <p:nvPr/>
        </p:nvPicPr>
        <p:blipFill>
          <a:blip r:embed="rId3"/>
          <a:stretch/>
        </p:blipFill>
        <p:spPr>
          <a:xfrm>
            <a:off x="571680" y="4857840"/>
            <a:ext cx="2071440" cy="1771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Заголовок 1" descr=""/>
          <p:cNvPicPr/>
          <p:nvPr/>
        </p:nvPicPr>
        <p:blipFill>
          <a:blip r:embed="rId1"/>
          <a:stretch/>
        </p:blipFill>
        <p:spPr>
          <a:xfrm>
            <a:off x="-219240" y="281160"/>
            <a:ext cx="9369720" cy="140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1" name=""/>
          <p:cNvGraphicFramePr/>
          <p:nvPr/>
        </p:nvGraphicFramePr>
        <p:xfrm>
          <a:off x="428760" y="1928880"/>
          <a:ext cx="8229600" cy="4137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                   </a:t>
                      </a: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Симптом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    </a:t>
                      </a: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Частота, % общего числ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                  </a:t>
                      </a: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больны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аленький рос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рожденная лимфедерм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рыловидные склад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изкий рост волос на ше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Уплощенная грудная клет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ороткая ше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альгусное искривл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зменение ногтей на стопах и кистя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ысокое нёб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Заголовок 3" descr=""/>
          <p:cNvPicPr/>
          <p:nvPr/>
        </p:nvPicPr>
        <p:blipFill>
          <a:blip r:embed="rId1"/>
          <a:stretch/>
        </p:blipFill>
        <p:spPr>
          <a:xfrm>
            <a:off x="566640" y="262080"/>
            <a:ext cx="7669440" cy="14079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0" y="142848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реконструктивная                                                                         психотерапевтичес-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хирургия (врождён-                                                                                ское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ные пороки               пластическая                гормональные пре-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внутренних          хирургия (удаление          параты (эстрогены,               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органов)             крыловидных складок          гормон роста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и т.д.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cxnSp>
        <p:nvCxnSpPr>
          <p:cNvPr id="364" name="Прямая со стрелкой 6"/>
          <p:cNvCxnSpPr/>
          <p:nvPr/>
        </p:nvCxnSpPr>
        <p:spPr>
          <a:xfrm flipH="1">
            <a:off x="1571400" y="1571760"/>
            <a:ext cx="714960" cy="64332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65" name="Прямая со стрелкой 12"/>
          <p:cNvCxnSpPr/>
          <p:nvPr/>
        </p:nvCxnSpPr>
        <p:spPr>
          <a:xfrm flipH="1">
            <a:off x="2928960" y="1500120"/>
            <a:ext cx="643320" cy="128664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66" name="Прямая со стрелкой 14"/>
          <p:cNvCxnSpPr/>
          <p:nvPr/>
        </p:nvCxnSpPr>
        <p:spPr>
          <a:xfrm>
            <a:off x="4713840" y="1428840"/>
            <a:ext cx="429480" cy="135792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67" name="Прямая со стрелкой 16"/>
          <p:cNvCxnSpPr/>
          <p:nvPr/>
        </p:nvCxnSpPr>
        <p:spPr>
          <a:xfrm>
            <a:off x="6356880" y="1357200"/>
            <a:ext cx="786600" cy="85824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pic>
        <p:nvPicPr>
          <p:cNvPr id="368" name="Рисунок 19" descr="p_2594122.jpg"/>
          <p:cNvPicPr/>
          <p:nvPr/>
        </p:nvPicPr>
        <p:blipFill>
          <a:blip r:embed="rId2"/>
          <a:stretch/>
        </p:blipFill>
        <p:spPr>
          <a:xfrm>
            <a:off x="4857840" y="4286160"/>
            <a:ext cx="3286080" cy="2214720"/>
          </a:xfrm>
          <a:prstGeom prst="rect">
            <a:avLst/>
          </a:prstGeom>
          <a:ln w="0">
            <a:noFill/>
          </a:ln>
        </p:spPr>
      </p:pic>
      <p:pic>
        <p:nvPicPr>
          <p:cNvPr id="369" name="Рисунок 20" descr="b543284a543285.jpg"/>
          <p:cNvPicPr/>
          <p:nvPr/>
        </p:nvPicPr>
        <p:blipFill>
          <a:blip r:embed="rId3"/>
          <a:stretch/>
        </p:blipFill>
        <p:spPr>
          <a:xfrm>
            <a:off x="571680" y="4286160"/>
            <a:ext cx="303336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-648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 txBox="1"/>
          <p:nvPr/>
        </p:nvSpPr>
        <p:spPr>
          <a:xfrm>
            <a:off x="214200" y="428400"/>
            <a:ext cx="8715600" cy="60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Общий анализ                      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крови                                                                                             УЗИ матки и яичников                   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суточное выделение  с              определение полового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мочой эстрогенов и                  хроматина и кариотипа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гонадотропинов             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консультация у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гинеколога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cxnSp>
        <p:nvCxnSpPr>
          <p:cNvPr id="372" name="Прямая со стрелкой 6"/>
          <p:cNvCxnSpPr/>
          <p:nvPr/>
        </p:nvCxnSpPr>
        <p:spPr>
          <a:xfrm flipH="1">
            <a:off x="1571760" y="1356120"/>
            <a:ext cx="643320" cy="42948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73" name="Прямая со стрелкой 8"/>
          <p:cNvCxnSpPr/>
          <p:nvPr/>
        </p:nvCxnSpPr>
        <p:spPr>
          <a:xfrm flipH="1">
            <a:off x="2642400" y="1428480"/>
            <a:ext cx="429480" cy="114372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74" name="Прямая со стрелкой 10"/>
          <p:cNvCxnSpPr/>
          <p:nvPr/>
        </p:nvCxnSpPr>
        <p:spPr>
          <a:xfrm flipH="1">
            <a:off x="3928320" y="1285560"/>
            <a:ext cx="1080" cy="214380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75" name="Прямая со стрелкой 12"/>
          <p:cNvCxnSpPr/>
          <p:nvPr/>
        </p:nvCxnSpPr>
        <p:spPr>
          <a:xfrm>
            <a:off x="4929120" y="1285920"/>
            <a:ext cx="286560" cy="128664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76" name="Прямая со стрелкой 14"/>
          <p:cNvCxnSpPr/>
          <p:nvPr/>
        </p:nvCxnSpPr>
        <p:spPr>
          <a:xfrm>
            <a:off x="6215040" y="1285560"/>
            <a:ext cx="572400" cy="57204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pic>
        <p:nvPicPr>
          <p:cNvPr id="377" name="Рисунок 17" descr="uzi_matka.gif"/>
          <p:cNvPicPr/>
          <p:nvPr/>
        </p:nvPicPr>
        <p:blipFill>
          <a:blip r:embed="rId2"/>
          <a:stretch/>
        </p:blipFill>
        <p:spPr>
          <a:xfrm>
            <a:off x="714240" y="4071960"/>
            <a:ext cx="1886040" cy="1905120"/>
          </a:xfrm>
          <a:prstGeom prst="rect">
            <a:avLst/>
          </a:prstGeom>
          <a:ln w="0">
            <a:noFill/>
          </a:ln>
        </p:spPr>
      </p:pic>
      <p:pic>
        <p:nvPicPr>
          <p:cNvPr id="378" name="Рисунок 18" descr="1283871556.jpeg"/>
          <p:cNvPicPr/>
          <p:nvPr/>
        </p:nvPicPr>
        <p:blipFill>
          <a:blip r:embed="rId3"/>
          <a:stretch/>
        </p:blipFill>
        <p:spPr>
          <a:xfrm>
            <a:off x="5286240" y="4286160"/>
            <a:ext cx="2764080" cy="18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28400" y="1285920"/>
            <a:ext cx="78008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Для людей синдромом Шерешевского-Тернера результаты обследования будут следующими: в анализе крови - снижение количества эстрогенов и повышение гормонов гипофиза (гонадотропинов), особенно фоллитропина. Повышенное суточное выделение с мочой гонадотропинов и снижение эстрогенов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При ультразвуковом исследовании не находят яичников, матка имеет недоразвитый вид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При рентгеновском обследовании находят остеопороз (разрежение костной ткани) и различные аномалии развития костного скелета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Нередко у людей, страдающих данным синдромом, будут встречаться такие заболевания, как сахарный диабет, воспаления толстого кишечника и желудочно-кишечные кровотечения, зоб и тириоидиты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Окончательно подтверждает диагноз генетическое исследование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785520" y="2499840"/>
            <a:ext cx="7715160" cy="1668600"/>
          </a:xfrm>
          <a:prstGeom prst="rect">
            <a:avLst/>
          </a:prstGeom>
          <a:ln w="12600">
            <a:solidFill>
              <a:srgbClr val="eaeaea"/>
            </a:solidFill>
            <a:round/>
          </a:ln>
          <a:effectLst>
            <a:outerShdw dist="36147" dir="2700000" blurRad="0" rotWithShape="0">
              <a:srgbClr val="c0c0c0">
                <a:alpha val="8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0T10:40:16Z</dcterms:created>
  <dc:creator>Neo</dc:creator>
  <dc:description/>
  <dc:language>en-US</dc:language>
  <cp:lastModifiedBy>User</cp:lastModifiedBy>
  <dcterms:modified xsi:type="dcterms:W3CDTF">2012-05-29T08:59:05Z</dcterms:modified>
  <cp:revision>36</cp:revision>
  <dc:subject/>
  <dc:title>Синдром Шерешеского-Тернера.</dc:title>
</cp:coreProperties>
</file>