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8244-7786-44AE-B72C-A41ADB33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006D-7FD6-4433-945A-F0D24703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3779-7DD2-4272-8CD8-8D10D2197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57FA-C986-4933-9792-DB5EA192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7892-5C2C-46DC-A057-D377B3E5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BE71-CE07-4E47-B7E9-CA2A6C5E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BD6C-01B5-4280-82BB-267B163F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7488-0DE7-4459-B506-4585D648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81DA-37AE-4EB3-8430-54A8610B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E46C-C1A1-4446-8E2B-51057F8F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FB9F-94AA-4874-A172-CF76FD06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E5C6-6B4B-40BE-B96E-F546BFD5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4F09-9DE3-4635-95F3-B1FC4F96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1A3D-6B0B-4135-95D5-5E7AF653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AA66-8313-45BC-83C1-BD09ACFB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28BF-E82D-4DE5-B689-780CD9F6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9E2F-973C-45A6-B400-A13ED4EB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56D2D-1061-49FE-B35E-21F586191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2AE33-17D0-4450-B474-582A17B3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E5997-CC1B-4C7C-8DD0-5590EF3D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08391-1DCE-414D-B410-FCC8740A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BA5C3-273C-4346-B5F5-E7AE8AF2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CEA0-D8CB-4AA8-93A5-8D69A241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EE207-253F-4C08-95C4-B86A48D0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4B753-D3DC-4035-BE75-02A0675D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2F332-B91E-4626-A1AE-7A49117C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E0CB6-D8FC-41C3-8C16-482AB70A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93BE8-B9A2-48E0-B0C0-089B5BD2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8FFFF-4897-4068-B6E4-1FDE94117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A5E6F-8A8D-47F8-924D-520401FC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C7BB1-FD41-484E-8962-160A5358B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497B5-7ACF-47E8-8114-02929157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7F710-45A0-42B1-B093-20BDFBE7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BC6F-4C9D-4C0D-8C00-F68D87E4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ABDF2-DD0F-4039-9BF9-4B112ABF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6363C-32C3-4EEB-8C09-8770A8F3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2AEBF-EA1A-4E32-8247-5ED04A11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C3F35-A540-42B2-AC54-F268F461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9E05A-AA8B-487B-AD5F-A4634141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42464-083B-49F7-9B8A-8D7C1ADB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0C894-F795-4AB5-8EA5-5F5892F9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C1108-5E19-420C-B180-F7B5A015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EBC77-6CAF-461B-831E-3B1072E6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53371-5934-4F13-B7CC-4C59C93F8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D917-6C6E-4580-B121-2B9DFA26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3D2A2-1443-414E-B1C5-74AE29CE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47979-EAF3-42CB-A7D4-7CCE71A2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2E2A1-7011-46CE-81E6-9A282350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48FD8-F1AE-4586-8E7A-E2D15CF0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DC97E-3A9B-4BFC-9600-288973E8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9D3CD-44E8-4847-9694-531A7DB5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684B3-5CD0-4EC4-91F7-EABC3201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04BE8-8C71-4542-9B08-27003998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846E1-3DF1-4D6A-945D-6FDDB7F9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28F62-6C1F-4E8A-904C-FC4C69EC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48EA-CA94-4BE7-9B63-1BF70AB4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95475-F0F7-427B-AE72-DB252AE0F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7D0CB-2652-4D1C-860A-7ED6199DD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BA6FC-3D3C-4C95-9604-BBE5D5A9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273DD-BEB5-4CC2-83C6-CB5763E5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D79EF-CB22-41CF-A588-B3685403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76C24-12C6-4DEB-9C26-A9F4B5DF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657B6-8FA3-4DFA-B6A0-6FA4BBB0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FF272-C7C0-48FC-8756-27862699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F30C5-F5A8-4AC8-8C02-F6229DF4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3B936-C45B-4DC4-A066-BB50E4C2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08F7-2B71-41CB-8787-4A75C200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C4A08-3ADE-4A99-8B29-335D41CC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968AD-591C-4AA4-94B2-695B3A808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798D6-F480-483D-8868-77772E6D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FEB95-B546-4B13-9166-E9D132C5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774C1-E730-40CA-BC07-EFCFAEDB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42907-75D0-4F74-93FD-BC0EE9E9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D927E-D9EE-486B-B288-DE6A4187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8F9F5-1749-45A6-8816-3992CE32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E72E2-7410-4998-85F6-238F4F23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924CC-82AA-452A-A96B-45AC4F34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F2F2-7DB6-417B-AA97-43BBFF85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67704-3837-4B03-8996-8F9FA494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81E50-FD98-48B6-9BF8-F8330622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83133-925E-4405-94EF-1843B290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6BE97-E230-4DE0-B338-CA4334916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9BE66-7A2C-4742-8B7A-FEFD131B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F204B-9F6E-45C9-983E-B8C274AA9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57DD4-017E-4020-90E9-EB396ADA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06187-8179-41D3-A317-CF634DBC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DE9B7-DF65-4A13-A424-6B9441D2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1FB8B-6F8A-40C8-B1D5-4729AC62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8393-E9B4-4E09-855E-902DC0AD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56C37-4474-4261-8CF0-C79F9166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809A9-9198-46BC-B70E-B90FE891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5A7EA-382C-498C-9319-45338287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515BF-877A-4A47-83F7-E80F170B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CFEF0-EFB4-4CF1-8618-B8746091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C5691-C332-4FB9-826F-AEF5581E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514AD-C38B-4EB9-A003-DF0E6E00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FBAA-DD68-4BA6-9184-7F0C4D77EF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2BAC-08FF-4D9B-AEFA-5802EDF9A5D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D73C-7C48-46AF-B60F-C7BB7D0BFB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EEBC-F8CE-4C5A-BE68-5DBA0A430F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640F-1130-406B-B893-4BAD227D8F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2571-E5FA-4403-81E5-9F9E9F261E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6599-F189-4685-A653-1317010017EA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81DD-6ACA-4065-B36E-75B0C348929C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566640" y="1195560"/>
            <a:ext cx="8454960" cy="1596960"/>
          </a:xfrm>
          <a:prstGeom prst="rect">
            <a:avLst/>
          </a:prstGeom>
          <a:ln w="0">
            <a:noFill/>
          </a:ln>
        </p:spPr>
      </p:pic>
      <p:pic>
        <p:nvPicPr>
          <p:cNvPr id="346" name="Подзаголовок 2" descr=""/>
          <p:cNvPicPr/>
          <p:nvPr/>
        </p:nvPicPr>
        <p:blipFill>
          <a:blip r:embed="rId2"/>
          <a:stretch/>
        </p:blipFill>
        <p:spPr>
          <a:xfrm>
            <a:off x="1920960" y="3413160"/>
            <a:ext cx="6978600" cy="1530360"/>
          </a:xfrm>
          <a:prstGeom prst="rect">
            <a:avLst/>
          </a:prstGeom>
          <a:ln w="0">
            <a:noFill/>
          </a:ln>
        </p:spPr>
      </p:pic>
      <p:sp>
        <p:nvSpPr>
          <p:cNvPr id="347" name="TextBox 4"/>
          <p:cNvSpPr/>
          <p:nvPr/>
        </p:nvSpPr>
        <p:spPr>
          <a:xfrm>
            <a:off x="2758320" y="5500800"/>
            <a:ext cx="34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ГБОУ СПО ТОМУ № 1 Узловая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2012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1" descr=""/>
          <p:cNvPicPr/>
          <p:nvPr/>
        </p:nvPicPr>
        <p:blipFill>
          <a:blip r:embed="rId1"/>
          <a:stretch/>
        </p:blipFill>
        <p:spPr>
          <a:xfrm>
            <a:off x="208080" y="281160"/>
            <a:ext cx="8240760" cy="1407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-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это нарушение развития половых желез вызванное аномалией половых хромосом. Развитие половых желез нарушается уже в раннем периоде развития зародыша. Этот синдром встречается с частотой одна на три тысячи родившихся девочек. Во время деления половых клеток родителей нарушается расхождение половых хромосом в результате чего вместо нормального количества Х-хромосом (а в норме у женщины их две), зародыш получает только одну Х-хромосому. Набор хромосом получается неполным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0" name="Рисунок 3" descr="default.jpeg"/>
          <p:cNvPicPr/>
          <p:nvPr/>
        </p:nvPicPr>
        <p:blipFill>
          <a:blip r:embed="rId2"/>
          <a:stretch/>
        </p:blipFill>
        <p:spPr>
          <a:xfrm>
            <a:off x="5357880" y="3857760"/>
            <a:ext cx="29541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285480" y="213840"/>
            <a:ext cx="8358120" cy="62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У ребенка с синдромом </a:t>
            </a:r>
            <a:r>
              <a:rPr b="0" lang="en-US" sz="1600" spc="-1" strike="noStrike">
                <a:solidFill>
                  <a:srgbClr val="ffff00"/>
                </a:solidFill>
                <a:latin typeface="Century Gothic"/>
              </a:rPr>
              <a:t>Шерешевского-Тернера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возникает первичное недоразвитие половых органов. Вместо яичников образуются тяжи из соединительной ткани, матка недоразвита. Этот синдром может сочетаться с недоразвитием других органов. Уже при рождении девочки обнаруживают утолщение кожных складок на затылке, типичный отек кистей рук и стоп. Часто ребенок рождается маленьким, с низкой массой тела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entury Gothic"/>
              </a:rPr>
              <a:t>                               </a:t>
            </a:r>
            <a:r>
              <a:rPr b="0" lang="en-US" sz="1800" spc="-1" strike="noStrike">
                <a:solidFill>
                  <a:srgbClr val="ffff00"/>
                </a:solidFill>
                <a:latin typeface="Century Gothic"/>
              </a:rPr>
              <a:t>Внешний вид ребенк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рост маленький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искривление рук в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области локтевых суставов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оттопыренные уши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маленькая нижняя          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челюсть                               короткая шей с крыло –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видными складками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52" name="Прямая со стрелкой 6"/>
          <p:cNvCxnSpPr/>
          <p:nvPr/>
        </p:nvCxnSpPr>
        <p:spPr>
          <a:xfrm flipH="1">
            <a:off x="1499400" y="2427840"/>
            <a:ext cx="715320" cy="4294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3" name="Прямая со стрелкой 31"/>
          <p:cNvCxnSpPr/>
          <p:nvPr/>
        </p:nvCxnSpPr>
        <p:spPr>
          <a:xfrm>
            <a:off x="5072040" y="2499840"/>
            <a:ext cx="572400" cy="500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4" name="Прямая со стрелкой 33"/>
          <p:cNvCxnSpPr/>
          <p:nvPr/>
        </p:nvCxnSpPr>
        <p:spPr>
          <a:xfrm flipH="1">
            <a:off x="1713960" y="2643120"/>
            <a:ext cx="9291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5" name="Прямая со стрелкой 37"/>
          <p:cNvCxnSpPr/>
          <p:nvPr/>
        </p:nvCxnSpPr>
        <p:spPr>
          <a:xfrm>
            <a:off x="4143240" y="2571840"/>
            <a:ext cx="572400" cy="17150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6" name="Прямая со стрелкой 39"/>
          <p:cNvCxnSpPr/>
          <p:nvPr/>
        </p:nvCxnSpPr>
        <p:spPr>
          <a:xfrm flipH="1">
            <a:off x="3498480" y="2642760"/>
            <a:ext cx="2160" cy="1073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357" name="Рисунок 40" descr="tmp4795-57.jpg"/>
          <p:cNvPicPr/>
          <p:nvPr/>
        </p:nvPicPr>
        <p:blipFill>
          <a:blip r:embed="rId1"/>
          <a:stretch/>
        </p:blipFill>
        <p:spPr>
          <a:xfrm>
            <a:off x="6429240" y="4143240"/>
            <a:ext cx="2500560" cy="242892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41" descr="endokrinologiya-18_0001.gif"/>
          <p:cNvPicPr/>
          <p:nvPr/>
        </p:nvPicPr>
        <p:blipFill>
          <a:blip r:embed="rId2"/>
          <a:stretch/>
        </p:blipFill>
        <p:spPr>
          <a:xfrm>
            <a:off x="6858000" y="1857240"/>
            <a:ext cx="1612800" cy="171468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42" descr="terner2.jpg"/>
          <p:cNvPicPr/>
          <p:nvPr/>
        </p:nvPicPr>
        <p:blipFill>
          <a:blip r:embed="rId3"/>
          <a:stretch/>
        </p:blipFill>
        <p:spPr>
          <a:xfrm>
            <a:off x="571680" y="4857840"/>
            <a:ext cx="2071440" cy="1771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Заголовок 1" descr=""/>
          <p:cNvPicPr/>
          <p:nvPr/>
        </p:nvPicPr>
        <p:blipFill>
          <a:blip r:embed="rId1"/>
          <a:stretch/>
        </p:blipFill>
        <p:spPr>
          <a:xfrm>
            <a:off x="-219240" y="281160"/>
            <a:ext cx="9369720" cy="14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1" name=""/>
          <p:cNvGraphicFramePr/>
          <p:nvPr/>
        </p:nvGraphicFramePr>
        <p:xfrm>
          <a:off x="428760" y="1928880"/>
          <a:ext cx="8229600" cy="4137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                  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Симптом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Частота, % общего числ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                  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больны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аленький ро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ожденная лимфедер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рыловидные склад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изкий рост волос на ш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площенная грудная клет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роткая ше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альгусное искрив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зменение ногтей на стопах и кистя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ысокое нёб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3" descr=""/>
          <p:cNvPicPr/>
          <p:nvPr/>
        </p:nvPicPr>
        <p:blipFill>
          <a:blip r:embed="rId1"/>
          <a:stretch/>
        </p:blipFill>
        <p:spPr>
          <a:xfrm>
            <a:off x="566640" y="262080"/>
            <a:ext cx="7669440" cy="1407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0" y="142848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реконструктивная                                                                         психотерапевтичес-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хирургия (врождён-                                                                                ское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ные пороки               пластическая                гормональные пре-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внутренних          хирургия (удаление          параты (эстрогены,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рганов)             крыловидных складок          гормон роста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и т.д.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64" name="Прямая со стрелкой 6"/>
          <p:cNvCxnSpPr/>
          <p:nvPr/>
        </p:nvCxnSpPr>
        <p:spPr>
          <a:xfrm flipH="1">
            <a:off x="1571400" y="1571760"/>
            <a:ext cx="714960" cy="64332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65" name="Прямая со стрелкой 12"/>
          <p:cNvCxnSpPr/>
          <p:nvPr/>
        </p:nvCxnSpPr>
        <p:spPr>
          <a:xfrm flipH="1">
            <a:off x="2928960" y="1500120"/>
            <a:ext cx="643320" cy="12866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66" name="Прямая со стрелкой 14"/>
          <p:cNvCxnSpPr/>
          <p:nvPr/>
        </p:nvCxnSpPr>
        <p:spPr>
          <a:xfrm>
            <a:off x="4713840" y="1428840"/>
            <a:ext cx="429480" cy="135792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67" name="Прямая со стрелкой 16"/>
          <p:cNvCxnSpPr/>
          <p:nvPr/>
        </p:nvCxnSpPr>
        <p:spPr>
          <a:xfrm>
            <a:off x="6356880" y="1357200"/>
            <a:ext cx="786600" cy="8582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pic>
        <p:nvPicPr>
          <p:cNvPr id="368" name="Рисунок 19" descr="p_2594122.jpg"/>
          <p:cNvPicPr/>
          <p:nvPr/>
        </p:nvPicPr>
        <p:blipFill>
          <a:blip r:embed="rId2"/>
          <a:stretch/>
        </p:blipFill>
        <p:spPr>
          <a:xfrm>
            <a:off x="4857840" y="4286160"/>
            <a:ext cx="3286080" cy="221472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20" descr="b543284a543285.jpg"/>
          <p:cNvPicPr/>
          <p:nvPr/>
        </p:nvPicPr>
        <p:blipFill>
          <a:blip r:embed="rId3"/>
          <a:stretch/>
        </p:blipFill>
        <p:spPr>
          <a:xfrm>
            <a:off x="571680" y="4286160"/>
            <a:ext cx="30333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-648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214200" y="428400"/>
            <a:ext cx="8715600" cy="60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Общий анализ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крови                                                                                             УЗИ матки и яичников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суточное выделение  с              определение полового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мочой эстрогенов и                  хроматина и кариотипа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гонадотропинов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консультация у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гинеколога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72" name="Прямая со стрелкой 6"/>
          <p:cNvCxnSpPr/>
          <p:nvPr/>
        </p:nvCxnSpPr>
        <p:spPr>
          <a:xfrm flipH="1">
            <a:off x="1571760" y="1356120"/>
            <a:ext cx="643320" cy="4294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3" name="Прямая со стрелкой 8"/>
          <p:cNvCxnSpPr/>
          <p:nvPr/>
        </p:nvCxnSpPr>
        <p:spPr>
          <a:xfrm flipH="1">
            <a:off x="2642400" y="1428480"/>
            <a:ext cx="429480" cy="114372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4" name="Прямая со стрелкой 10"/>
          <p:cNvCxnSpPr/>
          <p:nvPr/>
        </p:nvCxnSpPr>
        <p:spPr>
          <a:xfrm flipH="1">
            <a:off x="3928320" y="1285560"/>
            <a:ext cx="1080" cy="214380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5" name="Прямая со стрелкой 12"/>
          <p:cNvCxnSpPr/>
          <p:nvPr/>
        </p:nvCxnSpPr>
        <p:spPr>
          <a:xfrm>
            <a:off x="4929120" y="1285920"/>
            <a:ext cx="286560" cy="12866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6" name="Прямая со стрелкой 14"/>
          <p:cNvCxnSpPr/>
          <p:nvPr/>
        </p:nvCxnSpPr>
        <p:spPr>
          <a:xfrm>
            <a:off x="6215040" y="1285560"/>
            <a:ext cx="572400" cy="5720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pic>
        <p:nvPicPr>
          <p:cNvPr id="377" name="Рисунок 17" descr="uzi_matka.gif"/>
          <p:cNvPicPr/>
          <p:nvPr/>
        </p:nvPicPr>
        <p:blipFill>
          <a:blip r:embed="rId2"/>
          <a:stretch/>
        </p:blipFill>
        <p:spPr>
          <a:xfrm>
            <a:off x="714240" y="4071960"/>
            <a:ext cx="1886040" cy="190512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18" descr="1283871556.jpeg"/>
          <p:cNvPicPr/>
          <p:nvPr/>
        </p:nvPicPr>
        <p:blipFill>
          <a:blip r:embed="rId3"/>
          <a:stretch/>
        </p:blipFill>
        <p:spPr>
          <a:xfrm>
            <a:off x="5286240" y="4286160"/>
            <a:ext cx="276408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28400" y="1285920"/>
            <a:ext cx="78008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Для людей синдромом Шерешевского-Тернера результаты обследования будут следующими: в анализе крови - снижение количества эстрогенов и повышение гормонов гипофиза (гонадотропинов), особенно фоллитропина. Повышенное суточное выделение с мочой гонадотропинов и снижение эстрогенов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ри ультразвуковом исследовании не находят яичников, матка имеет недоразвитый вид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ри рентгеновском обследовании находят остеопороз (разрежение костной ткани) и различные аномалии развития костного скелета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Нередко у людей, страдающих данным синдромом, будут встречаться такие заболевания, как сахарный диабет, воспаления толстого кишечника и желудочно-кишечные кровотечения, зоб и тириоидиты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кончательно подтверждает диагноз генетическое исследование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785520" y="2499840"/>
            <a:ext cx="7715160" cy="1668600"/>
          </a:xfrm>
          <a:prstGeom prst="rect">
            <a:avLst/>
          </a:prstGeom>
          <a:ln w="12600">
            <a:solidFill>
              <a:srgbClr val="eaeaea"/>
            </a:solidFill>
            <a:round/>
          </a:ln>
          <a:effectLst>
            <a:outerShdw dist="36147" dir="2700000" blurRad="0" rotWithShape="0">
              <a:srgbClr val="c0c0c0">
                <a:alpha val="8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10:40:16Z</dcterms:created>
  <dc:creator>Neo</dc:creator>
  <dc:description/>
  <dc:language>en-US</dc:language>
  <cp:lastModifiedBy>User</cp:lastModifiedBy>
  <dcterms:modified xsi:type="dcterms:W3CDTF">2012-05-29T08:59:05Z</dcterms:modified>
  <cp:revision>36</cp:revision>
  <dc:subject/>
  <dc:title>Синдром Шерешеского-Тернера.</dc:title>
</cp:coreProperties>
</file>