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BE35-FF72-496E-8FA8-E5877C43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DC64-B80D-4427-9712-D1204A63E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349C-68E8-4B06-83EE-29BFFB3C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BF40-B79B-4220-BBF4-3F8A58FD7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ED6A-4491-4CA6-8BB8-D46305C4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5E7A-E42B-4726-A186-6267DF33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6004-4D90-4DB6-B004-CD58C386E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58F6-35DE-4C5E-9BBD-6D7163C7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3CBD2-B9C2-4D19-AD64-265A05ED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527B-B4EC-4CC1-83BA-8BA5BD3B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4D76F-42BB-4AB2-9D8B-B28C385D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5B15-EBB9-4DD9-8817-D7E142AA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A0302-783B-4B56-B258-22B1AEF1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3F61D-996A-4DC5-9E03-09F8D07C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C19DD-BBE8-41B8-8501-5EA360299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95085-A9E2-4AE0-A7E9-B4B64BA1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A6981-BCC4-412B-B2E9-DEB408685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DD030-8B8E-46E4-A254-26237C157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B292F-20BF-4571-AFD6-FF29A54CE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0744F-A53C-45D0-A629-A589E07E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69467-EF46-45FA-90E0-2760890C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353C1-82AC-4D70-A3E8-46113B9C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317D-804F-4FCA-BD64-00852C3F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826C5-C926-427E-9B63-A172EC1A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F2A66-B776-417C-8E39-EBA3FCDC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04C0E-1ED7-4A23-9852-407AA2AA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AF148-2931-4724-9CFA-5B38D428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E65A1-82D7-4F31-8CEB-A77BB37F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19AA1-D9B7-48B8-8922-2E44231D9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3E0F7-2180-4351-AF2B-A274D325A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AF62C-01C2-46BF-BBD7-7C866B0A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9B311-5006-42DA-8511-55A78039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015A6-B801-4FBD-B323-163D5A9E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A6D6-CDA1-4365-BBDF-127B90679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1BB17-BAC7-4604-A2C1-F2FA43FAE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BEDFC-CABC-4DD7-858F-153477DF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CDBF0-F107-4E38-ABB5-F13DE3FF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936D3-9ED7-4089-A0A7-AA7BE206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14287-2712-49E0-AFAB-ED8D3D64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5514D-3863-4AB1-8E4A-3E6A672DE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F31B3-D866-4F97-970A-61BB54C86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7ADB2-DE20-46A1-A42E-E97298EA2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8255D-9666-4422-B2D6-1D2BF82AE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D9181-47B7-46B6-ABEE-399F86D0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03BC-B63B-4AC4-9330-281FD7BA1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6213D5-CB1C-4485-9B4A-D7F48BE3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6E010-51AE-4462-B7C2-A4B65E9C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9FCA4-134F-4F1A-83BB-634BCE59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8D8B6-BF0C-4A99-A3F2-FC03819A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8629B-FBCB-4277-A56B-359B548E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ECF50-60BB-49C5-BAA1-91A2167F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D6660-19F2-4B7F-A997-B0D77188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32A32-9808-43F2-B225-B69D213A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36ABD-3F13-401C-AC00-5F2AEE77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8619D-0BB5-425E-AF28-3847210D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3FC0-F5FC-40FF-B037-C7931E45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A4D688-43C7-48D6-974E-40E5B86F8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8D4FA-7CF4-434E-8D13-C0A72856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93EEE-395C-457E-8513-E519DAB2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05A49-EFE9-4E65-A359-623242475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6DB02-B3A8-46B4-9A07-E57D83808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DDED3-EC63-4640-B528-10D2CEAA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FDCF80-F713-4B76-8BC8-D6D3D00F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6DF89-E810-48BE-B91A-7EE6B4AB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E7CA2-E8A4-4A5D-A219-14314B21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5A8DB-3283-40D7-82C3-DCE702FE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2D4B-D3A2-494D-8B6F-982AFCC9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EE679D-91D0-4067-A227-A7BEDC6BF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4726D-8A03-493F-BD1B-112484CCF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D10B7-B885-433D-8C27-B417F5296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487A7-E7C7-4842-882B-985C7FB9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B126B8-0481-4101-8968-70051F3C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F6CE1-2B6A-4D13-AC62-53165714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F7D18-823C-4A0E-BFB3-38BABF1F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36F28-9513-4950-815D-0BF5A685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3EB419-4C8E-4E39-81F4-675CF81E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6E361-ECB5-4DC2-B7EA-B820BE00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AB1-8A4D-49B5-866A-3F350214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2C96D-374A-4FD1-9FD3-B598C8A6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A9BB9-4E20-4171-94DA-394AF47F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17D2B-8E57-4E3B-A525-2F838F2FD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DEB27C-AD6C-4EE3-9B59-6B8AE8DB4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C91DD-3130-4281-ACBB-720ADAFE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EA46B-2918-474B-95A6-29BEE898F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30A33-0936-4EAE-A4A2-966BDB18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C65239-B9DD-4EBE-BF97-8D33F18B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C3E73-FF5A-44AA-8CBA-0903BA79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633C1E-5811-4202-95B7-B05A6717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5EFB-7D34-4F41-A6A6-F4CE139EE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45818-1D49-4ED5-BF68-AD80455C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9B634-F87D-4EF0-83C7-48DE7ACE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A1A13-3CCA-46AA-AA53-15FFD4C3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236FC-9D8D-4AFA-B256-34CD2C09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491AE-4D61-401B-BCE0-519471A0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2BD52-D40D-4148-B166-141422D8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6F176-B297-40FF-AACE-53807EA9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860A7-E8D3-4635-A010-DC1117AE24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99316-65E6-4FBD-AE3F-D2A94171D38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031E7-5D6C-4901-BB0F-B4C6DC276D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9234E-DB44-4A94-BD22-3B81F4DABE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A82C-5C41-4DC3-B3A9-FDF63C69C65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EA67-101D-4D8D-B449-3EE10BD128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1E2C-8E3B-42C1-8643-602688471057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ABBB5-7E4D-47A2-B9BB-B517A05DE0B9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66640" y="1195560"/>
            <a:ext cx="8454960" cy="159696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1920960" y="3413160"/>
            <a:ext cx="6978600" cy="153036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2758320" y="550080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ГБОУ СПО ТОМУ № 1 Узлова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208080" y="281160"/>
            <a:ext cx="82407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-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это нарушение развития половых желез вызванное аномалией половых хромосом. Развитие половых желез нарушается уже в раннем периоде развития зародыша. Этот синдром встречается с частотой одна на три тысячи родившихся девочек. Во время деления половых клеток родителей нарушается расхождение половых хромосом в результате чего вместо нормального количества Х-хромосом (а в норме у женщины их две), зародыш получает только одну Х-хромосому. Набор хромосом получается неполным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Рисунок 3" descr="default.jpeg"/>
          <p:cNvPicPr/>
          <p:nvPr/>
        </p:nvPicPr>
        <p:blipFill>
          <a:blip r:embed="rId2"/>
          <a:stretch/>
        </p:blipFill>
        <p:spPr>
          <a:xfrm>
            <a:off x="5357880" y="3857760"/>
            <a:ext cx="2954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285480" y="213840"/>
            <a:ext cx="8358120" cy="62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У ребенка с синдромом </a:t>
            </a:r>
            <a:r>
              <a:rPr b="0" lang="en-US" sz="1600" spc="-1" strike="noStrike">
                <a:solidFill>
                  <a:srgbClr val="ffff00"/>
                </a:solidFill>
                <a:latin typeface="Century Gothic"/>
              </a:rPr>
              <a:t>Шерешевского-Тернера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возникает первичное недоразвитие половых органов. Вместо яичников образуются тяжи из соединительной ткани, матка недоразвита. Этот синдром может сочетаться с недоразвитием других органов. Уже при рождении девочки обнаруживают утолщение кожных складок на затылке, типичный отек кистей рук и стоп. Часто ребенок рождается маленьким, с низкой массой тел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Внешний вид ребенк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рост маленький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искривление рук в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ласти локтевых суставов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ттопыренные уши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аленькая нижняя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челюсть                               короткая шей с крыло –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видными складкам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52" name="Прямая со стрелкой 6"/>
          <p:cNvCxnSpPr/>
          <p:nvPr/>
        </p:nvCxnSpPr>
        <p:spPr>
          <a:xfrm flipH="1">
            <a:off x="1499400" y="2427840"/>
            <a:ext cx="715320" cy="4294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3" name="Прямая со стрелкой 31"/>
          <p:cNvCxnSpPr/>
          <p:nvPr/>
        </p:nvCxnSpPr>
        <p:spPr>
          <a:xfrm>
            <a:off x="5072040" y="2499840"/>
            <a:ext cx="572400" cy="500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4" name="Прямая со стрелкой 33"/>
          <p:cNvCxnSpPr/>
          <p:nvPr/>
        </p:nvCxnSpPr>
        <p:spPr>
          <a:xfrm flipH="1">
            <a:off x="1713960" y="2643120"/>
            <a:ext cx="9291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5" name="Прямая со стрелкой 37"/>
          <p:cNvCxnSpPr/>
          <p:nvPr/>
        </p:nvCxnSpPr>
        <p:spPr>
          <a:xfrm>
            <a:off x="4143240" y="2571840"/>
            <a:ext cx="572400" cy="17150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6" name="Прямая со стрелкой 39"/>
          <p:cNvCxnSpPr/>
          <p:nvPr/>
        </p:nvCxnSpPr>
        <p:spPr>
          <a:xfrm flipH="1">
            <a:off x="3498480" y="2642760"/>
            <a:ext cx="2160" cy="1073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57" name="Рисунок 40" descr="tmp4795-5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500560" cy="24289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1" descr="endokrinologiya-18_0001.gif"/>
          <p:cNvPicPr/>
          <p:nvPr/>
        </p:nvPicPr>
        <p:blipFill>
          <a:blip r:embed="rId2"/>
          <a:stretch/>
        </p:blipFill>
        <p:spPr>
          <a:xfrm>
            <a:off x="6858000" y="1857240"/>
            <a:ext cx="1612800" cy="171468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42" descr="terner2.jpg"/>
          <p:cNvPicPr/>
          <p:nvPr/>
        </p:nvPicPr>
        <p:blipFill>
          <a:blip r:embed="rId3"/>
          <a:stretch/>
        </p:blipFill>
        <p:spPr>
          <a:xfrm>
            <a:off x="571680" y="4857840"/>
            <a:ext cx="2071440" cy="1771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-219240" y="281160"/>
            <a:ext cx="936972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428760" y="1928880"/>
          <a:ext cx="8229600" cy="4137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Симптом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Частота, % общего числ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больн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ленький ро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ожденная лимфеде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рыловидные склад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зкий рост волос на ш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площенная грудная клет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роткая ше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ьгусное искрив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менение ногтей на стопах и кист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сокое нёб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3" descr=""/>
          <p:cNvPicPr/>
          <p:nvPr/>
        </p:nvPicPr>
        <p:blipFill>
          <a:blip r:embed="rId1"/>
          <a:stretch/>
        </p:blipFill>
        <p:spPr>
          <a:xfrm>
            <a:off x="566640" y="262080"/>
            <a:ext cx="766944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0" y="142848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реконструктивная                                                                         психотерапевтичес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хирургия (врождён-                                                                                ское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ые пороки               пластическая                гормональные пре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нутренних          хирургия (удаление          параты (эстрогены,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рганов)             крыловидных складок          гормон роста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и т.д.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64" name="Прямая со стрелкой 6"/>
          <p:cNvCxnSpPr/>
          <p:nvPr/>
        </p:nvCxnSpPr>
        <p:spPr>
          <a:xfrm flipH="1">
            <a:off x="1571400" y="1571760"/>
            <a:ext cx="714960" cy="6433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5" name="Прямая со стрелкой 12"/>
          <p:cNvCxnSpPr/>
          <p:nvPr/>
        </p:nvCxnSpPr>
        <p:spPr>
          <a:xfrm flipH="1">
            <a:off x="2928960" y="1500120"/>
            <a:ext cx="64332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6" name="Прямая со стрелкой 14"/>
          <p:cNvCxnSpPr/>
          <p:nvPr/>
        </p:nvCxnSpPr>
        <p:spPr>
          <a:xfrm>
            <a:off x="4713840" y="1428840"/>
            <a:ext cx="429480" cy="13579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7" name="Прямая со стрелкой 16"/>
          <p:cNvCxnSpPr/>
          <p:nvPr/>
        </p:nvCxnSpPr>
        <p:spPr>
          <a:xfrm>
            <a:off x="6356880" y="1357200"/>
            <a:ext cx="786600" cy="8582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68" name="Рисунок 19" descr="p_2594122.jpg"/>
          <p:cNvPicPr/>
          <p:nvPr/>
        </p:nvPicPr>
        <p:blipFill>
          <a:blip r:embed="rId2"/>
          <a:stretch/>
        </p:blipFill>
        <p:spPr>
          <a:xfrm>
            <a:off x="4857840" y="428616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20" descr="b543284a543285.jpg"/>
          <p:cNvPicPr/>
          <p:nvPr/>
        </p:nvPicPr>
        <p:blipFill>
          <a:blip r:embed="rId3"/>
          <a:stretch/>
        </p:blipFill>
        <p:spPr>
          <a:xfrm>
            <a:off x="571680" y="4286160"/>
            <a:ext cx="3033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214200" y="428400"/>
            <a:ext cx="871560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щий анализ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рови                                                                                             УЗИ матки и яичников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суточное выделение  с              определение полового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очой эстрогенов и                  хроматина и кариотип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онадотропинов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онсультация у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инеколог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72" name="Прямая со стрелкой 6"/>
          <p:cNvCxnSpPr/>
          <p:nvPr/>
        </p:nvCxnSpPr>
        <p:spPr>
          <a:xfrm flipH="1">
            <a:off x="1571760" y="1356120"/>
            <a:ext cx="643320" cy="4294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3" name="Прямая со стрелкой 8"/>
          <p:cNvCxnSpPr/>
          <p:nvPr/>
        </p:nvCxnSpPr>
        <p:spPr>
          <a:xfrm flipH="1">
            <a:off x="2642400" y="1428480"/>
            <a:ext cx="429480" cy="11437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 flipH="1">
            <a:off x="3928320" y="1285560"/>
            <a:ext cx="1080" cy="214380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929120" y="1285920"/>
            <a:ext cx="28656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>
            <a:off x="6215040" y="1285560"/>
            <a:ext cx="572400" cy="5720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77" name="Рисунок 17" descr="uzi_matka.gif"/>
          <p:cNvPicPr/>
          <p:nvPr/>
        </p:nvPicPr>
        <p:blipFill>
          <a:blip r:embed="rId2"/>
          <a:stretch/>
        </p:blipFill>
        <p:spPr>
          <a:xfrm>
            <a:off x="714240" y="4071960"/>
            <a:ext cx="1886040" cy="19051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18" descr="1283871556.jpeg"/>
          <p:cNvPicPr/>
          <p:nvPr/>
        </p:nvPicPr>
        <p:blipFill>
          <a:blip r:embed="rId3"/>
          <a:stretch/>
        </p:blipFill>
        <p:spPr>
          <a:xfrm>
            <a:off x="5286240" y="4286160"/>
            <a:ext cx="27640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28400" y="1285920"/>
            <a:ext cx="78008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Для людей синдромом Шерешевского-Тернера результаты обследования будут следующими: в анализе крови - снижение количества эстрогенов и повышение гормонов гипофиза (гонадотропинов), особенно фоллитропина. Повышенное суточное выделение с мочой гонадотропинов и снижение эстрогенов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ультразвуковом исследовании не находят яичников, матка имеет недоразвитый вид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рентгеновском обследовании находят остеопороз (разрежение костной ткани) и различные аномалии развития костного скелет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ередко у людей, страдающих данным синдромом, будут встречаться такие заболевания, как сахарный диабет, воспаления толстого кишечника и желудочно-кишечные кровотечения, зоб и тириоидиты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кончательно подтверждает диагноз генетическое исследование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85520" y="2499840"/>
            <a:ext cx="7715160" cy="1668600"/>
          </a:xfrm>
          <a:prstGeom prst="rect">
            <a:avLst/>
          </a:prstGeom>
          <a:ln w="12600">
            <a:solidFill>
              <a:srgbClr val="eaeaea"/>
            </a:solidFill>
            <a:round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0:40:16Z</dcterms:created>
  <dc:creator>Neo</dc:creator>
  <dc:description/>
  <dc:language>en-US</dc:language>
  <cp:lastModifiedBy>User</cp:lastModifiedBy>
  <dcterms:modified xsi:type="dcterms:W3CDTF">2012-05-29T08:59:05Z</dcterms:modified>
  <cp:revision>36</cp:revision>
  <dc:subject/>
  <dc:title>Синдром Шерешеского-Тернера.</dc:title>
</cp:coreProperties>
</file>