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0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958-47D5-40DD-B2B6-6007CAE50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EA17-D631-4864-BCFC-8C3CB385D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D41-A1B6-4E02-82B6-38D771A3F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4541-D35A-40CD-9762-67B635214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2E53-05C9-402C-88AF-068BB2954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AA0D-A899-4E20-9467-B526463C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4991C-2C84-463E-9CB9-25646AB2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22C5-1978-4A24-98A1-B50D9E8F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2AA97-DB1E-48C4-B951-627D506A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954DC-8D0A-44AB-B01A-02DB34CC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B600D-3631-4E64-9B99-7FE6B7C2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E895-B691-46A8-9D8C-0B844FB7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F3527-93F1-4ADD-9523-B1C949F54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E01B-2E11-4895-BC66-0AE4D84A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D72C1-3804-47B9-8300-E10250CC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3CAB-8B65-4B54-A8D7-06558C19B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11EA-4CF6-498B-95AC-CA05280B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50BDC-4786-487B-9AB1-FCD94707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F492-8020-463D-BAE6-97EC5505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B64F5-D31D-4FAA-9B38-BD6714E0C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155CE-4E5D-427B-8A8E-7C87944D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92FC8-E00E-4664-9575-3483927A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98F-694B-4D03-BC8A-66273EED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BCC3C-242B-402B-AC65-9460AE2D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89CF-BE56-4E49-B624-9AB0BF05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567D2-5F94-452C-A55B-8C23600B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A42D-9246-4E82-997E-A8961C10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0A64-7D80-4319-8071-3B4C8110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9B6D-7E14-4158-A298-F06D967CD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BA07-A73D-434B-90F6-1FF902CC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BE62-2FDF-4BF2-82F1-72DEAE69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A0388-35F5-43E3-94F3-1BD80DEB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465D3-8994-4428-94B7-927D6128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4DCA-F3E9-418B-A53D-84788789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B8A9A-6CC8-4DF0-B77B-73F5AFA9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4ED6C-CACC-459F-B4BE-BD4F6CB68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FE311-BF73-450F-A224-E4A1B438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29E15-C4FF-48EC-B07C-CECAFE93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0B02-F8BC-4DA9-B6F1-3E987A78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0165E-1D34-40BD-B477-8C201688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B05F-37C6-41AA-9531-98D02AE7D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AF71C-22B6-4CE4-B4C1-BFC06044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00B0B-2CEC-425E-AF0B-0FEDCD6B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8446-D045-48E3-B84D-E54CBF54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7BC8-E38C-448F-BDD8-40B73C86E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5A656-14E9-4B0F-A0B6-95A35F530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6DB72-563D-4031-87F4-4595B63E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481D9D-BEFF-4E02-8546-056838E9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E925B6-6A4F-4716-9870-58653DBC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5E633-0FCC-4584-8FBE-3CD4DA37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E74A5-0742-44C4-BD64-DDD2BCB6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BE1128-00B6-4AA1-AAD3-F8161011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88AFD0-34AE-4B8C-BD8D-F7AB319D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3DA1B-E53C-43CE-990F-88466717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F8449-6C5F-485C-AF43-B58778534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65E7-C54F-4EF0-9E7A-508122BCD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AAE7CE-A43F-4C3D-A47B-B6449B5C2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B2FCE-F67F-4E62-B344-4B68CAC18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13EDB-22CC-4932-8E67-05C2E258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C47BA-BD65-4E99-A40F-5D1116AE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6C0F4-054D-4D3B-A1B3-70972495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77584-7942-4E4D-9656-C21CB516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8FA0D-F6B3-4381-8573-108EBE31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30243-8F84-4778-806D-23BD5D6C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D1EEDF-302C-4800-8117-7E15E47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CD29D-81C2-45F8-9FE9-B374801F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4573-24A9-43E6-AFB1-0D33D2ED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6BF4F-7FAD-4C97-B9B9-383B43F2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51FBA-AE27-4CCE-A401-2D0744696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BFBB0-D219-4484-BF9B-34DFCB62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38470-2180-493A-AB19-32C10A555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7D4A8-AAE7-49A5-9F6D-B2E8BD283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1214-EA48-4521-A3C5-068FD8A0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9DD8D-68D5-4E55-A367-5A8B1732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B9E9-F962-4359-8812-EEE5A306C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B87AF-64A6-4867-987C-6FBC57E9E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A3DB2-FEC1-4D8D-8CF0-B5B37394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3F0-1C90-4106-98CD-6D5600E67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69307-3FA1-49A6-A0AC-BCE4271F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9E166A-052B-46CD-965B-271068CC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4E1AAF-98A8-44A9-A7BA-176FB24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C46FE-C7BB-4CF4-A7CB-3253760A6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974B4-B1C5-4CEB-AABE-E33D30AE7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1CA781-18AC-4646-891A-D14C95747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D6E4CE-91DD-48FE-A5DA-36877BB3B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1C192C-81F8-4787-942C-DFB0FD23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BB3D20-C9A5-4BD5-944B-2B69C210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17073-500E-464F-B177-468988ED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A861-51F8-4EBB-B44D-059A6FA8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45C78-4439-4010-973C-9E9CE3CD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67030-E194-476C-BAAA-D30B9F82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9BB5-0C1C-46F7-8D22-857AA0F3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D85A2-3356-420F-8409-2CF91C75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442FB-2F22-4ADE-AD0E-9602E58F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FE493-3657-41AD-B37B-E1C16351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987BE-50C3-42A0-ABCD-B13DADFAB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713C-3DEF-4233-A04D-446A213839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Равнобедренный треугольник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C59C-D596-4292-835D-947A875BB8B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8B31D-1731-4212-B135-2089D38706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Равнобедренный треугольник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808080"/>
              </a:gs>
              <a:gs pos="100000">
                <a:srgbClr val="e8e8e8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Прямая соединительная линия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Прямая соединительная линия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15A83-731A-47D5-AE51-433481147D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8f8f8">
                  <a:alpha val="1176"/>
                </a:srgbClr>
              </a:gs>
              <a:gs pos="100000">
                <a:srgbClr val="f8f8f8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3b3b3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cbcb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A21E-FE7E-4A42-B095-04DF242FEE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90C44-9BBD-4A94-BB73-6A51A9DD677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122F-DCFF-492F-B91F-EACE4463E84B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e3e3e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3e3e3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dddd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dddd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dddd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e6e6e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4BF26-EF44-4DC9-84DF-F71BD2A36265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566640" y="1195560"/>
            <a:ext cx="8454960" cy="1596960"/>
          </a:xfrm>
          <a:prstGeom prst="rect">
            <a:avLst/>
          </a:prstGeom>
          <a:ln w="0">
            <a:noFill/>
          </a:ln>
        </p:spPr>
      </p:pic>
      <p:pic>
        <p:nvPicPr>
          <p:cNvPr id="346" name="Подзаголовок 2" descr=""/>
          <p:cNvPicPr/>
          <p:nvPr/>
        </p:nvPicPr>
        <p:blipFill>
          <a:blip r:embed="rId2"/>
          <a:stretch/>
        </p:blipFill>
        <p:spPr>
          <a:xfrm>
            <a:off x="1920960" y="3413160"/>
            <a:ext cx="6978600" cy="1530360"/>
          </a:xfrm>
          <a:prstGeom prst="rect">
            <a:avLst/>
          </a:prstGeom>
          <a:ln w="0">
            <a:noFill/>
          </a:ln>
        </p:spPr>
      </p:pic>
      <p:sp>
        <p:nvSpPr>
          <p:cNvPr id="347" name="TextBox 4"/>
          <p:cNvSpPr/>
          <p:nvPr/>
        </p:nvSpPr>
        <p:spPr>
          <a:xfrm>
            <a:off x="2758320" y="5500800"/>
            <a:ext cx="348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ГБОУ СПО ТОМУ № 1 Узловая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2012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Заголовок 1" descr=""/>
          <p:cNvPicPr/>
          <p:nvPr/>
        </p:nvPicPr>
        <p:blipFill>
          <a:blip r:embed="rId1"/>
          <a:stretch/>
        </p:blipFill>
        <p:spPr>
          <a:xfrm>
            <a:off x="208080" y="281160"/>
            <a:ext cx="82407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-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это нарушение развития половых желез вызванное аномалией половых хромосом. Развитие половых желез нарушается уже в раннем периоде развития зародыша. Этот синдром встречается с частотой одна на три тысячи родившихся девочек. Во время деления половых клеток родителей нарушается расхождение половых хромосом в результате чего вместо нормального количества Х-хромосом (а в норме у женщины их две), зародыш получает только одну Х-хромосому. Набор хромосом получается неполным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Рисунок 3" descr="default.jpeg"/>
          <p:cNvPicPr/>
          <p:nvPr/>
        </p:nvPicPr>
        <p:blipFill>
          <a:blip r:embed="rId2"/>
          <a:stretch/>
        </p:blipFill>
        <p:spPr>
          <a:xfrm>
            <a:off x="5357880" y="3857760"/>
            <a:ext cx="29541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285480" y="213840"/>
            <a:ext cx="8358120" cy="62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У ребенка с синдромом </a:t>
            </a:r>
            <a:r>
              <a:rPr b="0" lang="en-US" sz="1600" spc="-1" strike="noStrike">
                <a:solidFill>
                  <a:srgbClr val="ffff00"/>
                </a:solidFill>
                <a:latin typeface="Century Gothic"/>
              </a:rPr>
              <a:t>Шерешевского-Тернера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возникает первичное недоразвитие половых органов. Вместо яичников образуются тяжи из соединительной ткани, матка недоразвита. Этот синдром может сочетаться с недоразвитием других органов. Уже при рождении девочки обнаруживают утолщение кожных складок на затылке, типичный отек кистей рук и стоп. Часто ребенок рождается маленьким, с низкой массой тел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                               </a:t>
            </a:r>
            <a:r>
              <a:rPr b="0" lang="en-US" sz="1800" spc="-1" strike="noStrike">
                <a:solidFill>
                  <a:srgbClr val="ffff00"/>
                </a:solidFill>
                <a:latin typeface="Century Gothic"/>
              </a:rPr>
              <a:t>Внешний вид ребенка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рост маленький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искривление рук в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ласти локтевых суставов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ттопыренные уши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аленькая нижняя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челюсть                               короткая шей с крыло –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видными складками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52" name="Прямая со стрелкой 6"/>
          <p:cNvCxnSpPr/>
          <p:nvPr/>
        </p:nvCxnSpPr>
        <p:spPr>
          <a:xfrm flipH="1">
            <a:off x="1499400" y="2427840"/>
            <a:ext cx="715320" cy="42948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3" name="Прямая со стрелкой 31"/>
          <p:cNvCxnSpPr/>
          <p:nvPr/>
        </p:nvCxnSpPr>
        <p:spPr>
          <a:xfrm>
            <a:off x="5072040" y="2499840"/>
            <a:ext cx="572400" cy="50076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4" name="Прямая со стрелкой 33"/>
          <p:cNvCxnSpPr/>
          <p:nvPr/>
        </p:nvCxnSpPr>
        <p:spPr>
          <a:xfrm flipH="1">
            <a:off x="1713960" y="2643120"/>
            <a:ext cx="929160" cy="12866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5" name="Прямая со стрелкой 37"/>
          <p:cNvCxnSpPr/>
          <p:nvPr/>
        </p:nvCxnSpPr>
        <p:spPr>
          <a:xfrm>
            <a:off x="4143240" y="2571840"/>
            <a:ext cx="572400" cy="171504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56" name="Прямая со стрелкой 39"/>
          <p:cNvCxnSpPr/>
          <p:nvPr/>
        </p:nvCxnSpPr>
        <p:spPr>
          <a:xfrm flipH="1">
            <a:off x="3498480" y="2642760"/>
            <a:ext cx="2160" cy="1073520"/>
          </a:xfrm>
          <a:prstGeom prst="straightConnector1">
            <a:avLst/>
          </a:prstGeom>
          <a:ln w="9360">
            <a:solidFill>
              <a:srgbClr val="ffff00"/>
            </a:solidFill>
            <a:miter/>
            <a:tailEnd len="med" type="arrow" w="med"/>
          </a:ln>
        </p:spPr>
      </p:cxnSp>
      <p:pic>
        <p:nvPicPr>
          <p:cNvPr id="357" name="Рисунок 40" descr="tmp4795-57.jpg"/>
          <p:cNvPicPr/>
          <p:nvPr/>
        </p:nvPicPr>
        <p:blipFill>
          <a:blip r:embed="rId1"/>
          <a:stretch/>
        </p:blipFill>
        <p:spPr>
          <a:xfrm>
            <a:off x="6429240" y="4143240"/>
            <a:ext cx="2500560" cy="2428920"/>
          </a:xfrm>
          <a:prstGeom prst="rect">
            <a:avLst/>
          </a:prstGeom>
          <a:ln w="0">
            <a:noFill/>
          </a:ln>
        </p:spPr>
      </p:pic>
      <p:pic>
        <p:nvPicPr>
          <p:cNvPr id="358" name="Рисунок 41" descr="endokrinologiya-18_0001.gif"/>
          <p:cNvPicPr/>
          <p:nvPr/>
        </p:nvPicPr>
        <p:blipFill>
          <a:blip r:embed="rId2"/>
          <a:stretch/>
        </p:blipFill>
        <p:spPr>
          <a:xfrm>
            <a:off x="6858000" y="1857240"/>
            <a:ext cx="1612800" cy="171468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2" descr="terner2.jpg"/>
          <p:cNvPicPr/>
          <p:nvPr/>
        </p:nvPicPr>
        <p:blipFill>
          <a:blip r:embed="rId3"/>
          <a:stretch/>
        </p:blipFill>
        <p:spPr>
          <a:xfrm>
            <a:off x="571680" y="4857840"/>
            <a:ext cx="2071440" cy="1771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Заголовок 1" descr=""/>
          <p:cNvPicPr/>
          <p:nvPr/>
        </p:nvPicPr>
        <p:blipFill>
          <a:blip r:embed="rId1"/>
          <a:stretch/>
        </p:blipFill>
        <p:spPr>
          <a:xfrm>
            <a:off x="-219240" y="281160"/>
            <a:ext cx="9369720" cy="1407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"/>
          <p:cNvGraphicFramePr/>
          <p:nvPr/>
        </p:nvGraphicFramePr>
        <p:xfrm>
          <a:off x="428760" y="1928880"/>
          <a:ext cx="8229600" cy="4137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9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Симптом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Частота, % общего числ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                  </a:t>
                      </a:r>
                      <a:r>
                        <a:rPr b="1" lang="en-US" sz="1800" spc="-1" strike="noStrike">
                          <a:solidFill>
                            <a:srgbClr val="7030a0"/>
                          </a:solidFill>
                          <a:latin typeface="Century Gothic"/>
                        </a:rPr>
                        <a:t>больны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ленький рост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рожденная лимфедер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рыловидные склад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Низкий рост волос на ше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Уплощенная грудная клет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Короткая ше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альгусное искривлен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Изменение ногтей на стопах и кистях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f9f9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Высокое нёб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Заголовок 3" descr=""/>
          <p:cNvPicPr/>
          <p:nvPr/>
        </p:nvPicPr>
        <p:blipFill>
          <a:blip r:embed="rId1"/>
          <a:stretch/>
        </p:blipFill>
        <p:spPr>
          <a:xfrm>
            <a:off x="566640" y="262080"/>
            <a:ext cx="766944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0" y="142848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реконструктивная                                                                         психотерапевтичес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хирургия (врождён-                                                                                ское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ые пороки               пластическая                гормональные пре-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внутренних          хирургия (удаление          параты (эстрогены,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рганов)             крыловидных складок          гормон роста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                    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и т.д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64" name="Прямая со стрелкой 6"/>
          <p:cNvCxnSpPr/>
          <p:nvPr/>
        </p:nvCxnSpPr>
        <p:spPr>
          <a:xfrm flipH="1">
            <a:off x="1571400" y="1571760"/>
            <a:ext cx="714960" cy="6433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5" name="Прямая со стрелкой 12"/>
          <p:cNvCxnSpPr/>
          <p:nvPr/>
        </p:nvCxnSpPr>
        <p:spPr>
          <a:xfrm flipH="1">
            <a:off x="2928960" y="1500120"/>
            <a:ext cx="64332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6" name="Прямая со стрелкой 14"/>
          <p:cNvCxnSpPr/>
          <p:nvPr/>
        </p:nvCxnSpPr>
        <p:spPr>
          <a:xfrm>
            <a:off x="4713840" y="1428840"/>
            <a:ext cx="429480" cy="13579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67" name="Прямая со стрелкой 16"/>
          <p:cNvCxnSpPr/>
          <p:nvPr/>
        </p:nvCxnSpPr>
        <p:spPr>
          <a:xfrm>
            <a:off x="6356880" y="1357200"/>
            <a:ext cx="786600" cy="8582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68" name="Рисунок 19" descr="p_2594122.jpg"/>
          <p:cNvPicPr/>
          <p:nvPr/>
        </p:nvPicPr>
        <p:blipFill>
          <a:blip r:embed="rId2"/>
          <a:stretch/>
        </p:blipFill>
        <p:spPr>
          <a:xfrm>
            <a:off x="4857840" y="4286160"/>
            <a:ext cx="3286080" cy="2214720"/>
          </a:xfrm>
          <a:prstGeom prst="rect">
            <a:avLst/>
          </a:prstGeom>
          <a:ln w="0">
            <a:noFill/>
          </a:ln>
        </p:spPr>
      </p:pic>
      <p:pic>
        <p:nvPicPr>
          <p:cNvPr id="369" name="Рисунок 20" descr="b543284a543285.jpg"/>
          <p:cNvPicPr/>
          <p:nvPr/>
        </p:nvPicPr>
        <p:blipFill>
          <a:blip r:embed="rId3"/>
          <a:stretch/>
        </p:blipFill>
        <p:spPr>
          <a:xfrm>
            <a:off x="571680" y="4286160"/>
            <a:ext cx="3033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214200" y="428400"/>
            <a:ext cx="8715600" cy="60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Общий анализ                                                              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рови                                                                                             УЗИ матки и яичников      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суточное выделение  с              определение полового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мочой эстрогенов и                  хроматина и кариотип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онадотропинов              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консультация у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                                 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гинеколога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cxnSp>
        <p:nvCxnSpPr>
          <p:cNvPr id="372" name="Прямая со стрелкой 6"/>
          <p:cNvCxnSpPr/>
          <p:nvPr/>
        </p:nvCxnSpPr>
        <p:spPr>
          <a:xfrm flipH="1">
            <a:off x="1571760" y="1356120"/>
            <a:ext cx="643320" cy="42948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3" name="Прямая со стрелкой 8"/>
          <p:cNvCxnSpPr/>
          <p:nvPr/>
        </p:nvCxnSpPr>
        <p:spPr>
          <a:xfrm flipH="1">
            <a:off x="2642400" y="1428480"/>
            <a:ext cx="429480" cy="114372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4" name="Прямая со стрелкой 10"/>
          <p:cNvCxnSpPr/>
          <p:nvPr/>
        </p:nvCxnSpPr>
        <p:spPr>
          <a:xfrm flipH="1">
            <a:off x="3928320" y="1285560"/>
            <a:ext cx="1080" cy="214380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5" name="Прямая со стрелкой 12"/>
          <p:cNvCxnSpPr/>
          <p:nvPr/>
        </p:nvCxnSpPr>
        <p:spPr>
          <a:xfrm>
            <a:off x="4929120" y="1285920"/>
            <a:ext cx="286560" cy="12866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cxnSp>
        <p:nvCxnSpPr>
          <p:cNvPr id="376" name="Прямая со стрелкой 14"/>
          <p:cNvCxnSpPr/>
          <p:nvPr/>
        </p:nvCxnSpPr>
        <p:spPr>
          <a:xfrm>
            <a:off x="6215040" y="1285560"/>
            <a:ext cx="572400" cy="572040"/>
          </a:xfrm>
          <a:prstGeom prst="straightConnector1">
            <a:avLst/>
          </a:prstGeom>
          <a:ln w="9360">
            <a:solidFill>
              <a:srgbClr val="dddddd"/>
            </a:solidFill>
            <a:miter/>
            <a:tailEnd len="med" type="arrow" w="med"/>
          </a:ln>
        </p:spPr>
      </p:cxnSp>
      <p:pic>
        <p:nvPicPr>
          <p:cNvPr id="377" name="Рисунок 17" descr="uzi_matka.gif"/>
          <p:cNvPicPr/>
          <p:nvPr/>
        </p:nvPicPr>
        <p:blipFill>
          <a:blip r:embed="rId2"/>
          <a:stretch/>
        </p:blipFill>
        <p:spPr>
          <a:xfrm>
            <a:off x="714240" y="4071960"/>
            <a:ext cx="1886040" cy="1905120"/>
          </a:xfrm>
          <a:prstGeom prst="rect">
            <a:avLst/>
          </a:prstGeom>
          <a:ln w="0">
            <a:noFill/>
          </a:ln>
        </p:spPr>
      </p:pic>
      <p:pic>
        <p:nvPicPr>
          <p:cNvPr id="378" name="Рисунок 18" descr="1283871556.jpeg"/>
          <p:cNvPicPr/>
          <p:nvPr/>
        </p:nvPicPr>
        <p:blipFill>
          <a:blip r:embed="rId3"/>
          <a:stretch/>
        </p:blipFill>
        <p:spPr>
          <a:xfrm>
            <a:off x="5286240" y="4286160"/>
            <a:ext cx="27640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28400" y="1285920"/>
            <a:ext cx="780084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Для людей синдромом Шерешевского-Тернера результаты обследования будут следующими: в анализе крови - снижение количества эстрогенов и повышение гормонов гипофиза (гонадотропинов), особенно фоллитропина. Повышенное суточное выделение с мочой гонадотропинов и снижение эстрогенов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ультразвуковом исследовании не находят яичников, матка имеет недоразвитый вид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При рентгеновском обследовании находят остеопороз (разрежение костной ткани) и различные аномалии развития костного скелета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Нередко у людей, страдающих данным синдромом, будут встречаться такие заболевания, как сахарный диабет, воспаления толстого кишечника и желудочно-кишечные кровотечения, зоб и тириоидиты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entury Gothic"/>
              </a:rPr>
              <a:t>Окончательно подтверждает диагноз генетическое исследование.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5520" y="2499840"/>
            <a:ext cx="7715160" cy="1668600"/>
          </a:xfrm>
          <a:prstGeom prst="rect">
            <a:avLst/>
          </a:prstGeom>
          <a:ln w="12600">
            <a:solidFill>
              <a:srgbClr val="eaeaea"/>
            </a:solidFill>
            <a:round/>
          </a:ln>
          <a:effectLst>
            <a:outerShdw dist="36147" dir="2700000" blurRad="0" rotWithShape="0">
              <a:srgbClr val="c0c0c0">
                <a:alpha val="8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0T10:40:16Z</dcterms:created>
  <dc:creator>Neo</dc:creator>
  <dc:description/>
  <dc:language>en-US</dc:language>
  <cp:lastModifiedBy>User</cp:lastModifiedBy>
  <dcterms:modified xsi:type="dcterms:W3CDTF">2012-05-29T08:59:05Z</dcterms:modified>
  <cp:revision>36</cp:revision>
  <dc:subject/>
  <dc:title>Синдром Шерешеского-Тернера.</dc:title>
</cp:coreProperties>
</file>