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0FF-4470-494C-A00B-B5AE6E73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23E-2F21-4AF8-94BD-4DDE25B1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3BF-8ADD-4ECC-9C2A-4D715A90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ACC-EA5D-40AF-BBA3-AA6C4858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E495-C4B9-4519-88D1-9DE946CF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BFF-7C2C-42AA-B2C9-3E8AE486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BA3-24F0-4B1B-8926-1789B445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E6C-3472-41AD-9F17-10DE7E46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6F4-9ACF-4A32-AC68-C6B670DD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F3C-6709-4BEA-A044-74F0EA53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676-76BE-4359-9E09-E6A6845F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8B21-FFD1-406F-979A-5797BF23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01A3-D500-4D43-8B4B-CB0B9AA19B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F62D-F489-4240-9C97-2CBEB827B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B5D6-A400-4B4B-BE47-35FD3C7E81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D600-3743-41C6-947D-818DEAE979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D682-F144-450B-8214-CD0C1FC364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52B6-3F2A-4CC9-AB74-99CC8204D5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837C-5F2F-4618-87E8-2D0BB0B1D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6A49-C798-4096-862A-E9A9094BA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416C-33F9-412E-BA50-FCED48E3FF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EBB9-1D66-4103-A1CD-E3332BB2B5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9108-FE67-470F-83FE-BDCC9B563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70E1-F053-4870-B86F-B965F4144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01A4-FB02-4FE3-B9EB-043DE6A07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9421-0C3D-4F90-8093-1CDE38F24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660C-BC9B-49CD-8998-576E3CC3C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C6AE-C3A7-412B-B1D8-4B1FD8B1B2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Азат</cp:lastModifiedBy>
  <dcterms:modified xsi:type="dcterms:W3CDTF">2011-02-20T13:12:20Z</dcterms:modified>
  <cp:revision>9</cp:revision>
  <dc:subject/>
  <dc:title>НАСЕКОМЫЕ</dc:title>
</cp:coreProperties>
</file>