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259-DC54-4D4D-AB89-4DD1A052C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7447-29C4-497D-BCF7-A88EED097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494-38D7-4160-B8DC-D708C58C0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AAC-29F4-4F28-AB47-60C37E1D4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37D5-35A3-4FAB-A7BD-EAF7645A3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B4D-68CA-4B85-BDBC-2E1ADBA0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8EA0-C738-4316-8D66-6C05125FF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9094-D934-4904-A0C5-EFBF24CE9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3DA5-6C15-4F7C-B9A3-1B9CDF70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E1E5-D7BA-499B-A458-184A82420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AD8-BD60-41C6-963A-C115E627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678-4D64-41A1-80C3-E00249AF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D64B-6F3C-4D45-A690-5F1905F35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A92-61B3-4CBB-A877-48A5304AFE1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СЕКОМЫ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853E-709C-484C-A139-0DFBAEA639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ечности для хва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ногих насекомых имеются хватательные конечности, которые используют для борьбы с соперниками или для ловчи добычи. Сильными передними конечностями богомол крепко держит добычу, когда её поед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3"/>
          <p:cNvPicPr/>
          <p:nvPr/>
        </p:nvPicPr>
        <p:blipFill>
          <a:blip r:embed="rId1"/>
          <a:stretch/>
        </p:blipFill>
        <p:spPr>
          <a:xfrm>
            <a:off x="4865760" y="1600200"/>
            <a:ext cx="3601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5823-72D0-451B-8682-894356B4B32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ожные нож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о другим насекомым, гусеницы имеют три пары ног на груди. Кроме того, у них есть пять пар ложных ножек на брюшке. Эти ложные ножки представляют собой четыре пары брюшных мускульных выростов с маленькими крючками на концах и пару анальных ножек, снабженных присосками. Брюшные ножки и присоски помогают гусеницам прицепляться к листьям и стебл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1332000" y="3500280"/>
            <a:ext cx="6913440" cy="25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7DBC-E8AB-489A-B94B-EEB7350945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ылья и поле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аукообразные не умеют летать, а насекомые умеют. Способность летать позволяет им спасаться от хищников и совершать дальние путешествия в поисках пищи или партнера. У большинства насекомых имеются две пары крыльев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87C0-70E1-4BB0-B61A-05463F8117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274680"/>
            <a:ext cx="814716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br>
              <a:rPr sz="40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едние крылья жуков, например, майского жука, превратились в жесткие защитные чехлы для крыльев. Для полетов жуки пользуются только задними крыльями, которые спрятаны свернутыми под надкрыльями, пока не наступит время взлететь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2458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ие прозрачные крылья дают возможность достигать поразительно высокой скор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587640" y="2781000"/>
            <a:ext cx="22431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крылья поднимаются вверх и раздвигаются в стороны во время пол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Изображение 14 in Насек11 copy"/>
          <p:cNvPicPr/>
          <p:nvPr/>
        </p:nvPicPr>
        <p:blipFill>
          <a:blip r:embed="rId1"/>
          <a:stretch/>
        </p:blipFill>
        <p:spPr>
          <a:xfrm>
            <a:off x="2916360" y="3429000"/>
            <a:ext cx="38098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044C-422B-4CF0-8818-FA96BB027C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1471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ысший пилотаж</a:t>
            </a:r>
            <a:br>
              <a:rPr sz="4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быстро и ровно лететь, стрекозы машут четырьмя крыльями. А взмахивая попеременно то передними, то задними крыльями, они могут проделывать удивительные акробатические номера, быстро меняя направлена полета, неподвижно зависая в воздухе и даже летать задом напере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20988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Благодаря сети жилок крылья очень прочные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732720" y="4724280"/>
            <a:ext cx="1954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ышцы груди заставляют крылья подниматься и опускатьс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Untitled-2 copy"/>
          <p:cNvPicPr/>
          <p:nvPr/>
        </p:nvPicPr>
        <p:blipFill>
          <a:blip r:embed="rId1"/>
          <a:stretch/>
        </p:blipFill>
        <p:spPr>
          <a:xfrm>
            <a:off x="2843280" y="2708280"/>
            <a:ext cx="394488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B6DD-B4E7-4743-A92F-053FE94A4B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Жужжальца мух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ух задние крылья превращены в небольшие булавовидные придатк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ужжальца. Во время полета они поднимаются и опускаются, создавая противовес основным крыльям. Жужжальца служат стабилизаторами полета и ролями. Без них муха не могла бы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4861080" y="1557360"/>
            <a:ext cx="38750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6D18E-E8B7-4E12-9EB5-8456C16674D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ленистоногое с шестью конечностями и телом, разделенным на три отде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лову, грудь и брюшко, называется насекомым. Известно более миллиона видов насекомых, населяющих все среды обитания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826920" y="1671480"/>
            <a:ext cx="792180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F81B-5E34-4259-8BF1-0B8FDE55AD9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Анатомия насекомых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груди насекомого имеются три пары конечностей и две пары крыльев (насекомы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ственные беспозвоночные, которые умеют летать). В брюшке расположено сердце, пищеварительные и половые органы. На голове находятся глаза и усики, а также ро­товой аппарат, который может иметь разную форму в зависимости о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го, чем насекомое питается. Губчатый или трубчатый ротовой аппарат приспособлен для всасывания жидкой пищи, а крепкие че­люсти нужны, чтобы крошить добыч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17F4-3703-484F-B11F-711EB7ED76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ротового аппа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395280" y="2133720"/>
            <a:ext cx="83534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6B7B-91D9-4C6D-B1B4-3D35A0E7A1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Линь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сеница выползает из своей старой шкур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превратиться во взрослую особь, молодое насекомое вынуждено линять - сбрасывать свой твердый наружный скел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нескольку раз в течение жизни. Под стары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зуется новый; когда насекомое готово к линьке, старый покров лопается, и насекомое выбирается наружу. У некоторых личинок насекомых, например, у гусениц, наружные оболочки мягкие. Гусеницы тоже линяют несколько раз, пока не станут взрослыми и у них не образуется твердый наружны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елет, как у бабочек и мол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417672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53E-0A2F-42F6-A68A-E2B31D43D66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рганы чувст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 насекомых и пауков есть усики и маленькие чувствительные волоски, которыми они различают запахи, вкус, вибрации и звуки. У большинства есть глаза, но, чтобы ориентироваться в окружающей среде, зрение для них менее важно, чем для н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825D-D01B-44F1-A12A-98E0DD26D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ус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ики помогают насекомым ориентироваться в окружающей среде. Они чувствительны к прикосновениям и вибрациям, а также к переносимым по воздуху запахам. У некоторых усиков имеются многочисленные боковые отростки, которые увеличивают поверхность, покрытую чувствительными ячейками и волосками. У паукообразных нет усиков, но их функции выполняют волоски, покрывающие те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3280" y="3573360"/>
            <a:ext cx="17701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659640" y="3573360"/>
            <a:ext cx="2327040" cy="2637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5651640" y="1052640"/>
            <a:ext cx="2592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23D1-48FB-4914-B5D4-5DAEAEA8E1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оги и движ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секомые и пауки используют свои членистые ноги для прыганья, хождения, бега и для многих других целей. У сверчков, например, на коленях рас-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ожены уши, а самцы кузнечиков «поют» песни самкам, потирая крылья задними конечност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E08DC-414A-4A36-AB6F-CD611A8C30B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ипы но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38163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ги насекомых различаются в соответствии с их использованием. У таракана длинные тонкие конечности приспособлены для бега, а медведка своими широкими мощными ногами роет землю. Водяные жуки плавают в воде, отталкиваясь своими похожими на весла ногами, окаймленными волосками, а волоски на ногах пчелы собирают пыль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516720" y="1557360"/>
            <a:ext cx="2347920" cy="3600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4211640" y="1268280"/>
            <a:ext cx="22273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02:52:47Z</dcterms:created>
  <dc:creator>Temp</dc:creator>
  <dc:description/>
  <dc:language>en-US</dc:language>
  <cp:lastModifiedBy>Азат</cp:lastModifiedBy>
  <dcterms:modified xsi:type="dcterms:W3CDTF">2011-02-20T13:12:20Z</dcterms:modified>
  <cp:revision>9</cp:revision>
  <dc:subject/>
  <dc:title>НАСЕКОМЫЕ</dc:title>
</cp:coreProperties>
</file>