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F8F9-8761-44AE-AEC0-B6812D836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A7C8-1DAF-404D-BB18-979FC41C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3F73-709C-4AD0-B7BF-54ED20570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5777-A799-4C22-8CDC-3A2B99BD0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2ADC-C4B3-4007-9E10-F7F8AF20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C110-0D8D-4CB9-8F90-F6396736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B296-627F-462D-8EBC-62CBAEA3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E12C-DE9B-4B3A-A230-A90A14F0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2E5B-9577-4D25-AEB9-27763F2F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BB6A-12EE-45F6-85EF-242FD73A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36E2-E6B0-42CA-B9AF-09B2EC61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09B9-6BF0-4819-9548-89188FB1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97AB-1F0A-4F8E-90D1-C77289F78E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A919-D7C2-4ED2-9EAD-FFC8A132FD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НАСЕКОМЫ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D9AD-CD4A-4F25-8A38-FABBFDEEA4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ечности для хва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ногих насекомых имеются хватательные конечности, которые используют для борьбы с соперниками или для ловчи добычи. Сильными передними конечностями богомол крепко держит добычу, когда её поед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3"/>
          <p:cNvPicPr/>
          <p:nvPr/>
        </p:nvPicPr>
        <p:blipFill>
          <a:blip r:embed="rId1"/>
          <a:stretch/>
        </p:blipFill>
        <p:spPr>
          <a:xfrm>
            <a:off x="4865760" y="1600200"/>
            <a:ext cx="3601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B74B-9E31-44D8-BA6E-A1649E016A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ожные нож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обно другим насекомым, гусеницы имеют три пары ног на груди. Кроме того, у них есть пять пар ложных ножек на брюшке. Эти ложные ножки представляют собой четыре пары брюшных мускульных выростов с маленькими крючками на концах и пару анальных ножек, снабженных присосками. Брюшные ножки и присоски помогают гусеницам прицепляться к листьям и стебл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332000" y="3500280"/>
            <a:ext cx="691344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72DF-3B3D-4FDD-9FBD-159F21844A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ылья и по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укообразные не умеют летать, а насекомые умеют. Способность летать позволяет им спасаться от хищников и совершать дальние путешествия в поисках пищи или партнера. У большинства насекомых имеются две пары крыльев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E528-17CC-4ACA-BDBC-21578AB89E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дкрылья</a:t>
            </a: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дние крылья жуков, например, майского жука, превратились в жесткие защитные чехлы для крыльев. Для полетов жуки пользуются только задними крыльями, которые спрятаны свернутыми под надкрыльями, пока не наступит время взлететь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3429000"/>
            <a:ext cx="24588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ие прозрачные крылья дают возможность достигать поразительно высокой скор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587640" y="2781000"/>
            <a:ext cx="22431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крылья поднимаются вверх и раздвигаются в стороны во время пол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Изображение 14 in Насек11 copy"/>
          <p:cNvPicPr/>
          <p:nvPr/>
        </p:nvPicPr>
        <p:blipFill>
          <a:blip r:embed="rId1"/>
          <a:stretch/>
        </p:blipFill>
        <p:spPr>
          <a:xfrm>
            <a:off x="2916360" y="3429000"/>
            <a:ext cx="3809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F2F2-3DA4-4B16-A8D4-B11C9BCB18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14716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сший пилотаж</a:t>
            </a:r>
            <a:br>
              <a:rPr sz="4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того чтобы быстро и ровно лететь, стрекозы машут четырьмя крыльями. А взмахивая попеременно то передними, то задними крыльями, они могут проделывать удивительные акробатические номера, быстро меняя направлена полета, неподвижно зависая в воздухе и даже летать задом напер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4220640"/>
            <a:ext cx="20988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лагодаря сети жилок крылья очень прочны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732720" y="4724280"/>
            <a:ext cx="19540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ышцы груди заставляют крылья подниматься и опускать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Untitled-2 copy"/>
          <p:cNvPicPr/>
          <p:nvPr/>
        </p:nvPicPr>
        <p:blipFill>
          <a:blip r:embed="rId1"/>
          <a:stretch/>
        </p:blipFill>
        <p:spPr>
          <a:xfrm>
            <a:off x="2843280" y="2708280"/>
            <a:ext cx="39448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074E-4F2E-4866-BB99-0CF438F382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Жужжальца мух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ух задние крылья превращены в небольшие булавовидные придат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жжальца. Во время полета они поднимаются и опускаются, создавая противовес основным крыльям. Жужжальца служат стабилизаторами полета и ролями. Без них муха не могла бы лет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4861080" y="1557360"/>
            <a:ext cx="38750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B6D4-40AE-4B3B-A214-3B11FC67F0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ленистоногое с шестью конечностями и телом, разделенным на три отдел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лову, грудь и брюшко, называется насекомым. Известно более миллиона видов насекомых, населяющих все среды обитани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26920" y="1671480"/>
            <a:ext cx="792180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3A36-B269-4B8D-8985-1B3C07F5A3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натомия насекомых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груди насекомого имеются три пары конечностей и две пары крыльев (насекомы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ственные беспозвоночные, которые умеют летать). В брюшке расположено сердце, пищеварительные и половые органы. На голове находятся глаза и усики, а также ро­товой аппарат, который может иметь разную форму в зависимости о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го, чем насекомое питается. Губчатый или трубчатый ротовой аппарат приспособлен для всасывания жидкой пищи, а крепкие че­люсти нужны, чтобы крошить добыч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F9F0-E34E-48C3-95D5-2CBE05707D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ротового аппар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95280" y="2133720"/>
            <a:ext cx="83534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B5B3-DCEE-47F7-86CD-6771F20D90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инь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сеница выползает из своей старой шкур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превратиться во взрослую особь, молодое насекомое вынуждено линять - сбрасывать свой твердый наружный скеле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нескольку раз в течение жизни. Под стары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елет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уется новый; когда насекомое готово к линьке, старый покров лопается, и насекомое выбирается наружу. У некоторых личинок насекомых, например, у гусениц, наружные оболочки мягкие. Гусеницы тоже линяют несколько раз, пока не станут взрослыми и у них не образуется твердый наружны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елет, как у бабочек и мо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417672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87F9-8B9B-42BA-B8B9-659DDDC21A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рганы чув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насекомых и пауков есть усики и маленькие чувствительные волоски, которыми они различают запахи, вкус, вибрации и звуки. У большинства есть глаза, но, чтобы ориентироваться в окружающей среде, зрение для них менее важно, чем для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249F-A11E-43E4-9E80-59343982DF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ус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ики помогают насекомым ориентироваться в окружающей среде. Они чувствительны к прикосновениям и вибрациям, а также к переносимым по воздуху запахам. У некоторых усиков имеются многочисленные боковые отростки, которые увеличивают поверхность, покрытую чувствительными ячейками и волосками. У паукообразных нет усиков, но их функции выполняют волоски, покрывающие те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643280" y="3573360"/>
            <a:ext cx="1770120" cy="2519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6659640" y="3573360"/>
            <a:ext cx="2327040" cy="2637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5651640" y="1052640"/>
            <a:ext cx="259236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340C-0638-4CCF-870A-6D4748207B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ги и дви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секомые и пауки используют свои членистые ноги для прыганья, хождения, бега и для многих других целей. У сверчков, например, на коленях рас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ожены уши, а самцы кузнечиков «поют» песни самкам, потирая крылья задними конечностям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21E4-0C05-4606-A856-24B890EB6C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н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38163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ги насекомых различаются в соответствии с их использованием. У таракана длинные тонкие конечности приспособлены для бега, а медведка своими широкими мощными ногами роет землю. Водяные жуки плавают в воде, отталкиваясь своими похожими на весла ногами, окаймленными волосками, а волоски на ногах пчелы собирают пыль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516720" y="1557360"/>
            <a:ext cx="2347920" cy="3600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4211640" y="1268280"/>
            <a:ext cx="22273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02:52:47Z</dcterms:created>
  <dc:creator>Temp</dc:creator>
  <dc:description/>
  <dc:language>en-US</dc:language>
  <cp:lastModifiedBy>Азат</cp:lastModifiedBy>
  <dcterms:modified xsi:type="dcterms:W3CDTF">2011-02-20T13:12:20Z</dcterms:modified>
  <cp:revision>9</cp:revision>
  <dc:subject/>
  <dc:title>НАСЕКОМЫЕ</dc:title>
</cp:coreProperties>
</file>