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1F0-3B00-4A28-9A6D-AA43C885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265-1958-4756-837C-1F51674B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D5C-4485-4F88-A69C-ACF7F980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9E5-739B-4616-AD5A-5DD924CC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973-5CF1-4CA2-8EE2-B74B22DC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3BAE-68AD-46B8-9A7D-C5EDBA67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9FE-6DB9-4857-860B-C6BEEBE8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A650-6A76-4C00-BAF6-303273CA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D19-C1EC-4EF0-9F0F-104CA51B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F28-D5E5-4810-8440-7DB62110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EF6-B695-4907-B230-15971D4D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69D-FE47-4B67-9DAB-ADE1EEAF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3953-153B-4A11-AA41-586B914C68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49CC-3D29-421C-9917-CA3C952DDF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46E9-3BB3-4713-9DB3-E875FA6A9A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36FE-DCD9-404B-B03F-107246D6D5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BAF4-4D0D-4178-A45E-C9B6001E0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4359-A39C-4F46-B8DD-37B53D080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28EB-CEE5-458E-BBCC-5F177BB78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0A72-7687-4FD6-B846-AA8FFEA761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BB81-A25B-4B23-83B1-B412C888D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FE36-A428-40AD-9823-40FE7B2F9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C9E3-1F24-406E-9C42-F9BDC086D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F564-3F43-4EF9-9FCF-2F28FF145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EC4B-C5A6-44CD-B672-C4F51520E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4AC8-12F9-4880-89BE-06B0D9CCC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9F94-F9D6-4D6F-9DE5-17D52C034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9BFD-EF83-49E6-A2F0-EFEA1A509E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Азат</cp:lastModifiedBy>
  <dcterms:modified xsi:type="dcterms:W3CDTF">2011-02-20T13:12:20Z</dcterms:modified>
  <cp:revision>9</cp:revision>
  <dc:subject/>
  <dc:title>НАСЕКОМЫЕ</dc:title>
</cp:coreProperties>
</file>