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7D4D-369A-4919-A23B-04435C184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FE59-1E43-4591-840C-4F026080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8BC1-3457-41D4-AEB5-3052FD3C9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DB0C-1AD8-44E2-948A-18D1B5605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C83A-FA37-420D-8EB3-83687149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C05B-36DE-4259-BE39-9DF53F61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A553-E261-4240-BA67-F126830F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2189-32CE-4C0F-AA79-45CEC09D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EB3F-992B-4780-A216-81888226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A5F9-97EC-4B15-9EEE-C523EF39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8D2E-CDD5-48C3-BE2A-0EF0612D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D4B5-484D-4230-90CC-581E0A02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1D5E-FF76-4012-9D91-03CB1C059D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7051-815D-4C28-91A7-BD598F8D9C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НАСЕКОМ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A7B8-29A9-4DAA-A1E2-8A5A835F48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ечности для хва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ногих насекомых имеются хватательные конечности, которые используют для борьбы с соперниками или для ловчи добычи. Сильными передними конечностями богомол крепко держит добычу, когда её поед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3"/>
          <p:cNvPicPr/>
          <p:nvPr/>
        </p:nvPicPr>
        <p:blipFill>
          <a:blip r:embed="rId1"/>
          <a:stretch/>
        </p:blipFill>
        <p:spPr>
          <a:xfrm>
            <a:off x="4865760" y="1600200"/>
            <a:ext cx="3601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C4C0-1D94-478A-BA08-E671143FD0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ожные нож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обно другим насекомым, гусеницы имеют три пары ног на груди. Кроме того, у них есть пять пар ложных ножек на брюшке. Эти ложные ножки представляют собой четыре пары брюшных мускульных выростов с маленькими крючками на концах и пару анальных ножек, снабженных присосками. Брюшные ножки и присоски помогают гусеницам прицепляться к листьям и стебл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332000" y="3500280"/>
            <a:ext cx="691344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0E0C-B3A3-4ED0-AE0B-097CB5E929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ылья и по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укообразные не умеют летать, а насекомые умеют. Способность летать позволяет им спасаться от хищников и совершать дальние путешествия в поисках пищи или партнера. У большинства насекомых имеются две пары крыльев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B036-6962-45F6-9E60-375FE06DF7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дкрылья</a:t>
            </a: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дние крылья жуков, например, майского жука, превратились в жесткие защитные чехлы для крыльев. Для полетов жуки пользуются только задними крыльями, которые спрятаны свернутыми под надкрыльями, пока не наступит время взлететь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3429000"/>
            <a:ext cx="24588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ие прозрачные крылья дают возможность достигать поразительно высокой скор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587640" y="2781000"/>
            <a:ext cx="22431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крылья поднимаются вверх и раздвигаются в стороны во время пол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Изображение 14 in Насек11 copy"/>
          <p:cNvPicPr/>
          <p:nvPr/>
        </p:nvPicPr>
        <p:blipFill>
          <a:blip r:embed="rId1"/>
          <a:stretch/>
        </p:blipFill>
        <p:spPr>
          <a:xfrm>
            <a:off x="2916360" y="3429000"/>
            <a:ext cx="3809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2FEC-D937-40FC-9BBF-3C7E5A7332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14716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сший пилотаж</a:t>
            </a: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того чтобы быстро и ровно лететь, стрекозы машут четырьмя крыльями. А взмахивая попеременно то передними, то задними крыльями, они могут проделывать удивительные акробатические номера, быстро меняя направлена полета, неподвижно зависая в воздухе и даже летать задом напер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4220640"/>
            <a:ext cx="20988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лагодаря сети жилок крылья очень прочны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732720" y="4724280"/>
            <a:ext cx="19540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ышцы груди заставляют крылья подниматься и опускать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Untitled-2 copy"/>
          <p:cNvPicPr/>
          <p:nvPr/>
        </p:nvPicPr>
        <p:blipFill>
          <a:blip r:embed="rId1"/>
          <a:stretch/>
        </p:blipFill>
        <p:spPr>
          <a:xfrm>
            <a:off x="2843280" y="2708280"/>
            <a:ext cx="39448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B2DB-D123-4C2D-A9DF-0FDA491C6D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Жужжальца мух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ух задние крылья превращены в небольшие булавовидные придат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жжальца. Во время полета они поднимаются и опускаются, создавая противовес основным крыльям. Жужжальца служат стабилизаторами полета и ролями. Без них муха не могла бы лет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4861080" y="1557360"/>
            <a:ext cx="38750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57CE-CD14-4CBF-B6BF-17EAEDD8E3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ленистоногое с шестью конечностями и телом, разделенным на три отдел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ову, грудь и брюшко, называется насекомым. Известно более миллиона видов насекомых, населяющих все среды обитани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26920" y="1671480"/>
            <a:ext cx="792180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BA8F-4A4F-4D74-B466-2ADD098D61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натомия насекомых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груди насекомого имеются три пары конечностей и две пары крыльев (насекомы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ственные беспозвоночные, которые умеют летать). В брюшке расположено сердце, пищеварительные и половые органы. На голове находятся глаза и усики, а также ро­товой аппарат, который может иметь разную форму в зависимости о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го, чем насекомое питается. Губчатый или трубчатый ротовой аппарат приспособлен для всасывания жидкой пищи, а крепкие че­люсти нужны, чтобы крошить добыч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8715-6D71-45ED-A886-0AD4C3AC83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ротового аппар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95280" y="2133720"/>
            <a:ext cx="83534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181B-2D51-4EC3-BA56-FCF060388C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инь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сеница выползает из своей старой шкур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превратиться во взрослую особь, молодое насекомое вынуждено линять - сбрасывать свой твердый наружный скеле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нескольку раз в течение жизни. Под стары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елет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уется новый; когда насекомое готово к линьке, старый покров лопается, и насекомое выбирается наружу. У некоторых личинок насекомых, например, у гусениц, наружные оболочки мягкие. Гусеницы тоже линяют несколько раз, пока не станут взрослыми и у них не образуется твердый наружны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елет, как у бабочек и мо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417672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6DB7-C382-4117-8847-AD9528AC96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рганы чув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насекомых и пауков есть усики и маленькие чувствительные волоски, которыми они различают запахи, вкус, вибрации и звуки. У большинства есть глаза, но, чтобы ориентироваться в окружающей среде, зрение для них менее важно, чем для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2BA3-4802-4731-AD65-CB94549F17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ус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ики помогают насекомым ориентироваться в окружающей среде. Они чувствительны к прикосновениям и вибрациям, а также к переносимым по воздуху запахам. У некоторых усиков имеются многочисленные боковые отростки, которые увеличивают поверхность, покрытую чувствительными ячейками и волосками. У паукообразных нет усиков, но их функции выполняют волоски, покрывающие т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643280" y="3573360"/>
            <a:ext cx="1770120" cy="2519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6659640" y="3573360"/>
            <a:ext cx="2327040" cy="2637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5651640" y="1052640"/>
            <a:ext cx="25923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F9B3-DBD7-426C-ABC7-A9264B28F5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ги и дви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секомые и пауки используют свои членистые ноги для прыганья, хождения, бега и для многих других целей. У сверчков, например, на коленях рас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ожены уши, а самцы кузнечиков «поют» песни самкам, потирая крылья задними конечностям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D599-F916-4C06-A82C-BDF04635A5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н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38163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ги насекомых различаются в соответствии с их использованием. У таракана длинные тонкие конечности приспособлены для бега, а медведка своими широкими мощными ногами роет землю. Водяные жуки плавают в воде, отталкиваясь своими похожими на весла ногами, окаймленными волосками, а волоски на ногах пчелы собирают пыль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516720" y="1557360"/>
            <a:ext cx="2347920" cy="3600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4211640" y="1268280"/>
            <a:ext cx="22273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02:52:47Z</dcterms:created>
  <dc:creator>Temp</dc:creator>
  <dc:description/>
  <dc:language>en-US</dc:language>
  <cp:lastModifiedBy>Азат</cp:lastModifiedBy>
  <dcterms:modified xsi:type="dcterms:W3CDTF">2011-02-20T13:12:20Z</dcterms:modified>
  <cp:revision>9</cp:revision>
  <dc:subject/>
  <dc:title>НАСЕКОМЫЕ</dc:title>
</cp:coreProperties>
</file>