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8F5-BFC5-473E-8C74-FFE8BABF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93E-F50C-45BD-BBE7-79A1AF9D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FB7-3147-47D0-874B-B2D5A48C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B0A-38F0-41E3-BEE1-5AB5B4E9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20E-E8C0-471F-AEB8-545E37FC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B1D-1439-4577-B708-17675965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2F3-8580-4781-86C1-C17DBF2D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88A-3A9C-4145-9F2E-B60BA69C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9E8-A6AB-455C-9143-BFD1BFE7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BD4-654A-4C6D-AA38-8AADA4AE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3ED-734C-4738-ACEE-02082F32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AA4-6EC0-454A-9178-12D63E50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A3D5-864C-4B5B-8829-FA18C4C02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5D9D-FD68-46D7-AB64-2132B3366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51CF-06C3-4286-8248-2E2F6C41C1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1C85-FFF5-44D5-8D02-99F71B0B2E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C618-0F81-4A5B-BF8E-3791A56054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9375-B7B4-4431-9301-9A4882675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9955-77A1-4DA4-A4F3-AB002D0638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2735-15D5-4165-860C-CE10A9586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8CED-4977-4B8B-8F06-F5A1ED3701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512A-7654-42DD-924B-FA2FC2EE7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A31F-BE23-41E9-ADD0-8D967F8237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4777-B900-4C7C-AEC1-8FC0D95B5C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E5D6-4124-477A-9D82-2A41013A1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3B4D-EB51-443E-9A50-2C47824289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D52B-148B-4574-AE43-1E5E116A3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F11E-93E1-40F0-B12A-004977F23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Азат</cp:lastModifiedBy>
  <dcterms:modified xsi:type="dcterms:W3CDTF">2011-02-20T13:12:20Z</dcterms:modified>
  <cp:revision>9</cp:revision>
  <dc:subject/>
  <dc:title>НАСЕКОМЫЕ</dc:title>
</cp:coreProperties>
</file>