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178-5F3B-4155-9C82-0F645EEC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B01-22F4-4D96-9A63-0E7A7FD6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C46-734A-4D3D-A21C-8025EE3A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7CF-B627-4460-A9D6-A3905772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3B05-AC1B-4204-8553-703EAD73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B3D2-44CC-407D-82E5-73CD9AE5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AB97-DBBF-4E29-A11C-D4DCF4A0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9D62-F0C5-4AFA-A855-50B4C5B3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3B11-6CE4-4F14-99FD-D090F2F7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BFA1-D034-4145-9111-9AA3AE63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43EE-6883-4A35-BA16-D3EA1C6D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C79-2034-4A95-997E-C96C2C38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2838-A047-4BFD-A8F6-D59FE5F4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D532-D0C1-455C-BE63-0C581D2C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A3B2-2821-40EC-BF43-E2878F1A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51A3-2D13-4402-93FA-EDD13F44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44D5-AE28-4486-B1E4-B16407E3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5E6-F2E7-4045-9D03-0BD0C163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263-6FB9-44A3-9C1B-0486AF4D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580-6B0E-405C-998A-9068D2AE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34A-1158-46DA-BE50-65047890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B95-17D3-4E8A-8CA3-1BB65CB0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320-3410-42AA-92AF-3B7B01AE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221-E885-467A-BBA6-32039B53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76A6-53FB-44A3-9795-07F70E255F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4ED2-F279-483F-9ADC-B7CCC4EDF1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74872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Атеросклероз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Эффекты ЛНП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судистый тону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омб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ритр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тромбогенная активность стенки сосуд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йк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лиферация ГМ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60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о-культур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ребление высококалорийной, богатой насыщенными жирами и холестерином пищ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дячий образ жизн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рвный стр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утренние факторы рис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риальная гипертенз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перхолестеринем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толерантности к углевод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жир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ягощенная наследствен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425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обратимые – возраст, мужской пол, генетическая предрасположеннос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братимые – курение, ГБ, Ожирени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астично обратимые – гиперлипидемия, гипергликемия, низкий уровень ЛВП, низкая физическая активность, стресс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Патологическая анатомия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нние атеросклеротические изменения в интим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ировые поражения интимы (жировая полоса, липофиброзная бляшк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иброзная бля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8280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Основные патогенетические механизмы обострения атеросклероза: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лабление фиброзной оболочки бляшки и её разры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пропорционально большое липидное ядр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омбообразование в месте разрыва капсулы бляшки или на дефекте эндотелия при выраженном стеноз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функция эндотелия (локальная и генерализован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ффузная воспалительная реак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0" y="2590920"/>
            <a:ext cx="6906960" cy="155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6160" y="2263680"/>
            <a:ext cx="92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83760" y="2016000"/>
            <a:ext cx="1393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сло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9800" y="2016000"/>
            <a:ext cx="151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броз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15800" y="1768320"/>
            <a:ext cx="13579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еро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леротич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73440" y="1521000"/>
            <a:ext cx="13626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ыв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и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ещина 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омбо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1320" y="2754360"/>
            <a:ext cx="41256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46280" y="2754360"/>
            <a:ext cx="4111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79800" y="2754360"/>
            <a:ext cx="4129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18240" y="22096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3171960"/>
            <a:ext cx="175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шем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нсульт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4038480"/>
            <a:ext cx="144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Терми-нальная ишемия н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620000">
            <a:off x="6751440" y="2378160"/>
            <a:ext cx="866520" cy="496800"/>
          </a:xfrm>
          <a:prstGeom prst="rightArrow">
            <a:avLst>
              <a:gd name="adj1" fmla="val 50000"/>
              <a:gd name="adj2" fmla="val 4434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1002400">
            <a:off x="6889320" y="3084480"/>
            <a:ext cx="1125720" cy="496800"/>
          </a:xfrm>
          <a:prstGeom prst="rightArrow">
            <a:avLst>
              <a:gd name="adj1" fmla="val 50000"/>
              <a:gd name="adj2" fmla="val 57614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33000">
            <a:off x="6824160" y="3886200"/>
            <a:ext cx="1168560" cy="496800"/>
          </a:xfrm>
          <a:prstGeom prst="rightArrow">
            <a:avLst>
              <a:gd name="adj1" fmla="val 50000"/>
              <a:gd name="adj2" fmla="val 59806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800" y="4267080"/>
            <a:ext cx="28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линически не про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45280" y="1703520"/>
            <a:ext cx="0" cy="5078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135200">
            <a:off x="6824160" y="4049280"/>
            <a:ext cx="498600" cy="1284480"/>
          </a:xfrm>
          <a:prstGeom prst="downArrow">
            <a:avLst>
              <a:gd name="adj1" fmla="val 50000"/>
              <a:gd name="adj2" fmla="val 65502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15960" y="5105520"/>
            <a:ext cx="2223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ердечно-сосуди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м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20640000">
            <a:off x="3286800" y="4200120"/>
            <a:ext cx="527040" cy="821880"/>
          </a:xfrm>
          <a:prstGeom prst="downArrow">
            <a:avLst>
              <a:gd name="adj1" fmla="val 50000"/>
              <a:gd name="adj2" fmla="val 39650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0" y="5943600"/>
            <a:ext cx="5321520" cy="304920"/>
          </a:xfrm>
          <a:prstGeom prst="rightArrow">
            <a:avLst>
              <a:gd name="adj1" fmla="val 50000"/>
              <a:gd name="adj2" fmla="val 130730"/>
            </a:avLst>
          </a:prstGeom>
          <a:gradFill rotWithShape="0">
            <a:gsLst>
              <a:gs pos="0">
                <a:srgbClr val="00fad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10520" y="6195960"/>
            <a:ext cx="26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величение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98400" y="4952880"/>
            <a:ext cx="3083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табильная стенор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еремежающая хром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080000">
            <a:off x="4290120" y="4200120"/>
            <a:ext cx="527400" cy="822600"/>
          </a:xfrm>
          <a:prstGeom prst="downArrow">
            <a:avLst>
              <a:gd name="adj1" fmla="val 50000"/>
              <a:gd name="adj2" fmla="val 39657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5280" y="2765520"/>
            <a:ext cx="412560" cy="423720"/>
          </a:xfrm>
          <a:prstGeom prst="rightArrow">
            <a:avLst>
              <a:gd name="adj1" fmla="val 50000"/>
              <a:gd name="adj2" fmla="val 50079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33080" y="2765520"/>
            <a:ext cx="411480" cy="423720"/>
          </a:xfrm>
          <a:prstGeom prst="rightArrow">
            <a:avLst>
              <a:gd name="adj1" fmla="val 50000"/>
              <a:gd name="adj2" fmla="val 50060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13450800">
            <a:off x="7043040" y="1536840"/>
            <a:ext cx="380880" cy="1053720"/>
          </a:xfrm>
          <a:prstGeom prst="downArrow">
            <a:avLst>
              <a:gd name="adj1" fmla="val 50000"/>
              <a:gd name="adj2" fmla="val 70342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08640" y="1068480"/>
            <a:ext cx="124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естаби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ая сте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92960" y="1600200"/>
            <a:ext cx="100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77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КС- острый коронарный синдром; ПНК - преходящее нарушение кровообращ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9760" y="243000"/>
            <a:ext cx="87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Атеротромбоз: генерализованный и прогрессирующи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211400"/>
            <a:ext cx="8115120" cy="549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74000" y="24444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ГРЕГАЦИЯ ТРОМБОЦ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04920"/>
            <a:ext cx="820908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Множественная </a:t>
            </a:r>
            <a:r>
              <a:rPr b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модификация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ЛНП – это каскад последовательных в частице липопротеида: десиалирование, потеря липидов, уменьшение размера частицы, увеличение электроотрицательного заряда, перекисное окисление липид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Агрегация цмЛНП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утоантител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мплемент и фибронект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ебрис, коллаген, эластин и протеинглика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23:48Z</dcterms:created>
  <dc:creator>OKB</dc:creator>
  <dc:description/>
  <dc:language>en-US</dc:language>
  <cp:lastModifiedBy>OKB</cp:lastModifiedBy>
  <dcterms:modified xsi:type="dcterms:W3CDTF">2005-11-23T19:56:11Z</dcterms:modified>
  <cp:revision>5</cp:revision>
  <dc:subject/>
  <dc:title>Атеросклероз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 </dc:title>
</cp:coreProperties>
</file>