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9EA-60AF-473C-8942-6DD6C9F8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962-525E-4455-B0E0-8815E7C3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9BF-3D2E-4D48-B603-8023C117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FF0-6F62-4E21-8053-701626E3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BA62-FCA8-4795-B4A8-4D167BA0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7048-9E02-4D23-9060-B1730E6B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9FAE-556A-4366-8B4F-7868F8D0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5FB2-6389-4184-8D16-2578E018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BE4D-D1AA-4A3D-A746-2B974BF4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7DEF-0B46-44CA-B85A-C9A8F5BE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A6CE-1D0B-4D51-A593-EFE350B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FF6-1859-45B9-AAE7-727B6174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DF79-C1D9-41A9-B78D-3E8E778E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4C43-A7F3-4A82-8BA4-970A4C95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D2EF-548F-4CD7-965E-D8C79CA9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8277-A7CA-467D-B5A4-38A0461C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AEC0-B603-4F87-ABA7-45491617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DF0-370F-47F4-A067-083DF5EA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FEC-C077-4E2C-8950-A393A456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15E-C9A0-40FC-9F06-C36DF19C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F00-DC73-4640-82F1-C8AE42CC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51B-AF76-416A-BF3F-060C280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639-98D0-41FA-BCE7-0AD6875F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15E-7EFD-4530-BE25-7D7FDD30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90DE-CF02-4059-800D-5BF5491A83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AEFB-B538-4166-A3B5-62503262980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Атеросклеро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Эффекты ЛНП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судистый тону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мб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ритр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тромбогенная активность стенки сосуд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йк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лиферация ГМ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-культур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ребление высококалорийной, богатой насыщенными жирами и холестерином пи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чий образ жиз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вный ст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утренние факторы рис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гипертенз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перхолестеринем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олерантности к углевод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жир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ягощенная наслед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425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обратимые – возраст, мужской пол, генетическая предрасположен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тимые – курение, ГБ, Ожире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астично обратимые – гиперлипидемия, гипергликемия, низкий уровень ЛВП, низкая физическая активность, стресс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Патологическая анатом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нние атеросклеротические изменения в интим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ировые поражения интимы (жировая полоса, липофиброзная бляшк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иброзная бля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Основные патогенетические механизмы обострения атеросклероза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лабление фиброзной оболочки бляшки и её разры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ропорционально большое липидное ядр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омбообразование в месте разрыва капсулы бляшки или на дефекте эндотелия при выраженном стеноз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я эндотелия (локальная и генерализова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ффузная воспалительная реак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0" y="2590920"/>
            <a:ext cx="6906960" cy="155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6160" y="2263680"/>
            <a:ext cx="92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83760" y="2016000"/>
            <a:ext cx="1393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сло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800" y="2016000"/>
            <a:ext cx="151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броз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15800" y="1768320"/>
            <a:ext cx="1357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еро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лероти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3440" y="1521000"/>
            <a:ext cx="13626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ы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и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щина 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мб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1320" y="2754360"/>
            <a:ext cx="41256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6280" y="2754360"/>
            <a:ext cx="4111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9800" y="2754360"/>
            <a:ext cx="4129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18240" y="2209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17196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ше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нсульт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0384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Терми-нальная ишемия н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620000">
            <a:off x="6751440" y="2378160"/>
            <a:ext cx="866520" cy="496800"/>
          </a:xfrm>
          <a:prstGeom prst="rightArrow">
            <a:avLst>
              <a:gd name="adj1" fmla="val 50000"/>
              <a:gd name="adj2" fmla="val 4434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02400">
            <a:off x="6889320" y="3084480"/>
            <a:ext cx="1125720" cy="496800"/>
          </a:xfrm>
          <a:prstGeom prst="rightArrow">
            <a:avLst>
              <a:gd name="adj1" fmla="val 50000"/>
              <a:gd name="adj2" fmla="val 57614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33000">
            <a:off x="6824160" y="3886200"/>
            <a:ext cx="1168560" cy="496800"/>
          </a:xfrm>
          <a:prstGeom prst="rightArrow">
            <a:avLst>
              <a:gd name="adj1" fmla="val 50000"/>
              <a:gd name="adj2" fmla="val 59806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00" y="4267080"/>
            <a:ext cx="28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линически не про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5280" y="1703520"/>
            <a:ext cx="0" cy="5078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35200">
            <a:off x="6824160" y="4049280"/>
            <a:ext cx="498600" cy="1284480"/>
          </a:xfrm>
          <a:prstGeom prst="downArrow">
            <a:avLst>
              <a:gd name="adj1" fmla="val 50000"/>
              <a:gd name="adj2" fmla="val 65502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15960" y="5105520"/>
            <a:ext cx="222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ердечно-сосуд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20640000">
            <a:off x="3286800" y="4200120"/>
            <a:ext cx="527040" cy="821880"/>
          </a:xfrm>
          <a:prstGeom prst="downArrow">
            <a:avLst>
              <a:gd name="adj1" fmla="val 50000"/>
              <a:gd name="adj2" fmla="val 3965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0" y="5943600"/>
            <a:ext cx="5321520" cy="304920"/>
          </a:xfrm>
          <a:prstGeom prst="rightArrow">
            <a:avLst>
              <a:gd name="adj1" fmla="val 50000"/>
              <a:gd name="adj2" fmla="val 130730"/>
            </a:avLst>
          </a:prstGeom>
          <a:gradFill rotWithShape="0">
            <a:gsLst>
              <a:gs pos="0">
                <a:srgbClr val="00fad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0520" y="6195960"/>
            <a:ext cx="26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величение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98400" y="4952880"/>
            <a:ext cx="308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бильная стенор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еремежающая хро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080000">
            <a:off x="4290120" y="4200120"/>
            <a:ext cx="527400" cy="822600"/>
          </a:xfrm>
          <a:prstGeom prst="downArrow">
            <a:avLst>
              <a:gd name="adj1" fmla="val 50000"/>
              <a:gd name="adj2" fmla="val 3965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5280" y="2765520"/>
            <a:ext cx="412560" cy="423720"/>
          </a:xfrm>
          <a:prstGeom prst="rightArrow">
            <a:avLst>
              <a:gd name="adj1" fmla="val 50000"/>
              <a:gd name="adj2" fmla="val 50079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33080" y="2765520"/>
            <a:ext cx="411480" cy="423720"/>
          </a:xfrm>
          <a:prstGeom prst="rightArrow">
            <a:avLst>
              <a:gd name="adj1" fmla="val 50000"/>
              <a:gd name="adj2" fmla="val 50060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3450800">
            <a:off x="7043040" y="1536840"/>
            <a:ext cx="380880" cy="1053720"/>
          </a:xfrm>
          <a:prstGeom prst="downArrow">
            <a:avLst>
              <a:gd name="adj1" fmla="val 50000"/>
              <a:gd name="adj2" fmla="val 70342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8640" y="1068480"/>
            <a:ext cx="124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естаби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ая сте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2960" y="1600200"/>
            <a:ext cx="100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77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КС- острый коронарный синдром; ПНК - преходящее нарушение кровообращ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60" y="24300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Атеротромбоз: генерализованный и прогрессирующи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211400"/>
            <a:ext cx="8115120" cy="549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4000" y="2444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ГРЕГАЦИЯ ТРОМБ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820908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Множественная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модификация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ЛНП – это каскад последовательных в частице липопротеида: десиалирование, потеря липидов, уменьшение размера частицы, увеличение электроотрицательного заряда, перекисное окисление липи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Агрегация цмЛНП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утоантител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лемент и фибронек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брис, коллаген, эластин и протеинглика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23:48Z</dcterms:created>
  <dc:creator>OKB</dc:creator>
  <dc:description/>
  <dc:language>en-US</dc:language>
  <cp:lastModifiedBy>OKB</cp:lastModifiedBy>
  <dcterms:modified xsi:type="dcterms:W3CDTF">2005-11-23T19:56:11Z</dcterms:modified>
  <cp:revision>5</cp:revision>
  <dc:subject/>
  <dc:title>Атеросклероз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 </dc:title>
</cp:coreProperties>
</file>