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333D-99D0-4C25-9D55-47584A13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5775-D9A6-4A71-93BE-058ECF610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A43-BFD9-4BA0-87BF-136C8BBCA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BE52-0A4E-47AD-837D-70543A132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389F9-C59E-47FA-B281-9991D497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1982-2505-4CDE-AB26-0D0301E14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CFA50-6C1C-478D-AB5D-C7737F31C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853C0-25B4-404D-9D3F-A45FB4A93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56096-D5AD-47AD-84BD-6AA1929CF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B3FD1-5576-4726-A4D4-A853EF4F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56D8-681A-4C8B-AC90-285B9971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6560-13C8-45B3-A24D-C6C300ED4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8E29-4760-4A82-A134-7289D7CF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AD99A-12EC-4ABA-B088-EAEC33E6A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C744-CFA2-4399-A528-A09CD289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5CE7D-09C1-412C-B8AE-E56DDE8D3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CE854-9F23-44A6-A34F-3E0C3CAE0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30C1C-A3BE-4148-B706-100723919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DB61E-144D-48FB-92B1-E2AAD126F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1BA2-9CC6-4F4F-9176-8E96A16F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36E8-D236-41CA-AC6C-9BBD5281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81A-69CC-46E5-AC28-E828A283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D962-250E-42DE-9F6D-7D9E60FA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3B9-137E-4BF7-B904-036A591F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50E0-D614-4EBB-878F-4AFF20732D3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D70E-5D2C-43D0-9050-54EB1FA7E81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304560"/>
            <a:ext cx="8748720" cy="62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ffff"/>
                </a:solidFill>
                <a:uFillTx/>
                <a:latin typeface="Times New Roman"/>
              </a:rPr>
              <a:t>Атеросклероз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 – распространённое хроническое заболевание артерий эластического и мышечно-эластического типа (крупного и среднего калибра), характеризующееся инфильтрированием в стенку сосуда атерогенных апопротеин-в-содержащих липопротеинов с последующим развитием соединительной ткани, атероматозных бляшек, органных и общих расстройств кровообращения.</a:t>
            </a: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eaeaea"/>
                </a:solidFill>
                <a:uFillTx/>
                <a:latin typeface="Times New Roman"/>
              </a:rPr>
              <a:t>Эффекты ЛНП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сосудистый тонус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тромб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эритр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антитромбогенная активность стенки сосудов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лейкоциты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олиферация ГМК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ФАКТОРЫ РИСКА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604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оциально-культурны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требление высококалорийной, богатой насыщенными жирами и холестерином пищей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дячий образ жизни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рвный стресс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нутренние факторы риска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ртериальная гипертенз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гиперхолестеринемия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рушение толерантности к углеводам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жирение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ягощенная наследственность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941040" indent="-50652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руг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ФАКТОРЫ РИСКА: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9280" y="1980720"/>
            <a:ext cx="8425080" cy="47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Необратимые – возраст, мужской пол, генетическая предрасположенность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братимые – курение, ГБ, Ожирение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Частично обратимые – гиперлипидемия, гипергликемия, низкий уровень ЛВП, низкая физическая активность, стресс.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eaeaea"/>
                </a:solidFill>
                <a:uFillTx/>
                <a:latin typeface="Times New Roman"/>
              </a:rPr>
              <a:t>Патологическая анатомия</a:t>
            </a:r>
            <a:endParaRPr b="1" lang="en-US" sz="4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ранние атеросклеротические изменения в интиме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жировые поражения интимы (жировая полоса, липофиброзная бляшка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фиброзная бляшк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4000" y="304560"/>
            <a:ext cx="828036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eaeaea"/>
                </a:solidFill>
                <a:uFillTx/>
                <a:latin typeface="Times New Roman"/>
              </a:rPr>
              <a:t>Основные патогенетические механизмы обострения атеросклероза: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68360" y="1981080"/>
            <a:ext cx="8424720" cy="46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слабление фиброзной оболочки бляшки и её разрыв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епропорционально большое липидное ядро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тромбообразование в месте разрыва капсулы бляшки или на дефекте эндотелия при выраженном стенозе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сфункция эндотелия (локальная и генерализованная)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иффузная воспалительная реакция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7240" y="2590920"/>
            <a:ext cx="6906960" cy="15555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46160" y="2263680"/>
            <a:ext cx="92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орм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83760" y="2016000"/>
            <a:ext cx="139320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Жиров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ослой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629800" y="2016000"/>
            <a:ext cx="1516320" cy="5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Фиброзна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015800" y="1768320"/>
            <a:ext cx="135792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Атеро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клеротич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73440" y="1521000"/>
            <a:ext cx="136260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азрыв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бляшки/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ещина и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ромбо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111320" y="2754360"/>
            <a:ext cx="41256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46280" y="2754360"/>
            <a:ext cx="41112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979800" y="2754360"/>
            <a:ext cx="412920" cy="496800"/>
          </a:xfrm>
          <a:prstGeom prst="rightArrow">
            <a:avLst>
              <a:gd name="adj1" fmla="val 50000"/>
              <a:gd name="adj2" fmla="val 50088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518240" y="2209680"/>
            <a:ext cx="536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162920" y="3171960"/>
            <a:ext cx="17524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Ишеми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инсульт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4038480"/>
            <a:ext cx="14479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Терми-нальная ишемия но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9620000">
            <a:off x="6751440" y="2378160"/>
            <a:ext cx="866520" cy="496800"/>
          </a:xfrm>
          <a:prstGeom prst="rightArrow">
            <a:avLst>
              <a:gd name="adj1" fmla="val 50000"/>
              <a:gd name="adj2" fmla="val 44348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21002400">
            <a:off x="6889320" y="3084480"/>
            <a:ext cx="1125720" cy="496800"/>
          </a:xfrm>
          <a:prstGeom prst="rightArrow">
            <a:avLst>
              <a:gd name="adj1" fmla="val 50000"/>
              <a:gd name="adj2" fmla="val 57614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1833000">
            <a:off x="6824160" y="3886200"/>
            <a:ext cx="1168560" cy="496800"/>
          </a:xfrm>
          <a:prstGeom prst="rightArrow">
            <a:avLst>
              <a:gd name="adj1" fmla="val 50000"/>
              <a:gd name="adj2" fmla="val 59806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800" y="4267080"/>
            <a:ext cx="2808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Клинически не проявляет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45280" y="1703520"/>
            <a:ext cx="0" cy="507816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rot="19135200">
            <a:off x="6824160" y="4049280"/>
            <a:ext cx="498600" cy="1284480"/>
          </a:xfrm>
          <a:prstGeom prst="downArrow">
            <a:avLst>
              <a:gd name="adj1" fmla="val 50000"/>
              <a:gd name="adj2" fmla="val 65502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915960" y="5105520"/>
            <a:ext cx="22237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Сердечно-сосудист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смер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rot="20640000">
            <a:off x="3286800" y="4200120"/>
            <a:ext cx="527040" cy="821880"/>
          </a:xfrm>
          <a:prstGeom prst="downArrow">
            <a:avLst>
              <a:gd name="adj1" fmla="val 50000"/>
              <a:gd name="adj2" fmla="val 39650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3600" y="5943600"/>
            <a:ext cx="5321520" cy="304920"/>
          </a:xfrm>
          <a:prstGeom prst="rightArrow">
            <a:avLst>
              <a:gd name="adj1" fmla="val 50000"/>
              <a:gd name="adj2" fmla="val 130730"/>
            </a:avLst>
          </a:prstGeom>
          <a:gradFill rotWithShape="0">
            <a:gsLst>
              <a:gs pos="0">
                <a:srgbClr val="00fadc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10520" y="6195960"/>
            <a:ext cx="2629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Увеличение возрас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98400" y="4952880"/>
            <a:ext cx="30830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Стабильная стенорар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Перемежающая хром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rot="1080000">
            <a:off x="4290120" y="4200120"/>
            <a:ext cx="527400" cy="822600"/>
          </a:xfrm>
          <a:prstGeom prst="downArrow">
            <a:avLst>
              <a:gd name="adj1" fmla="val 50000"/>
              <a:gd name="adj2" fmla="val 39657"/>
            </a:avLst>
          </a:prstGeom>
          <a:gradFill rotWithShape="0">
            <a:gsLst>
              <a:gs pos="0">
                <a:srgbClr val="ffffff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45280" y="2765520"/>
            <a:ext cx="412560" cy="423720"/>
          </a:xfrm>
          <a:prstGeom prst="rightArrow">
            <a:avLst>
              <a:gd name="adj1" fmla="val 50000"/>
              <a:gd name="adj2" fmla="val 50079"/>
            </a:avLst>
          </a:prstGeom>
          <a:gradFill rotWithShape="0">
            <a:gsLst>
              <a:gs pos="0">
                <a:srgbClr val="00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933080" y="2765520"/>
            <a:ext cx="411480" cy="423720"/>
          </a:xfrm>
          <a:prstGeom prst="rightArrow">
            <a:avLst>
              <a:gd name="adj1" fmla="val 50000"/>
              <a:gd name="adj2" fmla="val 50060"/>
            </a:avLst>
          </a:prstGeom>
          <a:gradFill rotWithShape="0">
            <a:gsLst>
              <a:gs pos="0">
                <a:srgbClr val="ffffff"/>
              </a:gs>
              <a:gs pos="100000">
                <a:srgbClr val="00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1360" y="6248520"/>
            <a:ext cx="1896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149640" y="6248520"/>
            <a:ext cx="28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 rot="13450800">
            <a:off x="7043040" y="1536840"/>
            <a:ext cx="380880" cy="1053720"/>
          </a:xfrm>
          <a:prstGeom prst="downArrow">
            <a:avLst>
              <a:gd name="adj1" fmla="val 50000"/>
              <a:gd name="adj2" fmla="val 70342"/>
            </a:avLst>
          </a:prstGeom>
          <a:gradFill rotWithShape="0">
            <a:gsLst>
              <a:gs pos="0">
                <a:srgbClr val="ff33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 rot="10800000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08640" y="1068480"/>
            <a:ext cx="1248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Нестабиль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ная стен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кард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292960" y="1600200"/>
            <a:ext cx="1003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ОК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6477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"/>
              </a:rPr>
              <a:t>ОКС- острый коронарный синдром; ПНК - преходящее нарушение кровообращения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39760" y="243000"/>
            <a:ext cx="878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 Narrow"/>
              </a:rPr>
              <a:t>Атеротромбоз: генерализованный и прогрессирующий проц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3520" y="1211400"/>
            <a:ext cx="8115120" cy="54943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1674000" y="244440"/>
            <a:ext cx="6000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АГРЕГАЦИЯ ТРОМБОЦИТО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26560" y="304920"/>
            <a:ext cx="8209080" cy="62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Множественная </a:t>
            </a:r>
            <a:r>
              <a:rPr b="1" lang="ru-RU" sz="4400" spc="-1" strike="noStrike" u="sng">
                <a:solidFill>
                  <a:srgbClr val="eaeaea"/>
                </a:solidFill>
                <a:uFillTx/>
                <a:latin typeface="Times New Roman"/>
              </a:rPr>
              <a:t>модификация</a:t>
            </a:r>
            <a:r>
              <a:rPr b="1" lang="ru-RU" sz="4400" spc="-1" strike="noStrike">
                <a:solidFill>
                  <a:srgbClr val="eaeaea"/>
                </a:solidFill>
                <a:latin typeface="Times New Roman"/>
              </a:rPr>
              <a:t> ЛНП – это каскад последовательных в частице липопротеида: десиалирование, потеря липидов, уменьшение размера частицы, увеличение электроотрицательного заряда, перекисное окисление липидов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eaeaea"/>
                </a:solidFill>
                <a:uFillTx/>
                <a:latin typeface="Times New Roman"/>
              </a:rPr>
              <a:t>Агрегация цмЛНП:</a:t>
            </a: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Аутоантитела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Комплемент и фибронектин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ебрис, коллаген, эластин и протеинглика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8:23:48Z</dcterms:created>
  <dc:creator>OKB</dc:creator>
  <dc:description/>
  <dc:language>en-US</dc:language>
  <cp:lastModifiedBy>OKB</cp:lastModifiedBy>
  <dcterms:modified xsi:type="dcterms:W3CDTF">2005-11-23T19:56:11Z</dcterms:modified>
  <cp:revision>5</cp:revision>
  <dc:subject/>
  <dc:title>Атеросклероз – распространённое хроническое заболевание артерий эластического и мышечно-эластического типа (крупного и среднего калибра), характеризующееся инфильтрированием в стенку сосуда атерогенных апопротеин-в-содержащих липопротеинов с последующим развитием соединительной ткани, атероматозных бляшек, органных и общих расстройств кровообращения. </dc:title>
</cp:coreProperties>
</file>