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4F6-093A-4026-9574-F7EA0F46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4BD-32C4-414E-AB5F-59FA4DC2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0912-7AF1-4E44-9E4B-96BDFB48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B53-B0FB-4C1D-B91B-7DA21A27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4A02-66D2-4DBB-8325-3995DD96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0128-3BC0-4863-B287-92E25838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E8D9-F031-4941-B50C-E06794C8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30F2-623D-4F5B-8927-42E2BD1A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9125-8102-40C6-8792-929991D6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5E5C-1ED3-4ECD-9B27-128EF188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64AC-C699-4312-BB23-F70B57E1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895-62E3-4FE5-BF8C-6DD3F554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2479-8AA4-457B-A845-6C3357B0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24C4-6AB2-4719-B7D5-5E10B9B3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3DD2-2B4C-42D1-A4D4-3963B8C2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7DB1-E748-4285-AE69-69BB0930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9F2F-6803-4845-B9CC-34D6A76E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8F4-F631-4D69-9B25-BFA44D82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600-FC66-468A-A3A1-8E01DEAB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891-EC92-438B-8C28-1ABBB041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82F-FF96-4B2C-A57D-97511560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4D15-DAA5-4E2B-BD7E-0D4A7F36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75C-9A3D-4A90-9ACB-64E841BC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51F-7AFD-491D-88F1-54F1394C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07E5-0135-40B6-B71B-32C8919D6F6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F478-B7FA-4FCC-9B19-197B86D11FF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74872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Атеросклероз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eaeaea"/>
                </a:solidFill>
                <a:uFillTx/>
                <a:latin typeface="Times New Roman"/>
              </a:rPr>
              <a:t>Эффекты ЛНП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судистый тону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омб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ритр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титромбогенная активность стенки сосуд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йк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лиферация ГМ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60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ьно-культурны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ребление высококалорийной, богатой насыщенными жирами и холестерином пище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дячий образ жизн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рвный стре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утренние факторы рис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ериальная гипертенз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перхолестеринем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толерантности к углевод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жире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ягощенная наследствен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уг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980720"/>
            <a:ext cx="8425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еобратимые – возраст, мужской пол, генетическая предрасположеннос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братимые – курение, ГБ, Ожирени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астично обратимые – гиперлипидемия, гипергликемия, низкий уровень ЛВП, низкая физическая активность, стресс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Патологическая анатомия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нние атеросклеротические изменения в интим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ировые поражения интимы (жировая полоса, липофиброзная бляшк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иброзная бля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304560"/>
            <a:ext cx="8280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Основные патогенетические механизмы обострения атеросклероза: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лабление фиброзной оболочки бляшки и её разры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пропорционально большое липидное ядр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омбообразование в месте разрыва капсулы бляшки или на дефекте эндотелия при выраженном стеноз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функция эндотелия (локальная и генерализованна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ффузная воспалительная реак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0" y="2590920"/>
            <a:ext cx="6906960" cy="155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6160" y="2263680"/>
            <a:ext cx="92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83760" y="2016000"/>
            <a:ext cx="13932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р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сло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9800" y="2016000"/>
            <a:ext cx="151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иброз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15800" y="1768320"/>
            <a:ext cx="13579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еро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клеротич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73440" y="1521000"/>
            <a:ext cx="13626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ыв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и/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ещина 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омбо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1320" y="2754360"/>
            <a:ext cx="41256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46280" y="2754360"/>
            <a:ext cx="4111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79800" y="2754360"/>
            <a:ext cx="4129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18240" y="22096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3171960"/>
            <a:ext cx="175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шем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нсульт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4038480"/>
            <a:ext cx="1447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Терми-нальная ишемия н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620000">
            <a:off x="6751440" y="2378160"/>
            <a:ext cx="866520" cy="496800"/>
          </a:xfrm>
          <a:prstGeom prst="rightArrow">
            <a:avLst>
              <a:gd name="adj1" fmla="val 50000"/>
              <a:gd name="adj2" fmla="val 44348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1002400">
            <a:off x="6889320" y="3084480"/>
            <a:ext cx="1125720" cy="496800"/>
          </a:xfrm>
          <a:prstGeom prst="rightArrow">
            <a:avLst>
              <a:gd name="adj1" fmla="val 50000"/>
              <a:gd name="adj2" fmla="val 57614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33000">
            <a:off x="6824160" y="3886200"/>
            <a:ext cx="1168560" cy="496800"/>
          </a:xfrm>
          <a:prstGeom prst="rightArrow">
            <a:avLst>
              <a:gd name="adj1" fmla="val 50000"/>
              <a:gd name="adj2" fmla="val 59806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800" y="4267080"/>
            <a:ext cx="280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линически не проявл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45280" y="1703520"/>
            <a:ext cx="0" cy="50781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135200">
            <a:off x="6824160" y="4049280"/>
            <a:ext cx="498600" cy="1284480"/>
          </a:xfrm>
          <a:prstGeom prst="downArrow">
            <a:avLst>
              <a:gd name="adj1" fmla="val 50000"/>
              <a:gd name="adj2" fmla="val 65502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15960" y="5105520"/>
            <a:ext cx="2223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ердечно-сосуди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м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20640000">
            <a:off x="3286800" y="4200120"/>
            <a:ext cx="527040" cy="821880"/>
          </a:xfrm>
          <a:prstGeom prst="downArrow">
            <a:avLst>
              <a:gd name="adj1" fmla="val 50000"/>
              <a:gd name="adj2" fmla="val 39650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0" y="5943600"/>
            <a:ext cx="5321520" cy="304920"/>
          </a:xfrm>
          <a:prstGeom prst="rightArrow">
            <a:avLst>
              <a:gd name="adj1" fmla="val 50000"/>
              <a:gd name="adj2" fmla="val 130730"/>
            </a:avLst>
          </a:prstGeom>
          <a:gradFill rotWithShape="0">
            <a:gsLst>
              <a:gs pos="0">
                <a:srgbClr val="00fad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10520" y="6195960"/>
            <a:ext cx="26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величение возра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98400" y="4952880"/>
            <a:ext cx="3083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табильная стенор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еремежающая хром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080000">
            <a:off x="4290120" y="4200120"/>
            <a:ext cx="527400" cy="822600"/>
          </a:xfrm>
          <a:prstGeom prst="downArrow">
            <a:avLst>
              <a:gd name="adj1" fmla="val 50000"/>
              <a:gd name="adj2" fmla="val 39657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5280" y="2765520"/>
            <a:ext cx="412560" cy="423720"/>
          </a:xfrm>
          <a:prstGeom prst="rightArrow">
            <a:avLst>
              <a:gd name="adj1" fmla="val 50000"/>
              <a:gd name="adj2" fmla="val 50079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33080" y="2765520"/>
            <a:ext cx="411480" cy="423720"/>
          </a:xfrm>
          <a:prstGeom prst="rightArrow">
            <a:avLst>
              <a:gd name="adj1" fmla="val 50000"/>
              <a:gd name="adj2" fmla="val 50060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13450800">
            <a:off x="7043040" y="1536840"/>
            <a:ext cx="380880" cy="1053720"/>
          </a:xfrm>
          <a:prstGeom prst="downArrow">
            <a:avLst>
              <a:gd name="adj1" fmla="val 50000"/>
              <a:gd name="adj2" fmla="val 70342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08640" y="1068480"/>
            <a:ext cx="124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естаби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ая сте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92960" y="1600200"/>
            <a:ext cx="100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ОК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77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КС- острый коронарный синдром; ПНК - преходящее нарушение кровообращ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9760" y="243000"/>
            <a:ext cx="87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Атеротромбоз: генерализованный и прогрессирующий проц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1211400"/>
            <a:ext cx="8115120" cy="5494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74000" y="24444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ГРЕГАЦИЯ ТРОМБОЦИ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04920"/>
            <a:ext cx="8209080" cy="62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Множественная </a:t>
            </a:r>
            <a:r>
              <a:rPr b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модификация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ЛНП – это каскад последовательных в частице липопротеида: десиалирование, потеря липидов, уменьшение размера частицы, увеличение электроотрицательного заряда, перекисное окисление липид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Агрегация цмЛНП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утоантител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омплемент и фибронект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ебрис, коллаген, эластин и протеинглика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23:48Z</dcterms:created>
  <dc:creator>OKB</dc:creator>
  <dc:description/>
  <dc:language>en-US</dc:language>
  <cp:lastModifiedBy>OKB</cp:lastModifiedBy>
  <dcterms:modified xsi:type="dcterms:W3CDTF">2005-11-23T19:56:11Z</dcterms:modified>
  <cp:revision>5</cp:revision>
  <dc:subject/>
  <dc:title>Атеросклероз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 </dc:title>
</cp:coreProperties>
</file>