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980D-5A53-4C5A-ACDB-C257BCC4D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7FBB-FEB8-473A-BE8A-42A8EB64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CC23-5695-4FBF-86A9-0B951BACA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D800-D43B-4ADC-8404-A7268BCC6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E0A6-084C-4B3E-9BCE-F48A484FD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CB70-5299-406E-A34A-979BFDFC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68CF8-03F1-43A4-9740-8866ACA3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F80F3-6B92-47FD-90BD-080B9A06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4680-6499-4F05-8A13-95963B04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EF26-9B67-40A8-8A94-154ABEC1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85B96-BC5C-4E59-99ED-898E5094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DE1A-B90A-4235-AE88-FDAD7801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48DB8-DAFB-4641-810B-BFD41F64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170EA-CE83-4C9E-BA7B-4BD3D4AB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945E-2597-472C-ABD6-F83AC96A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0C180-ACF0-4E9E-B7AF-53F771F4D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3EDAC-2087-4534-836C-2F2C6C043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2BCA-AE91-49CB-8AEE-A5535B01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5F08-9171-4A4D-8B7C-5F8140DE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FA49-95BC-47C5-9E4D-E659664A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03A5-1484-4BB1-A3BD-504208DC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A156-1D39-4485-A126-1E363C5A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1C7C-7FB4-4A7C-BC3F-3D567BCA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C173-CAA7-411B-8ED1-10433A87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01D7-A4EA-4647-8D9B-BEC7CA605C6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B61C-6BCA-46DB-8E29-62D8A5E90E9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748720" cy="62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Атеросклероз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– распространённое хроническое заболевание артерий эластического и мышечно-эластического типа (крупного и среднего калибра), характеризующееся инфильтрированием в стенку сосуда атерогенных апопротеин-в-содержащих липопротеинов с последующим развитием соединительной ткани, атероматозных бляшек, органных и общих расстройств кровообращения.</a:t>
            </a: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eaeaea"/>
                </a:solidFill>
                <a:uFillTx/>
                <a:latin typeface="Times New Roman"/>
              </a:rPr>
              <a:t>Эффекты ЛНП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осудистый тонус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ромбоциты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эритроциты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нтитромбогенная активность стенки сосудов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ейкоциты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лиферация ГМК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eaeaea"/>
                </a:solidFill>
                <a:uFillTx/>
                <a:latin typeface="Times New Roman"/>
              </a:rPr>
              <a:t>ФАКТОРЫ РИСКА: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604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циально-культурны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требление высококалорийной, богатой насыщенными жирами и холестерином пищей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дячий образ жизн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рвный стрес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нутренние факторы риск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ртериальная гипертензи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иперхолестеринеми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рушение толерантности к углеводам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жирени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ягощенная наследственнос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руг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eaeaea"/>
                </a:solidFill>
                <a:uFillTx/>
                <a:latin typeface="Times New Roman"/>
              </a:rPr>
              <a:t>ФАКТОРЫ РИСКА: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280" y="1980720"/>
            <a:ext cx="8425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Необратимые – возраст, мужской пол, генетическая предрасположенность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братимые – курение, ГБ, Ожирение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Частично обратимые – гиперлипидемия, гипергликемия, низкий уровень ЛВП, низкая физическая активность, стресс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eaeaea"/>
                </a:solidFill>
                <a:uFillTx/>
                <a:latin typeface="Times New Roman"/>
              </a:rPr>
              <a:t>Патологическая анатомия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нние атеросклеротические изменения в интиме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жировые поражения интимы (жировая полоса, липофиброзная бляшка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фиброзная бляш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304560"/>
            <a:ext cx="82803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aeaea"/>
                </a:solidFill>
                <a:uFillTx/>
                <a:latin typeface="Times New Roman"/>
              </a:rPr>
              <a:t>Основные патогенетические механизмы обострения атеросклероза: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4247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слабление фиброзной оболочки бляшки и её разры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пропорционально большое липидное ядро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ромбообразование в месте разрыва капсулы бляшки или на дефекте эндотелия при выраженном стеноз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исфункция эндотелия (локальная и генерализованная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иффузная воспалительная реакц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240" y="2590920"/>
            <a:ext cx="6906960" cy="1555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46160" y="2263680"/>
            <a:ext cx="921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ор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83760" y="2016000"/>
            <a:ext cx="139320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р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ослой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29800" y="2016000"/>
            <a:ext cx="15163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Фиброз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ляш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15800" y="1768320"/>
            <a:ext cx="13579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теро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клеротич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ляш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73440" y="1521000"/>
            <a:ext cx="13626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зрыв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ляшки/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ещина и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омбо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11320" y="2754360"/>
            <a:ext cx="412560" cy="496800"/>
          </a:xfrm>
          <a:prstGeom prst="rightArrow">
            <a:avLst>
              <a:gd name="adj1" fmla="val 50000"/>
              <a:gd name="adj2" fmla="val 50088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46280" y="2754360"/>
            <a:ext cx="411120" cy="496800"/>
          </a:xfrm>
          <a:prstGeom prst="rightArrow">
            <a:avLst>
              <a:gd name="adj1" fmla="val 50000"/>
              <a:gd name="adj2" fmla="val 50088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79800" y="2754360"/>
            <a:ext cx="412920" cy="496800"/>
          </a:xfrm>
          <a:prstGeom prst="rightArrow">
            <a:avLst>
              <a:gd name="adj1" fmla="val 50000"/>
              <a:gd name="adj2" fmla="val 50088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18240" y="220968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62920" y="3171960"/>
            <a:ext cx="1752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Ишем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инсульт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67480" y="4038480"/>
            <a:ext cx="14479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Терми-нальная ишемия но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9620000">
            <a:off x="6751440" y="2378160"/>
            <a:ext cx="866520" cy="496800"/>
          </a:xfrm>
          <a:prstGeom prst="rightArrow">
            <a:avLst>
              <a:gd name="adj1" fmla="val 50000"/>
              <a:gd name="adj2" fmla="val 44348"/>
            </a:avLst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21002400">
            <a:off x="6889320" y="3084480"/>
            <a:ext cx="1125720" cy="496800"/>
          </a:xfrm>
          <a:prstGeom prst="rightArrow">
            <a:avLst>
              <a:gd name="adj1" fmla="val 50000"/>
              <a:gd name="adj2" fmla="val 57614"/>
            </a:avLst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33000">
            <a:off x="6824160" y="3886200"/>
            <a:ext cx="1168560" cy="496800"/>
          </a:xfrm>
          <a:prstGeom prst="rightArrow">
            <a:avLst>
              <a:gd name="adj1" fmla="val 50000"/>
              <a:gd name="adj2" fmla="val 59806"/>
            </a:avLst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800" y="4267080"/>
            <a:ext cx="2808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Клинически не проявляе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45280" y="1703520"/>
            <a:ext cx="0" cy="507816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9135200">
            <a:off x="6824160" y="4049280"/>
            <a:ext cx="498600" cy="1284480"/>
          </a:xfrm>
          <a:prstGeom prst="downArrow">
            <a:avLst>
              <a:gd name="adj1" fmla="val 50000"/>
              <a:gd name="adj2" fmla="val 65502"/>
            </a:avLst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15960" y="5105520"/>
            <a:ext cx="2223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Сердечно-сосудист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смер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rot="20640000">
            <a:off x="3286800" y="4200120"/>
            <a:ext cx="527040" cy="821880"/>
          </a:xfrm>
          <a:prstGeom prst="downArrow">
            <a:avLst>
              <a:gd name="adj1" fmla="val 50000"/>
              <a:gd name="adj2" fmla="val 39650"/>
            </a:avLst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0" y="5943600"/>
            <a:ext cx="5321520" cy="304920"/>
          </a:xfrm>
          <a:prstGeom prst="rightArrow">
            <a:avLst>
              <a:gd name="adj1" fmla="val 50000"/>
              <a:gd name="adj2" fmla="val 130730"/>
            </a:avLst>
          </a:prstGeom>
          <a:gradFill rotWithShape="0">
            <a:gsLst>
              <a:gs pos="0">
                <a:srgbClr val="00fad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10520" y="6195960"/>
            <a:ext cx="2629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Увеличение возрас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98400" y="4952880"/>
            <a:ext cx="3083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Стабильная стенорард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Перемежающая хром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rot="1080000">
            <a:off x="4290120" y="4200120"/>
            <a:ext cx="527400" cy="822600"/>
          </a:xfrm>
          <a:prstGeom prst="downArrow">
            <a:avLst>
              <a:gd name="adj1" fmla="val 50000"/>
              <a:gd name="adj2" fmla="val 39657"/>
            </a:avLst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45280" y="2765520"/>
            <a:ext cx="412560" cy="423720"/>
          </a:xfrm>
          <a:prstGeom prst="rightArrow">
            <a:avLst>
              <a:gd name="adj1" fmla="val 50000"/>
              <a:gd name="adj2" fmla="val 50079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933080" y="2765520"/>
            <a:ext cx="411480" cy="423720"/>
          </a:xfrm>
          <a:prstGeom prst="rightArrow">
            <a:avLst>
              <a:gd name="adj1" fmla="val 50000"/>
              <a:gd name="adj2" fmla="val 50060"/>
            </a:avLst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rot="13450800">
            <a:off x="7043040" y="1536840"/>
            <a:ext cx="380880" cy="1053720"/>
          </a:xfrm>
          <a:prstGeom prst="downArrow">
            <a:avLst>
              <a:gd name="adj1" fmla="val 50000"/>
              <a:gd name="adj2" fmla="val 70342"/>
            </a:avLst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208640" y="1068480"/>
            <a:ext cx="1248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Нестабиль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ная сте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кард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292960" y="1600200"/>
            <a:ext cx="100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ОК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6477120"/>
            <a:ext cx="87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ОКС- острый коронарный синдром; ПНК - преходящее нарушение кровообращ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39760" y="243000"/>
            <a:ext cx="878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Narrow"/>
              </a:rPr>
              <a:t>Атеротромбоз: генерализованный и прогрессирующий проце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3520" y="1211400"/>
            <a:ext cx="8115120" cy="54943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674000" y="244440"/>
            <a:ext cx="60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АГРЕГАЦИЯ ТРОМБОЦИ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304920"/>
            <a:ext cx="8209080" cy="62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Множественная </a:t>
            </a:r>
            <a:r>
              <a:rPr b="1" lang="ru-RU" sz="4400" spc="-1" strike="noStrike" u="sng">
                <a:solidFill>
                  <a:srgbClr val="eaeaea"/>
                </a:solidFill>
                <a:uFillTx/>
                <a:latin typeface="Times New Roman"/>
              </a:rPr>
              <a:t>модификация</a:t>
            </a: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 ЛНП – это каскад последовательных в частице липопротеида: десиалирование, потеря липидов, уменьшение размера частицы, увеличение электроотрицательного заряда, перекисное окисление липидов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eaeaea"/>
                </a:solidFill>
                <a:uFillTx/>
                <a:latin typeface="Times New Roman"/>
              </a:rPr>
              <a:t>Агрегация цмЛНП: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Аутоантитела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Комплемент и фибронекти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Дебрис, коллаген, эластин и протеингликан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8:23:48Z</dcterms:created>
  <dc:creator>OKB</dc:creator>
  <dc:description/>
  <dc:language>en-US</dc:language>
  <cp:lastModifiedBy>OKB</cp:lastModifiedBy>
  <dcterms:modified xsi:type="dcterms:W3CDTF">2005-11-23T19:56:11Z</dcterms:modified>
  <cp:revision>5</cp:revision>
  <dc:subject/>
  <dc:title>Атеросклероз – распространённое хроническое заболевание артерий эластического и мышечно-эластического типа (крупного и среднего калибра), характеризующееся инфильтрированием в стенку сосуда атерогенных апопротеин-в-содержащих липопротеинов с последующим развитием соединительной ткани, атероматозных бляшек, органных и общих расстройств кровообращения. </dc:title>
</cp:coreProperties>
</file>