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AE2E-1E9A-43F0-85B3-4EDD7D68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EBE9-3229-48DE-A701-93E50DDD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19FC-978F-46D5-AFBD-9D3E96E0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B3CA-F80B-4A09-93EA-D083F77A6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BC71-3FB6-42A9-A9D1-5A0CAFAE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73AD-E927-4A5D-ADFE-55AE096B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27E5-03E1-489D-8929-B6FDAE57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4FEE-AD29-44FC-94E4-996AFBDC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0637-1A74-4EED-9361-8A2D42BA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419C-928A-491C-9489-D89CBC3E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DFA0-21E2-43A1-962F-0A6AA326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9B5A-2951-49F2-8F26-C631D18B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4CFC-BDBE-4657-8C0B-5B87B052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5F8B-CFAD-4B0D-BC97-FE7366BB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081E-B23D-4BB7-A931-A0A41A2E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7D5A-E5BD-47E9-856B-194B4D5D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86EB-18A2-4C06-B2E8-D470F984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9056-CDD2-402F-BA1D-B3920194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8CCB-376D-401A-A712-74134B96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9F99-58AF-4F0D-BF49-7F771557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B278-D3E4-4003-806E-66F3355E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A30E-D139-4347-90B8-4F3AFD0B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8E01-7427-487A-AD76-5C0690F1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9622-48A4-485A-AC4E-9D42B250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2A87-EBB9-45AD-A3A8-29E18A79B55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AE72-F71E-4DF3-9B97-393958D9F8A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74872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Атеросклероз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– распространённое хроническое заболевание артерий эластического и мышечно-эластического типа (крупного и среднего калибра), характеризующееся инфильтрированием в стенку сосуда атерогенных апопротеин-в-содержащих липопротеинов с последующим развитием соединительной ткани, атероматозных бляшек, органных и общих расстройств кровообращения.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eaeaea"/>
                </a:solidFill>
                <a:uFillTx/>
                <a:latin typeface="Times New Roman"/>
              </a:rPr>
              <a:t>Эффекты ЛНП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судистый тонус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ромб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эритр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нтитромбогенная активность стенки сосудо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ейк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лиферация ГМ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ФАКТОРЫ РИСКА: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60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циально-культурны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требление высококалорийной, богатой насыщенными жирами и холестерином пище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дячий образ жизн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рвный стрес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нутренние факторы риск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ртериальная гипертенз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иперхолестеринем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ушение толерантности к углевода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жире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ягощенная наследственнос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руг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ФАКТОРЫ РИСКА: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980720"/>
            <a:ext cx="8425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еобратимые – возраст, мужской пол, генетическая предрасположенност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братимые – курение, ГБ, Ожирение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Частично обратимые – гиперлипидемия, гипергликемия, низкий уровень ЛВП, низкая физическая активность, стресс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Патологическая анатомия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нние атеросклеротические изменения в интиме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жировые поражения интимы (жировая полоса, липофиброзная бляшка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иброзная бляш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304560"/>
            <a:ext cx="8280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Times New Roman"/>
              </a:rPr>
              <a:t>Основные патогенетические механизмы обострения атеросклероза: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лабление фиброзной оболочки бляшки и её разры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пропорционально большое липидное ядр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омбообразование в месте разрыва капсулы бляшки или на дефекте эндотелия при выраженном стеноз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функция эндотелия (локальная и генерализованна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ффузная воспалительная реакц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0" y="2590920"/>
            <a:ext cx="6906960" cy="1555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46160" y="2263680"/>
            <a:ext cx="92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р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83760" y="2016000"/>
            <a:ext cx="13932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р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сло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29800" y="2016000"/>
            <a:ext cx="15163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иброз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15800" y="1768320"/>
            <a:ext cx="13579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теро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клеротич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73440" y="1521000"/>
            <a:ext cx="13626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рыв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и/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ещина и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омбо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1320" y="2754360"/>
            <a:ext cx="41256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46280" y="2754360"/>
            <a:ext cx="41112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79800" y="2754360"/>
            <a:ext cx="41292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18240" y="220968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3171960"/>
            <a:ext cx="175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Ишем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инсульт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4038480"/>
            <a:ext cx="1447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Терми-нальная ишемия н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620000">
            <a:off x="6751440" y="2378160"/>
            <a:ext cx="866520" cy="496800"/>
          </a:xfrm>
          <a:prstGeom prst="rightArrow">
            <a:avLst>
              <a:gd name="adj1" fmla="val 50000"/>
              <a:gd name="adj2" fmla="val 44348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1002400">
            <a:off x="6889320" y="3084480"/>
            <a:ext cx="1125720" cy="496800"/>
          </a:xfrm>
          <a:prstGeom prst="rightArrow">
            <a:avLst>
              <a:gd name="adj1" fmla="val 50000"/>
              <a:gd name="adj2" fmla="val 57614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33000">
            <a:off x="6824160" y="3886200"/>
            <a:ext cx="1168560" cy="496800"/>
          </a:xfrm>
          <a:prstGeom prst="rightArrow">
            <a:avLst>
              <a:gd name="adj1" fmla="val 50000"/>
              <a:gd name="adj2" fmla="val 59806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800" y="4267080"/>
            <a:ext cx="2808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Клинически не проявля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45280" y="1703520"/>
            <a:ext cx="0" cy="50781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135200">
            <a:off x="6824160" y="4049280"/>
            <a:ext cx="498600" cy="1284480"/>
          </a:xfrm>
          <a:prstGeom prst="downArrow">
            <a:avLst>
              <a:gd name="adj1" fmla="val 50000"/>
              <a:gd name="adj2" fmla="val 65502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15960" y="5105520"/>
            <a:ext cx="2223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Сердечно-сосудист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смер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rot="20640000">
            <a:off x="3286800" y="4200120"/>
            <a:ext cx="527040" cy="821880"/>
          </a:xfrm>
          <a:prstGeom prst="downArrow">
            <a:avLst>
              <a:gd name="adj1" fmla="val 50000"/>
              <a:gd name="adj2" fmla="val 39650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0" y="5943600"/>
            <a:ext cx="5321520" cy="304920"/>
          </a:xfrm>
          <a:prstGeom prst="rightArrow">
            <a:avLst>
              <a:gd name="adj1" fmla="val 50000"/>
              <a:gd name="adj2" fmla="val 130730"/>
            </a:avLst>
          </a:prstGeom>
          <a:gradFill rotWithShape="0">
            <a:gsLst>
              <a:gs pos="0">
                <a:srgbClr val="00fad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10520" y="6195960"/>
            <a:ext cx="262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Увеличение возра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98400" y="4952880"/>
            <a:ext cx="3083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Стабильная стенорар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Перемежающая хром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rot="1080000">
            <a:off x="4290120" y="4200120"/>
            <a:ext cx="527400" cy="822600"/>
          </a:xfrm>
          <a:prstGeom prst="downArrow">
            <a:avLst>
              <a:gd name="adj1" fmla="val 50000"/>
              <a:gd name="adj2" fmla="val 39657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45280" y="2765520"/>
            <a:ext cx="412560" cy="423720"/>
          </a:xfrm>
          <a:prstGeom prst="rightArrow">
            <a:avLst>
              <a:gd name="adj1" fmla="val 50000"/>
              <a:gd name="adj2" fmla="val 50079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933080" y="2765520"/>
            <a:ext cx="411480" cy="423720"/>
          </a:xfrm>
          <a:prstGeom prst="rightArrow">
            <a:avLst>
              <a:gd name="adj1" fmla="val 50000"/>
              <a:gd name="adj2" fmla="val 50060"/>
            </a:avLst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rot="13450800">
            <a:off x="7043040" y="1536840"/>
            <a:ext cx="380880" cy="1053720"/>
          </a:xfrm>
          <a:prstGeom prst="downArrow">
            <a:avLst>
              <a:gd name="adj1" fmla="val 50000"/>
              <a:gd name="adj2" fmla="val 70342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08640" y="1068480"/>
            <a:ext cx="1248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Нестабиль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ная сте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кар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92960" y="1600200"/>
            <a:ext cx="100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ОК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477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ОКС- острый коронарный синдром; ПНК - преходящее нарушение кровообращ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9760" y="243000"/>
            <a:ext cx="878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Narrow"/>
              </a:rPr>
              <a:t>Атеротромбоз: генерализованный и прогрессирующий проце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3520" y="1211400"/>
            <a:ext cx="8115120" cy="5494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674000" y="24444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ГРЕГАЦИЯ ТРОМБОЦИ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04920"/>
            <a:ext cx="8209080" cy="62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Множественная </a:t>
            </a:r>
            <a:r>
              <a:rPr b="1" lang="ru-RU" sz="4400" spc="-1" strike="noStrike" u="sng">
                <a:solidFill>
                  <a:srgbClr val="eaeaea"/>
                </a:solidFill>
                <a:uFillTx/>
                <a:latin typeface="Times New Roman"/>
              </a:rPr>
              <a:t>модификация</a:t>
            </a: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 ЛНП – это каскад последовательных в частице липопротеида: десиалирование, потеря липидов, уменьшение размера частицы, увеличение электроотрицательного заряда, перекисное окисление липид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eaeaea"/>
                </a:solidFill>
                <a:uFillTx/>
                <a:latin typeface="Times New Roman"/>
              </a:rPr>
              <a:t>Агрегация цмЛНП: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Аутоантитела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омплемент и фибронекти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ебрис, коллаген, эластин и протеинглика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8:23:48Z</dcterms:created>
  <dc:creator>OKB</dc:creator>
  <dc:description/>
  <dc:language>en-US</dc:language>
  <cp:lastModifiedBy>OKB</cp:lastModifiedBy>
  <dcterms:modified xsi:type="dcterms:W3CDTF">2005-11-23T19:56:11Z</dcterms:modified>
  <cp:revision>5</cp:revision>
  <dc:subject/>
  <dc:title>Атеросклероз – распространённое хроническое заболевание артерий эластического и мышечно-эластического типа (крупного и среднего калибра), характеризующееся инфильтрированием в стенку сосуда атерогенных апопротеин-в-содержащих липопротеинов с последующим развитием соединительной ткани, атероматозных бляшек, органных и общих расстройств кровообращения. </dc:title>
</cp:coreProperties>
</file>