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20.wmf" ContentType="image/x-wmf"/>
  <Override PartName="/ppt/media/image3.wmf" ContentType="image/x-wmf"/>
  <Override PartName="/ppt/media/image19.wmf" ContentType="image/x-wmf"/>
  <Override PartName="/ppt/media/image18.png" ContentType="image/png"/>
  <Override PartName="/ppt/media/image16.png" ContentType="image/png"/>
  <Override PartName="/ppt/media/image10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B0DA-19CD-46D0-A7B4-060206F81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BD3E-CDF1-4233-8162-16AF67A3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C73A-F6CE-4949-BD8C-293E0AE43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5FB6-4E7A-4C3E-B663-018AC8378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4EF8-BF77-4A99-A049-92F70588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C55C-3DCE-4995-AEAE-B1D34A5D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7AA0-1E42-4E0B-B835-BE3DA258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6217-48C2-4E43-831D-A0A9AD23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042F-259A-47D7-9A13-4CED189C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B0D1-C8A0-406D-954D-F783C36B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DBA1-2BBA-4320-84D6-88DDE2E3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0E91-BCBE-4A4F-9F4E-1A10B4F7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1694-79E7-4B12-857E-B9593D8BA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1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5.wmf"/><Relationship Id="rId24" Type="http://schemas.openxmlformats.org/officeDocument/2006/relationships/image" Target="../media/image16.png"/><Relationship Id="rId2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1752480"/>
            <a:ext cx="6553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ксиомы стереометрии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5120" y="3581280"/>
            <a:ext cx="47242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шение задач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6629400" y="4267080"/>
            <a:ext cx="1989000" cy="1981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9400" y="5938920"/>
            <a:ext cx="457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ухорукова Е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ОУ «Борисовская СОШ №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Параллельные прямые в пространст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2590920"/>
            <a:ext cx="3124080" cy="1600200"/>
          </a:xfrm>
          <a:prstGeom prst="parallelogram">
            <a:avLst>
              <a:gd name="adj" fmla="val 488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066680" y="28195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447920" y="304776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4572000"/>
            <a:ext cx="3124080" cy="1600200"/>
          </a:xfrm>
          <a:prstGeom prst="parallelogram">
            <a:avLst>
              <a:gd name="adj" fmla="val 488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4191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6172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705720" y="487656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26280" y="510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9252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631200" y="5562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9744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7400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81280" y="27432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Прямые в пространстве называются </a:t>
            </a: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параллельными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, если они лежат в одной плоскости и не пересекают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4920" y="5068800"/>
            <a:ext cx="516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Прямые, которые не пересек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и не лежат в одной плоск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называются </a:t>
            </a: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скрещивающими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В параллелепипеде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A…D</a:t>
            </a:r>
            <a:r>
              <a:rPr b="0" lang="ru-RU" sz="1200" spc="-1" strike="noStrike">
                <a:solidFill>
                  <a:srgbClr val="00808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укажите параллельные и скрещивающиеся пря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2666880"/>
            <a:ext cx="2438280" cy="26672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05520" y="4724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34340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812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8128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581280" y="4419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428640" y="4724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200040" y="49528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971440" y="5181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45000" y="5257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8320" y="30481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8520" y="4419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78160" y="23623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11880" y="4495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35920" y="236232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50120" y="525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02400" y="312408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В пирамиде 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ABCD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 укажите все пары скрещивающихся пря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437920" y="2666880"/>
            <a:ext cx="12956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1480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2666880"/>
            <a:ext cx="10666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38280" y="44956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200400" y="449532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200400" y="2666880"/>
            <a:ext cx="53352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35520" y="4343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26080" y="4267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9920" y="51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9400" y="2286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219320" y="457200"/>
            <a:ext cx="6933600" cy="6171840"/>
            <a:chOff x="1219320" y="457200"/>
            <a:chExt cx="6933600" cy="6171840"/>
          </a:xfrm>
        </p:grpSpPr>
        <p:sp>
          <p:nvSpPr>
            <p:cNvPr id="259" name=""/>
            <p:cNvSpPr/>
            <p:nvPr/>
          </p:nvSpPr>
          <p:spPr>
            <a:xfrm>
              <a:off x="1219320" y="1737000"/>
              <a:ext cx="6933600" cy="3101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ff99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3113280" y="4684680"/>
              <a:ext cx="4692960" cy="19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3"/>
            <a:stretch/>
          </p:blipFill>
          <p:spPr>
            <a:xfrm>
              <a:off x="2711160" y="457200"/>
              <a:ext cx="3754080" cy="143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"/>
          <p:cNvSpPr txBox="1"/>
          <p:nvPr/>
        </p:nvSpPr>
        <p:spPr>
          <a:xfrm>
            <a:off x="2286000" y="2743200"/>
            <a:ext cx="48769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04920" y="762120"/>
            <a:ext cx="8381880" cy="5943600"/>
            <a:chOff x="304920" y="762120"/>
            <a:chExt cx="8381880" cy="5943600"/>
          </a:xfrm>
        </p:grpSpPr>
        <p:sp>
          <p:nvSpPr>
            <p:cNvPr id="46" name=""/>
            <p:cNvSpPr/>
            <p:nvPr/>
          </p:nvSpPr>
          <p:spPr>
            <a:xfrm>
              <a:off x="3200400" y="5219640"/>
              <a:ext cx="548640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5219640"/>
              <a:ext cx="289548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00400" y="3733920"/>
              <a:ext cx="54864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3733920"/>
              <a:ext cx="289548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00400" y="2247840"/>
              <a:ext cx="548640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247840"/>
              <a:ext cx="289548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00400" y="762120"/>
              <a:ext cx="54864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762120"/>
              <a:ext cx="289548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762120"/>
              <a:ext cx="838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224784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373392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521964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6705720"/>
              <a:ext cx="838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62120"/>
              <a:ext cx="0" cy="594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00400" y="762120"/>
              <a:ext cx="0" cy="594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86800" y="762120"/>
              <a:ext cx="0" cy="594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429000" y="990720"/>
            <a:ext cx="50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любые две точки пространства проходит единственная пря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2362320"/>
            <a:ext cx="5257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любые три точки пространства, не принадлежащие одной прямой,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962520"/>
            <a:ext cx="52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Если две плоскости имеют общую точку, то они пересекаются по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5334120"/>
            <a:ext cx="5486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Существуют по крайней мере четыре точки, не принадлежащие одной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2133720" cy="106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2789280" cy="1013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09480" y="5410080"/>
            <a:ext cx="2371680" cy="1054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09480" y="3733920"/>
            <a:ext cx="2286000" cy="1417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37339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304920" y="762120"/>
            <a:ext cx="8458200" cy="5478480"/>
            <a:chOff x="304920" y="762120"/>
            <a:chExt cx="8458200" cy="5478480"/>
          </a:xfrm>
        </p:grpSpPr>
        <p:sp>
          <p:nvSpPr>
            <p:cNvPr id="72" name=""/>
            <p:cNvSpPr/>
            <p:nvPr/>
          </p:nvSpPr>
          <p:spPr>
            <a:xfrm>
              <a:off x="3200400" y="4456080"/>
              <a:ext cx="5562720" cy="17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920" y="4456080"/>
              <a:ext cx="2895480" cy="17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00400" y="2666880"/>
              <a:ext cx="556272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4920" y="2666880"/>
              <a:ext cx="289548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00400" y="762120"/>
              <a:ext cx="55627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920" y="762120"/>
              <a:ext cx="289548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4920" y="762120"/>
              <a:ext cx="845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4920" y="266688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4920" y="445608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4920" y="6240600"/>
              <a:ext cx="845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920" y="762120"/>
              <a:ext cx="0" cy="547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00400" y="762120"/>
              <a:ext cx="0" cy="547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763120" y="762120"/>
              <a:ext cx="0" cy="547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352680" y="914400"/>
            <a:ext cx="5029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Если прямая имеет с плоскостью две общие точки, то она лежит в этой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2819520"/>
            <a:ext cx="54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прямую и не принадлежащую ей точку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4648320"/>
            <a:ext cx="54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две пересекающиеся прямые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2371680" cy="706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09480" y="3124080"/>
            <a:ext cx="2371680" cy="706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09480" y="4952880"/>
            <a:ext cx="237168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791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Times New Roman Cyr"/>
              </a:rPr>
              <a:t>Ответ: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 а)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Точ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C</a:t>
            </a:r>
            <a:r>
              <a:rPr b="0" i="1" lang="ru-RU" sz="2400" spc="-1" strike="noStrike">
                <a:solidFill>
                  <a:srgbClr val="ff3300"/>
                </a:solidFill>
                <a:latin typeface="Times New Roman Cyr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должны принадлежать одной прямой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;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 б)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точ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L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 должны принадлежать одной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57200" y="914400"/>
            <a:ext cx="8077320" cy="1922760"/>
            <a:chOff x="457200" y="914400"/>
            <a:chExt cx="8077320" cy="1922760"/>
          </a:xfrm>
        </p:grpSpPr>
        <p:sp>
          <p:nvSpPr>
            <p:cNvPr id="94" name=""/>
            <p:cNvSpPr/>
            <p:nvPr/>
          </p:nvSpPr>
          <p:spPr>
            <a:xfrm>
              <a:off x="457200" y="914400"/>
              <a:ext cx="79246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Найдите ошибку на рисунк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</a:rPr>
                <a:t>ах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если: а)  и  - две пересекающиеся плоскости, и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A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B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C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ринадлежат как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так и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; б)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- три попарно пересекающиеся плоскости, причем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K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L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M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ринадлежат плоскостям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и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а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N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O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P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–плоскостям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и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5" name=""/>
            <p:cNvGraphicFramePr/>
            <p:nvPr/>
          </p:nvGraphicFramePr>
          <p:xfrm>
            <a:off x="6477120" y="1066680"/>
            <a:ext cx="228600" cy="216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77120" y="106668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"/>
            <p:cNvGraphicFramePr/>
            <p:nvPr/>
          </p:nvGraphicFramePr>
          <p:xfrm>
            <a:off x="7182000" y="1009800"/>
            <a:ext cx="190440" cy="330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182000" y="1009800"/>
                      <a:ext cx="19044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"/>
            <p:cNvGraphicFramePr/>
            <p:nvPr/>
          </p:nvGraphicFramePr>
          <p:xfrm>
            <a:off x="990720" y="1828800"/>
            <a:ext cx="228600" cy="216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90720" y="18288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" name=""/>
            <p:cNvGraphicFramePr/>
            <p:nvPr/>
          </p:nvGraphicFramePr>
          <p:xfrm>
            <a:off x="2133720" y="1752480"/>
            <a:ext cx="190440" cy="3304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33720" y="1752480"/>
                      <a:ext cx="19044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" name=""/>
            <p:cNvGraphicFramePr/>
            <p:nvPr/>
          </p:nvGraphicFramePr>
          <p:xfrm>
            <a:off x="2819520" y="1828800"/>
            <a:ext cx="228600" cy="216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819520" y="18288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3276720" y="1752480"/>
            <a:ext cx="190440" cy="3304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276720" y="1752480"/>
                      <a:ext cx="19044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3740040" y="1784520"/>
            <a:ext cx="177840" cy="2664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740040" y="1784520"/>
                      <a:ext cx="177840" cy="26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9" name=""/>
            <p:cNvGraphicFramePr/>
            <p:nvPr/>
          </p:nvGraphicFramePr>
          <p:xfrm>
            <a:off x="8305920" y="2133720"/>
            <a:ext cx="228600" cy="21564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8305920" y="2133720"/>
                      <a:ext cx="228600" cy="21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" name=""/>
            <p:cNvGraphicFramePr/>
            <p:nvPr/>
          </p:nvGraphicFramePr>
          <p:xfrm>
            <a:off x="838080" y="2438280"/>
            <a:ext cx="190800" cy="33048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838080" y="2438280"/>
                      <a:ext cx="19080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3" name=""/>
            <p:cNvGraphicFramePr/>
            <p:nvPr/>
          </p:nvGraphicFramePr>
          <p:xfrm>
            <a:off x="5105520" y="2514600"/>
            <a:ext cx="228600" cy="21600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5105520" y="25146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5" name=""/>
            <p:cNvGraphicFramePr/>
            <p:nvPr/>
          </p:nvGraphicFramePr>
          <p:xfrm>
            <a:off x="5715000" y="2514600"/>
            <a:ext cx="177840" cy="26676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5715000" y="2514600"/>
                      <a:ext cx="17784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17" name="" descr=""/>
          <p:cNvPicPr/>
          <p:nvPr/>
        </p:nvPicPr>
        <p:blipFill>
          <a:blip r:embed="rId24"/>
          <a:stretch/>
        </p:blipFill>
        <p:spPr>
          <a:xfrm>
            <a:off x="533520" y="2743200"/>
            <a:ext cx="80038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33520" y="5410080"/>
            <a:ext cx="2819160" cy="459720"/>
            <a:chOff x="533520" y="5410080"/>
            <a:chExt cx="2819160" cy="459720"/>
          </a:xfrm>
        </p:grpSpPr>
        <p:sp>
          <p:nvSpPr>
            <p:cNvPr id="120" name=""/>
            <p:cNvSpPr/>
            <p:nvPr/>
          </p:nvSpPr>
          <p:spPr>
            <a:xfrm>
              <a:off x="533520" y="54100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</a:rPr>
                <a:t>Ответ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 Cyr"/>
                </a:rPr>
                <a:t>: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1" name=""/>
            <p:cNvGraphicFramePr/>
            <p:nvPr/>
          </p:nvGraphicFramePr>
          <p:xfrm>
            <a:off x="1523880" y="5486040"/>
            <a:ext cx="774360" cy="343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3880" y="5486040"/>
                      <a:ext cx="7743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3" name=""/>
          <p:cNvGrpSpPr/>
          <p:nvPr/>
        </p:nvGrpSpPr>
        <p:grpSpPr>
          <a:xfrm>
            <a:off x="380880" y="1371600"/>
            <a:ext cx="7925040" cy="3586320"/>
            <a:chOff x="380880" y="1371600"/>
            <a:chExt cx="7925040" cy="3586320"/>
          </a:xfrm>
        </p:grpSpPr>
        <p:sp>
          <p:nvSpPr>
            <p:cNvPr id="124" name=""/>
            <p:cNvSpPr/>
            <p:nvPr/>
          </p:nvSpPr>
          <p:spPr>
            <a:xfrm>
              <a:off x="380880" y="1371600"/>
              <a:ext cx="792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Определите по рисунку плоскостям каких фигур принадлежит точка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M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лоскости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</a:rPr>
                <a:t>   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5" name=""/>
            <p:cNvGraphicFramePr/>
            <p:nvPr/>
          </p:nvGraphicFramePr>
          <p:xfrm>
            <a:off x="4800600" y="1905120"/>
            <a:ext cx="228600" cy="215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00600" y="1905120"/>
                      <a:ext cx="228600" cy="21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7" name="" descr=""/>
            <p:cNvPicPr/>
            <p:nvPr/>
          </p:nvPicPr>
          <p:blipFill>
            <a:blip r:embed="rId6"/>
            <a:stretch/>
          </p:blipFill>
          <p:spPr>
            <a:xfrm>
              <a:off x="1676520" y="2743200"/>
              <a:ext cx="5438520" cy="2214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Найдите ошибку на чертеже. Дайте объяс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2438280"/>
            <a:ext cx="2590920" cy="1219320"/>
          </a:xfrm>
          <a:prstGeom prst="parallelogram">
            <a:avLst>
              <a:gd name="adj" fmla="val 53122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rot="10800000">
            <a:off x="1065600" y="3657240"/>
            <a:ext cx="2590920" cy="1219320"/>
          </a:xfrm>
          <a:prstGeom prst="parallelogram">
            <a:avLst>
              <a:gd name="adj" fmla="val 53122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28954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057400" y="2895480"/>
            <a:ext cx="5335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36576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24382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78320" y="4495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5428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400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45000" y="3657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7280" y="40384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35160" y="3581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9400" y="621180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точка М не принадлежит 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</a:rPr>
              <a:t>Как расположены относительно друг друга плоскости </a:t>
            </a:r>
            <a:r>
              <a:rPr b="0" lang="el-GR" sz="2400" spc="-1" strike="noStrike">
                <a:solidFill>
                  <a:srgbClr val="008080"/>
                </a:solidFill>
                <a:latin typeface="Arial"/>
                <a:ea typeface="Arial"/>
              </a:rPr>
              <a:t>α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  <a:ea typeface="Arial"/>
              </a:rPr>
              <a:t> и </a:t>
            </a:r>
            <a:r>
              <a:rPr b="0" lang="el-GR" sz="2400" spc="-1" strike="noStrike">
                <a:solidFill>
                  <a:srgbClr val="008080"/>
                </a:solidFill>
                <a:latin typeface="Arial"/>
                <a:ea typeface="Arial"/>
              </a:rPr>
              <a:t>β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  <a:ea typeface="Arial"/>
              </a:rPr>
              <a:t> на рисунке? Ответ объясните. При необходимости дополните 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962520"/>
            <a:ext cx="2286000" cy="1143000"/>
          </a:xfrm>
          <a:prstGeom prst="parallelogram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4114800"/>
            <a:ext cx="2286000" cy="1143000"/>
          </a:xfrm>
          <a:prstGeom prst="parallelogram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2895480"/>
            <a:ext cx="1371600" cy="1600200"/>
          </a:xfrm>
          <a:prstGeom prst="diamond">
            <a:avLst/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39625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39625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54280" y="4495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9252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0600" y="2590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93080" y="35053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3200" y="4724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97440" y="3505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2971800"/>
            <a:ext cx="1371600" cy="1600200"/>
          </a:xfrm>
          <a:prstGeom prst="diamond">
            <a:avLst/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733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4572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858000" y="37339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7680" y="4572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5960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7680" y="2590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20640" y="35416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14440" y="48369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64520" y="358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5715000"/>
            <a:ext cx="949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т.к. плоскости имеют одну общую точку, 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они пересекаются по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Сколько плоскостей можно провести через прямую 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371600" y="3352320"/>
            <a:ext cx="1676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16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60958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бесконечно м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6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Как расположены плоскости </a:t>
            </a:r>
            <a:r>
              <a:rPr b="0" lang="el-GR" sz="3200" spc="-1" strike="noStrike">
                <a:solidFill>
                  <a:srgbClr val="008080"/>
                </a:solidFill>
                <a:latin typeface="Arial"/>
                <a:ea typeface="Arial"/>
              </a:rPr>
              <a:t>α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  <a:ea typeface="Arial"/>
              </a:rPr>
              <a:t> и </a:t>
            </a:r>
            <a:r>
              <a:rPr b="0" lang="el-GR" sz="3200" spc="-1" strike="noStrike">
                <a:solidFill>
                  <a:srgbClr val="008080"/>
                </a:solidFill>
                <a:latin typeface="Arial"/>
                <a:ea typeface="Arial"/>
              </a:rPr>
              <a:t>β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  <a:ea typeface="Arial"/>
              </a:rPr>
              <a:t> на рисун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4191120"/>
            <a:ext cx="3429000" cy="1143000"/>
          </a:xfrm>
          <a:prstGeom prst="parallelogram">
            <a:avLst>
              <a:gd name="adj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1676160" y="3123720"/>
            <a:ext cx="1523880" cy="1676520"/>
          </a:xfrm>
          <a:prstGeom prst="triangle">
            <a:avLst>
              <a:gd name="adj" fmla="val 50000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909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780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39520" y="49528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30960" y="3124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4191120"/>
            <a:ext cx="3429000" cy="1143000"/>
          </a:xfrm>
          <a:prstGeom prst="parallelogram">
            <a:avLst>
              <a:gd name="adj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0800000">
            <a:off x="5714640" y="3123720"/>
            <a:ext cx="1523880" cy="1676520"/>
          </a:xfrm>
          <a:prstGeom prst="triangle">
            <a:avLst>
              <a:gd name="adj" fmla="val 50000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722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294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008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2628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78000" y="49528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69440" y="3124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943600" y="457200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3124080"/>
            <a:ext cx="2286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162560" y="3124080"/>
            <a:ext cx="75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4680" y="6135840"/>
            <a:ext cx="78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ересекаются по прямой, содержащей точку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10-08T02:30:40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