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ACFD-9266-4290-94B9-84FE8737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BB45-28EB-4639-A151-DD90A1DF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A49-27AD-44A8-8E29-3EBEDBA5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DE3-02D3-4698-9FB2-1D2E32DE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F4D4-67C0-4398-AE48-25B9387C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BA17-D5E2-480F-AC9D-ED822E9B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1D63-4DD7-4AF7-946E-D80986A8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1E00-E1B0-4AA9-A28F-2902BC61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CC93-0355-43D9-8ABD-C16EC15F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C217-54B7-4940-B6AB-348689C0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ABDA-8EB1-4C1D-8C25-1A925014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7CA-A7E0-48A6-B3BE-80ABEF5B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116D-7995-4B7D-A2FE-AB116F85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A7FF-58D4-49CD-A5ED-930C2712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3612-591D-4629-AB5F-DF6AFD6E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6F9E-EE30-4286-A385-589C407E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2B06-18FE-4C95-B4A7-FC0B2C6C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A931-13C0-4BAA-B05B-DFCED70D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C93-907F-483E-8041-8A2D254C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84A-5B06-485F-8246-1BC98579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1F1-3AAE-4A58-8044-879FFBBD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DE3-7EEE-4561-85E7-A1B2BB68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2EC-E170-4E8B-9321-9B2D6BE6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854-6390-45B5-9D1B-2FCCA049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DB0E-6D0E-4D53-A0BC-F6662AF2154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1C4F-0F1F-4880-ABCB-0CA1D34DC4D8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бота выполнена в рамках проекта «Повышение квалификации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зличных категорий работников образования и формирования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у них базовой педагогической ИКТ-компетентости» по программе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«Информационные технологии в деятельности учителя-предметника»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5" descr="logo_phpBB"/>
          <p:cNvPicPr/>
          <p:nvPr/>
        </p:nvPicPr>
        <p:blipFill>
          <a:blip r:embed="rId2"/>
          <a:stretch/>
        </p:blipFill>
        <p:spPr>
          <a:xfrm>
            <a:off x="7885080" y="404640"/>
            <a:ext cx="934920" cy="881280"/>
          </a:xfrm>
          <a:prstGeom prst="rect">
            <a:avLst/>
          </a:prstGeom>
          <a:ln w="0">
            <a:noFill/>
          </a:ln>
        </p:spPr>
      </p:pic>
      <p:sp>
        <p:nvSpPr>
          <p:cNvPr id="169" name="WordArt 6"/>
          <p:cNvSpPr txBox="1"/>
          <p:nvPr/>
        </p:nvSpPr>
        <p:spPr>
          <a:xfrm>
            <a:off x="2124000" y="1989000"/>
            <a:ext cx="430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а-5 клас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2997360"/>
            <a:ext cx="47527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вто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ннотация к выпускной работ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Тематическое планирова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рок: Геометрические тел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лан урок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963360" y="4811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Скругленный прямоугольник 8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716000" y="549000"/>
            <a:ext cx="397044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ъем прямоугольного параллелепипед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a·b·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3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с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с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24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ru-RU" sz="32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24000" y="1989000"/>
            <a:ext cx="3671640" cy="424836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5"/>
          <p:cNvSpPr/>
          <p:nvPr/>
        </p:nvSpPr>
        <p:spPr>
          <a:xfrm flipV="1">
            <a:off x="1258920" y="1988640"/>
            <a:ext cx="79200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6"/>
          <p:cNvSpPr/>
          <p:nvPr/>
        </p:nvSpPr>
        <p:spPr>
          <a:xfrm flipV="1">
            <a:off x="2124000" y="1988640"/>
            <a:ext cx="79236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755640" y="2421000"/>
            <a:ext cx="2808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125892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212400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324000" y="3645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324000" y="4437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324000" y="5445000"/>
            <a:ext cx="27352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3132000" y="278100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4"/>
          <p:cNvSpPr/>
          <p:nvPr/>
        </p:nvSpPr>
        <p:spPr>
          <a:xfrm flipV="1">
            <a:off x="3059280" y="3573360"/>
            <a:ext cx="936360" cy="935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5"/>
          <p:cNvSpPr/>
          <p:nvPr/>
        </p:nvSpPr>
        <p:spPr>
          <a:xfrm flipV="1">
            <a:off x="3132000" y="450828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3564000" y="242100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971640" y="63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а=3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3722040" y="56768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=2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3995640" y="321300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4091040" y="39481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=4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6237000" y="472428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тог урока –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-анализ тес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7" name="Picture 5" descr="02"/>
          <p:cNvPicPr/>
          <p:nvPr/>
        </p:nvPicPr>
        <p:blipFill>
          <a:blip r:embed="rId1"/>
          <a:stretch/>
        </p:blipFill>
        <p:spPr>
          <a:xfrm>
            <a:off x="1258920" y="170028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Аннотация к выпускной  работ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8317440" y="1413000"/>
            <a:ext cx="17137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ыть использованы при объяснени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ового материала по теме «геометрическ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ела» 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18728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112536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 бы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спользованы для объяснения новог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атериала по теме «геометрические тела» в 5 класс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зависимости от формы урока слай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но использовать выбороч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ти же слайды можно применя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 уроках стереометрии в 10 и 11 класс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 к уроку можно использова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10 классе в теме «Многогранники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качестве инструментальных средств для подготовки к уроку были использованы компьютерные программы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 Power Point, Microsoft Word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ffice Picture Manag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сурсы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бник «Математика» (5кл.), авт. Зубарева, Мордкович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http://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artavaleha.com/uploads/posts/1167778609_konus_07.jp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http://paint.dn.ua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/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19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б автор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640" y="2708280"/>
            <a:ext cx="7488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, Бурухина Наталия Александровна, работа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чительницей матема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экономики в школе №11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ж работы – 35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сшая категор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Отличник народного просвещения.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4" descr="IMG_4618"/>
          <p:cNvPicPr/>
          <p:nvPr/>
        </p:nvPicPr>
        <p:blipFill>
          <a:blip r:embed="rId1"/>
          <a:stretch/>
        </p:blipFill>
        <p:spPr>
          <a:xfrm>
            <a:off x="5724360" y="0"/>
            <a:ext cx="3708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грамм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туральные чис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ыкновен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еометрические фигур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есятич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cc00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Verdana"/>
              </a:rPr>
              <a:t>Геометрические тел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ведение в вероят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еометрические тела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(7 уроков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848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-ый урок: «Геометрические тел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ль: познакомить учащихся 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ассификацией геометрически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л и подробнее – с прямоугольны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раллелепипед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лан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-79632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екц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)предмет стереометри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)классификация геометрических тел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)прямоугольный параллелепипед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го развертка 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)объем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I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Тест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7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ла, поверхность которых состоит и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ногоугольников, называются </a:t>
            </a: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многогранникам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пример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90000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ирамид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4"/>
          <p:cNvSpPr/>
          <p:nvPr/>
        </p:nvSpPr>
        <p:spPr>
          <a:xfrm flipH="1">
            <a:off x="6011280" y="5516640"/>
            <a:ext cx="27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ямоугольн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раллелепипе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15" descr=""/>
          <p:cNvPicPr/>
          <p:nvPr/>
        </p:nvPicPr>
        <p:blipFill>
          <a:blip r:embed="rId1"/>
          <a:stretch/>
        </p:blipFill>
        <p:spPr>
          <a:xfrm>
            <a:off x="420840" y="2349360"/>
            <a:ext cx="2179440" cy="316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"/>
          <p:cNvPicPr/>
          <p:nvPr/>
        </p:nvPicPr>
        <p:blipFill>
          <a:blip r:embed="rId2"/>
          <a:stretch/>
        </p:blipFill>
        <p:spPr>
          <a:xfrm>
            <a:off x="2916360" y="2421000"/>
            <a:ext cx="2128680" cy="338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3276720" y="551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изм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19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1800360" cy="304956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4400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ла, ограниченные не только плоскими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верхностями, называются круглыми телами.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пример: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4" descr="DSC00448"/>
          <p:cNvPicPr/>
          <p:nvPr/>
        </p:nvPicPr>
        <p:blipFill>
          <a:blip r:embed="rId1"/>
          <a:stretch/>
        </p:blipFill>
        <p:spPr>
          <a:xfrm>
            <a:off x="250920" y="1989000"/>
            <a:ext cx="1763640" cy="181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987792"/>
          <p:cNvPicPr/>
          <p:nvPr/>
        </p:nvPicPr>
        <p:blipFill>
          <a:blip r:embed="rId2"/>
          <a:stretch/>
        </p:blipFill>
        <p:spPr>
          <a:xfrm>
            <a:off x="6156360" y="2060640"/>
            <a:ext cx="2665440" cy="1771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68360" y="4076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3564000" y="4149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у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948360" y="407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а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15" descr="1167778609_konus_07"/>
          <p:cNvPicPr/>
          <p:nvPr/>
        </p:nvPicPr>
        <p:blipFill>
          <a:blip r:embed="rId3"/>
          <a:stretch/>
        </p:blipFill>
        <p:spPr>
          <a:xfrm>
            <a:off x="3059280" y="1844640"/>
            <a:ext cx="22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окружающей обстановке мног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дметы имеют форму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4" descr="13"/>
          <p:cNvPicPr/>
          <p:nvPr/>
        </p:nvPicPr>
        <p:blipFill>
          <a:blip r:embed="rId1"/>
          <a:stretch/>
        </p:blipFill>
        <p:spPr>
          <a:xfrm>
            <a:off x="826920" y="2997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5796000" y="2852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реб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796000" y="3500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ир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867280" y="429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5940360" y="501336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л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665964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Line 24"/>
          <p:cNvSpPr/>
          <p:nvPr/>
        </p:nvSpPr>
        <p:spPr>
          <a:xfrm flipH="1">
            <a:off x="3419640" y="3645000"/>
            <a:ext cx="2232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25"/>
          <p:cNvSpPr/>
          <p:nvPr/>
        </p:nvSpPr>
        <p:spPr>
          <a:xfrm flipH="1">
            <a:off x="3924360" y="4508640"/>
            <a:ext cx="1800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26"/>
          <p:cNvSpPr/>
          <p:nvPr/>
        </p:nvSpPr>
        <p:spPr>
          <a:xfrm flipH="1">
            <a:off x="2268360" y="5229360"/>
            <a:ext cx="3456000" cy="21564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6804000" y="3500280"/>
            <a:ext cx="360360" cy="2016360"/>
          </a:xfrm>
          <a:custGeom>
            <a:avLst/>
            <a:gdLst>
              <a:gd name="textAreaLeft" fmla="*/ 0 w 360360"/>
              <a:gd name="textAreaRight" fmla="*/ 129960 w 360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7308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1372680" y="4437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гран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Line 31"/>
          <p:cNvSpPr/>
          <p:nvPr/>
        </p:nvSpPr>
        <p:spPr>
          <a:xfrm flipV="1">
            <a:off x="900000" y="5444640"/>
            <a:ext cx="358920" cy="5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32"/>
          <p:cNvSpPr/>
          <p:nvPr/>
        </p:nvSpPr>
        <p:spPr>
          <a:xfrm flipV="1">
            <a:off x="900000" y="3715920"/>
            <a:ext cx="358920" cy="23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708480" y="59500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ершин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к этим насекомым найти сам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роткий путь друг к другу по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ерхности тел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324000" y="2276640"/>
            <a:ext cx="2303280" cy="172692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  <a:effectLst>
            <a:outerShdw dist="107932" dir="135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79280" y="256536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2484360" y="3429000"/>
            <a:ext cx="28728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6692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3856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514656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02000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5146560" y="285264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5148360" y="544500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2124000" y="407664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003640" y="5300640"/>
            <a:ext cx="28764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22"/>
          <p:cNvSpPr/>
          <p:nvPr/>
        </p:nvSpPr>
        <p:spPr>
          <a:xfrm>
            <a:off x="2268360" y="4221000"/>
            <a:ext cx="2808360" cy="1152720"/>
          </a:xfrm>
          <a:prstGeom prst="line">
            <a:avLst/>
          </a:prstGeom>
          <a:ln w="2844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4643280" y="1557360"/>
            <a:ext cx="3792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Эта фигура называ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звертко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11280" y="5589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Этот путь – самый коротки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6:42:17Z</dcterms:created>
  <dc:creator>web</dc:creator>
  <dc:description/>
  <dc:language>en-US</dc:language>
  <cp:lastModifiedBy>Owner</cp:lastModifiedBy>
  <dcterms:modified xsi:type="dcterms:W3CDTF">2011-06-13T14:45:41Z</dcterms:modified>
  <cp:revision>34</cp:revision>
  <dc:subject/>
  <dc:title>Слайд 1</dc:title>
</cp:coreProperties>
</file>