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6EF-11E8-4533-B3EE-BD7A3BE4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5329-B6C3-40B4-85B2-E643236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8E9-C5F7-4362-989F-5A94EA1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564-CD2B-437D-AE97-5BE95A88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89BF-5533-4C04-A734-6CB0A34E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403E-5AA7-4BBF-A00E-9F40620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9FD2-6338-413A-8203-375A293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45F6-6EE0-4CE5-A3E0-C87CF377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81D0-1383-4DA0-A938-72F55A1E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8181-4DBB-4E1B-A8D2-F4C02B9E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AC7B-3816-4AE3-97ED-C8DF60A1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344-A273-4C4B-856D-05BBE51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FB7F-4EA6-4BB8-A5D3-D7A7ADBB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68FF-BDD4-4C87-9179-BBD741AA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0323-9B2B-4050-ABCE-AAD9FB83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EAE1-2739-4014-8A6D-A74CBEDE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6FCD-4E1D-4149-BEE7-CEC1BA4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1CA-7BA1-4C2F-A169-C8957D4B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841-305F-42A7-BCE2-C1E0B8D7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BAAF-9919-4089-BD83-A73DCAA9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FD2E-4A98-4D94-988D-5A00487D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6B2-808A-4D26-B988-BEB3A8C1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F11D-49A4-44CF-9138-DF00B2E0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4542-19DF-4969-AD77-51C9F67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E56-A02E-4EBD-929A-B65F3EFABB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3152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152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31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52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31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C055-2E01-487F-9E18-7F8A072F965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900igr.net/" TargetMode="External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18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70828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ff"/>
                </a:solidFill>
                <a:latin typeface="Wide Latin"/>
              </a:rPr>
              <a:t>НЕБЕСНАЯ ГЕОМЕТРИЯ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6320" y="4319640"/>
            <a:ext cx="2931840" cy="253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10360" y="189000"/>
            <a:ext cx="293364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293400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6516720" y="4319640"/>
            <a:ext cx="2932200" cy="253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7240" y="549360"/>
            <a:ext cx="24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аботу выполни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Устинов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ихачева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Лапш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471840" y="5105520"/>
            <a:ext cx="37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Руководит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Кузьмина Наталья Игор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Бурцева Наталья 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rId5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6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59840" y="5868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Симметрия снежин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3657600"/>
            <a:ext cx="2941560" cy="29718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92240" cy="2741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019920" y="914400"/>
            <a:ext cx="2933640" cy="29192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0" y="914400"/>
            <a:ext cx="2971800" cy="26892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2666880" y="2428920"/>
            <a:ext cx="3733920" cy="3254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3865680"/>
            <a:ext cx="3276720" cy="2992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57200" y="3881520"/>
            <a:ext cx="3124080" cy="29764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3200400" cy="291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200400" y="2133720"/>
            <a:ext cx="2890800" cy="3124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57200" y="762120"/>
            <a:ext cx="2946240" cy="297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2878200" cy="2492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2514600" cy="250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0" y="4191120"/>
            <a:ext cx="2674800" cy="2743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-152280"/>
            <a:ext cx="2819520" cy="24001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3935520"/>
            <a:ext cx="3200400" cy="2922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3124080" cy="3048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3124080" y="1828800"/>
            <a:ext cx="2936880" cy="2610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0" y="36576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-380880" y="0"/>
            <a:ext cx="350496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39920" cy="3589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730840" y="3106800"/>
            <a:ext cx="3413160" cy="3751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2819520" y="1752480"/>
            <a:ext cx="3201840" cy="3517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5334120" y="-304920"/>
            <a:ext cx="4105080" cy="29862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304920" y="3733920"/>
            <a:ext cx="304776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983040"/>
            <a:ext cx="3348000" cy="2874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342120" y="3860640"/>
            <a:ext cx="2801880" cy="29973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089760" y="0"/>
            <a:ext cx="3054240" cy="3357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52960" cy="3284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124080" y="2057400"/>
            <a:ext cx="341964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038480" cy="3825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3471840" cy="31892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67280" y="-76320"/>
            <a:ext cx="327672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3200400" cy="2724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-76320" y="4021200"/>
            <a:ext cx="3276720" cy="2836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408720" y="4038480"/>
            <a:ext cx="2735280" cy="28195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446880" y="0"/>
            <a:ext cx="2697120" cy="2781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203640" cy="2979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снежные кристаллы 48 видов, разбитые на 9 кла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еличина, форма и узор снежинок зависят от температуры и влаж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нутренне строение снежного кристалла определяет его внешний обл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се снежинки имеют 6 граней и одну ось симметр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ечение кристалла, перпендикулярное оси симметрии, имеет шестиугольную фор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38224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И все-таки, загадка осталась для нас загадкой:</a:t>
            </a: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чему в природе так часто встречаются гексагональные форм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Цели и зада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Ц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ть физическое и математическое обоснование разнообразия форм снежин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историю появления фотографий с изображениями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зучить процесс образования и роста снежинок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ь зависимость форм снежинок от внешних условий (температура, влажность воздух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ъяснить разнообразие форм снежинок с точки зрения симмет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илсон Бент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США) 15 января 1885 года сделал первый снимок  снежного кристалла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47 лет Бентли составил коллекцию фотографий снежинок (более 5000 ), снятых под микроскоп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321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53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гсо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г.Рыбинск) нашел не худший способ фотографирования снежинок: снежинки надо помещать на тончайшей, почти паутинной, сетке из шелковинок, - тогда их можно снять во всех деталях, а сетку  потом заретуширова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933 году наблюдатель полярной станции на Земле Франца-Иосиф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аткин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л более 300 снимков снежинок разнообразнейшей фор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5 год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Заморск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делил снежинки на 9 классов и 48 видов. Это – пластинки, звёзды, ежи, столбики, пушинки, запонки, призмы, групповы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ннет Либрех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алифорния) составил полный справочник снежин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52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619272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тметил, что все снежинки име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 гран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ну ос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анализировал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имметр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нежинок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156360" y="1773360"/>
            <a:ext cx="2622600" cy="3500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4208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ИЗ ИСТОРИИ ИЗУЧЕН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СНЕЖИ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7269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16360" y="0"/>
            <a:ext cx="453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РОЖДЕНИЕ КРИСТА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04520" y="2749680"/>
            <a:ext cx="535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арик из пылинки и молекул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ды растет, принимая фор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шестигранной приз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5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49600" y="765000"/>
            <a:ext cx="5641920" cy="5840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-396720" y="14940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Зависимость форм снежинок от внешн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8:24:14Z</dcterms:created>
  <dc:creator>User</dc:creator>
  <dc:description/>
  <dc:language>en-US</dc:language>
  <cp:lastModifiedBy>Name</cp:lastModifiedBy>
  <dcterms:modified xsi:type="dcterms:W3CDTF">2010-09-26T09:23:16Z</dcterms:modified>
  <cp:revision>25</cp:revision>
  <dc:subject/>
  <dc:title>Форма снежи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9000000000001024140</vt:lpwstr>
  </property>
</Properties>
</file>