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15D1-EFEA-49D2-89F0-D4413707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14C-4069-430B-8B4E-6CE9534D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9F6-2653-48BB-9B07-55C84023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92BF-D6EB-4532-B15D-FFADF70C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DA08-D5C6-4136-9FA9-C345151D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9A24-45F9-4167-A093-6D6D9D1E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92D0-FB42-4ED2-A475-E658477F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EEB6-01EB-475C-98C6-9B4B0B31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B09D-8D6B-48F2-AE1D-F4F321F1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F30C-19F6-4555-BEE4-860E5A68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4B92-21B8-4CD8-8CAF-EB05B010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4F1C-2016-4FF1-8C36-57BC9EBF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A65B-E538-42E1-8AB1-F6CB3F46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8BF6-5394-4294-9DD7-94CB6CB4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4B85-95E3-4CD5-813B-FCC75C7C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245A-17F8-43B6-B697-894C22F1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63CA-6048-4CD2-B157-A8286ADE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C1B4-4327-47AD-A146-72C59628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2B7-5379-4C6A-9B25-117B8842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66B-099D-4157-978F-F2554028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F80-7800-4119-B3D7-587FA644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D36-A2FF-4C62-94B6-2568F395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3084-B4C6-4FEC-87D2-6C08D05A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AE5-2591-4355-820B-0455D014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6183-58F6-414E-8EC0-E6CB4FACAA7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E860-34BB-4585-838A-316F219873E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900igr.net/" TargetMode="External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0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8.jpeg"/><Relationship Id="rId5" Type="http://schemas.openxmlformats.org/officeDocument/2006/relationships/image" Target="../media/image2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2708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ff"/>
                </a:solidFill>
                <a:latin typeface="Wide Latin"/>
              </a:rPr>
              <a:t>НЕБЕСНАЯ ГЕОМЕТРИЯ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320" y="4319640"/>
            <a:ext cx="2931840" cy="2538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210360" y="189000"/>
            <a:ext cx="2933640" cy="2539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293400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516720" y="4319640"/>
            <a:ext cx="2932200" cy="2538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7240" y="549360"/>
            <a:ext cx="24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аботу выполни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Устинова Евг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ихачева П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апшина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71840" y="5105520"/>
            <a:ext cx="37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уководит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Кузьмина Наталья Игор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Бурцева Наталья Михайлов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rId5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959840" y="58680"/>
            <a:ext cx="47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Симметрия снежин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41560" cy="2971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2892240" cy="2741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019920" y="914400"/>
            <a:ext cx="2933640" cy="29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0" y="914400"/>
            <a:ext cx="2971800" cy="2689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2666880" y="2428920"/>
            <a:ext cx="3733920" cy="325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867280" y="3865680"/>
            <a:ext cx="3276720" cy="2992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57200" y="3881520"/>
            <a:ext cx="3124080" cy="2976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943600" y="762120"/>
            <a:ext cx="3200400" cy="291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200400" y="2133720"/>
            <a:ext cx="2890800" cy="3124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457200" y="762120"/>
            <a:ext cx="2946240" cy="297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038480" y="1143000"/>
            <a:ext cx="2878200" cy="2492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2514600" cy="250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2674800" cy="2743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6553080" y="-152280"/>
            <a:ext cx="281952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3935520"/>
            <a:ext cx="3200400" cy="2922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3124080" cy="3048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3124080" y="1828800"/>
            <a:ext cx="2936880" cy="2610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3657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-380880" y="0"/>
            <a:ext cx="35049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9920" cy="3589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730840" y="3106800"/>
            <a:ext cx="3413160" cy="3751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2819520" y="1752480"/>
            <a:ext cx="3201840" cy="3517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5334120" y="-304920"/>
            <a:ext cx="4105080" cy="2986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304920" y="3733920"/>
            <a:ext cx="3047760" cy="3031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3983040"/>
            <a:ext cx="3348000" cy="2874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342120" y="3860640"/>
            <a:ext cx="2801880" cy="2997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089760" y="0"/>
            <a:ext cx="3054240" cy="3357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52960" cy="3284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3124080" y="2057400"/>
            <a:ext cx="341964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038480" cy="3825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3471840" cy="31892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5867280" y="-76320"/>
            <a:ext cx="327672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3200400" cy="27241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-76320" y="40212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408720" y="4038480"/>
            <a:ext cx="2735280" cy="28195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446880" y="0"/>
            <a:ext cx="2697120" cy="2781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203640" cy="297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ют снежные кристаллы 48 видов, разбитые на 9 кла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личина, форма и узор снежинок зависят от температуры и вла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утренне строение снежного кристалла определяет его внешний обл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снежинки имеют 6 граней и одну ось симмет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чение кристалла, перпендикулярное оси симметрии, имеет шестиугольную фор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38224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И все-таки, загадка осталась для нас загадкой:</a:t>
            </a:r>
            <a:br>
              <a:rPr sz="3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чему в природе так часто встречаются гексагональные форм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ae8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ть физическое и математическое обоснование разнообразия форм снежин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историю появления фотографий с изображениями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процесс образования и роста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ределить зависимость форм снежинок от внешних условий (температура, влажность воздух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яснить разнообразие форм снежинок с точки зрения симмет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илсон Бентл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США) 15 января 1885 года сделал первый снимок  снежного кристалла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47 лет Бентли составил коллекцию фотографий снежинок (более 5000 ), снятых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32144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53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гсо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.Рыбинск) нашел не худший способ фотографирования снежинок: снежинки надо помещать на тончайшей, почти паутинной, сетке из шелковинок, - тогда их можно снять во всех деталях, а сетку  потом заретуширов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33 году наблюдатель полярной станции на Земле Франца-Иосиф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саткин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л более 300 снимков снежинок разнообразнейшей фор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55 год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Заморск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делил снежинки на 9 классов и 48 видов. Это – пластинки, звёзды, ежи, столбики, пушинки, запонки, призмы, группов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ннет Либрех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алифорния) составил полный справочник снежин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52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619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метил, что все снежинки име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 гран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ну ос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анализировал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нежино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156360" y="1773360"/>
            <a:ext cx="2622600" cy="3500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4208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72692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916360" y="0"/>
            <a:ext cx="453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РОЖДЕНИЕ КРИСТАЛ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04520" y="2749680"/>
            <a:ext cx="535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арик из пылинки и молекул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ы растет, принимая фор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естигранной пр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749600" y="765000"/>
            <a:ext cx="5641920" cy="5840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-396720" y="149400"/>
            <a:ext cx="9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Зависимость форм снежинок от внешних усло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8:24:14Z</dcterms:created>
  <dc:creator>User</dc:creator>
  <dc:description/>
  <dc:language>en-US</dc:language>
  <cp:lastModifiedBy>Name</cp:lastModifiedBy>
  <dcterms:modified xsi:type="dcterms:W3CDTF">2010-09-26T09:23:16Z</dcterms:modified>
  <cp:revision>25</cp:revision>
  <dc:subject/>
  <dc:title>Форма снежин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9000000000001024140</vt:lpwstr>
  </property>
</Properties>
</file>