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5E30-A3F4-43AA-A9EF-EE0FBE16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3CBF-EFA8-477F-8B65-26FD80D1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E753-4E60-46A8-9893-D7DA855F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9B26-3251-4FD3-9F5A-7B3BCAAC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0D84-988E-4DB4-ACFD-B9480265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F984-7404-40F8-BAFA-4B0FBC7B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E3CE-263C-47D6-81BF-CACEA6D5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0B93-41BF-4EC4-92CA-14F7B234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0258-2751-4235-8943-08955B66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B252-0A98-453F-989B-DD88D3A3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CDB8-54BB-4F7B-8080-33FEF1E2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4A89-4D1C-4A0E-9B94-E974423A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9222-CA00-468D-8289-D0E132C7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7C71-0DE3-41D7-8469-9B4DD31A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0005-54E9-4977-86D2-A7383D52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01F2-6B00-4B21-BC4F-00C0851C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8D23-A844-4D03-9F8C-A8AFD18F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A2F1-AD01-4FE6-AC90-E06F9762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1580-8C81-4933-A042-DCC78DD4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C3E6-1096-499A-ACE3-7419401E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F9A-D2E8-4B7F-866B-BB1E7DE9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5FD-2EC5-4D6F-98C7-08AE563F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380C-7489-4813-8F80-F50464FE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70B6-104A-4283-9099-EB8CE421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91CE-BA45-4D95-889B-3743A2A6BC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25C2-3822-422E-96A3-FB21E783BBF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900igr.net/" TargetMode="External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0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18.jpeg"/><Relationship Id="rId5" Type="http://schemas.openxmlformats.org/officeDocument/2006/relationships/image" Target="../media/image2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2708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ff"/>
                </a:solidFill>
                <a:latin typeface="Wide Latin"/>
              </a:rPr>
              <a:t>НЕБЕСНАЯ ГЕОМЕТРИЯ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320" y="4319640"/>
            <a:ext cx="2931840" cy="2538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210360" y="189000"/>
            <a:ext cx="2933640" cy="2539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293400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516720" y="4319640"/>
            <a:ext cx="2932200" cy="2538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07240" y="549360"/>
            <a:ext cx="24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аботу выполни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Устинова Евг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ихачева П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апшина Екате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71840" y="5105520"/>
            <a:ext cx="37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уководит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Кузьмина Наталья Игор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Бурцева Наталья Михайлов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rId5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959840" y="58680"/>
            <a:ext cx="47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Симметрия снежин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941560" cy="2971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2892240" cy="2741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019920" y="914400"/>
            <a:ext cx="2933640" cy="29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0" y="914400"/>
            <a:ext cx="2971800" cy="2689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2666880" y="2428920"/>
            <a:ext cx="3733920" cy="3254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867280" y="3865680"/>
            <a:ext cx="3276720" cy="2992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57200" y="3881520"/>
            <a:ext cx="3124080" cy="2976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5943600" y="762120"/>
            <a:ext cx="3200400" cy="291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200400" y="2133720"/>
            <a:ext cx="2890800" cy="3124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457200" y="762120"/>
            <a:ext cx="2946240" cy="297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038480" y="1143000"/>
            <a:ext cx="2878200" cy="2492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676520" y="2286000"/>
            <a:ext cx="2514600" cy="250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0" y="4191120"/>
            <a:ext cx="2674800" cy="2743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6553080" y="-152280"/>
            <a:ext cx="281952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5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3935520"/>
            <a:ext cx="3200400" cy="29224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3124080" cy="2971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019920" y="0"/>
            <a:ext cx="3124080" cy="3048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3124080" y="1828800"/>
            <a:ext cx="2936880" cy="2610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3657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-380880" y="0"/>
            <a:ext cx="350496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9920" cy="3589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730840" y="3106800"/>
            <a:ext cx="3413160" cy="3751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2819520" y="1752480"/>
            <a:ext cx="3201840" cy="3517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5334120" y="-304920"/>
            <a:ext cx="4105080" cy="2986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304920" y="3733920"/>
            <a:ext cx="3047760" cy="3031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3983040"/>
            <a:ext cx="3348000" cy="2874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342120" y="3860640"/>
            <a:ext cx="2801880" cy="29973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089760" y="0"/>
            <a:ext cx="3054240" cy="3357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52960" cy="3284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3124080" y="2057400"/>
            <a:ext cx="341964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038480" cy="3825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3471840" cy="31892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5867280" y="-76320"/>
            <a:ext cx="327672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4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3200400" cy="27241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-76320" y="4021200"/>
            <a:ext cx="3276720" cy="2836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6408720" y="4038480"/>
            <a:ext cx="2735280" cy="28195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6446880" y="0"/>
            <a:ext cx="2697120" cy="2781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203640" cy="2979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ществуют снежные кристаллы 48 видов, разбитые на 9 клас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личина, форма и узор снежинок зависят от температуры и вла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утренне строение снежного кристалла определяет его внешний обл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 снежинки имеют 6 граней и одну ось симмет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чение кристалла, перпендикулярное оси симметрии, имеет шестиугольную фор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38224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И все-таки, загадка осталась для нас загадкой:</a:t>
            </a:r>
            <a:br>
              <a:rPr sz="32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чему в природе так часто встречаются гексагональные форм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ae8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Ц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ть физическое и математическое обоснование разнообразия форм снежин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историю появления фотографий с изображениями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процесс образования и роста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ределить зависимость форм снежинок от внешних условий (температура, влажность воздух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ъяснить разнообразие форм снежинок с точки зрения симмет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илсон Бентл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США) 15 января 1885 года сделал первый снимок  снежного кристалла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47 лет Бентли составил коллекцию фотографий снежинок (более 5000 ), снятых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432144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853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гсо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.Рыбинск) нашел не худший способ фотографирования снежинок: снежинки надо помещать на тончайшей, почти паутинной, сетке из шелковинок, - тогда их можно снять во всех деталях, а сетку  потом заретуширова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33 году наблюдатель полярной станции на Земле Франца-Иосиф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саткин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л более 300 снимков снежинок разнообразнейшей фор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55 год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Заморск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делил снежинки на 9 классов и 48 видов. Это – пластинки, звёзды, ежи, столбики, пушинки, запонки, призмы, групповы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ннет Либрех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Калифорния) составил полный справочник снежин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152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619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оганн Кепл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метил, что все снежинки име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 гран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ну ос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анализировал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нежинок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156360" y="1773360"/>
            <a:ext cx="2622600" cy="3500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42084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72692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916360" y="0"/>
            <a:ext cx="453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РОЖДЕНИЕ КРИСТАЛ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04520" y="2749680"/>
            <a:ext cx="535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арик из пылинки и молекул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ы растет, принимая фор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естигранной приз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749600" y="765000"/>
            <a:ext cx="5641920" cy="5840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-396720" y="149400"/>
            <a:ext cx="9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Зависимость форм снежинок от внешних усло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8:24:14Z</dcterms:created>
  <dc:creator>User</dc:creator>
  <dc:description/>
  <dc:language>en-US</dc:language>
  <cp:lastModifiedBy>Name</cp:lastModifiedBy>
  <dcterms:modified xsi:type="dcterms:W3CDTF">2010-09-26T09:23:16Z</dcterms:modified>
  <cp:revision>25</cp:revision>
  <dc:subject/>
  <dc:title>Форма снежин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09000000000001024140</vt:lpwstr>
  </property>
</Properties>
</file>