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123A-90A8-44CA-8151-29A399CE5F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1C69-E2DF-4F5D-AF86-14C8A0A1EC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AF1D-14C4-4A9D-806A-B369B47E26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936C-3F8F-4C17-8CF2-E47C211FEE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B130-0B1E-46D9-9F77-E1A952D4A1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F28A-ED45-49EC-A5A2-C76EC1AE8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2F8-291C-4C74-A108-FB212558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E03-6571-4517-961C-86D76136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9F38-7207-4042-B1A4-F3039294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C37-73FC-4EE4-8CA8-5F4C7094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F73-7556-473B-BD08-ED12961B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E05-592E-407A-A446-A30CDEA3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9BF-0020-45EE-B5AF-0CB53FD2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AA0-C628-4927-98C0-6FE8BCBC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044-3AC6-4346-995B-C83E4941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306-2AE3-41E2-A1E8-0E292531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D1D-1E85-49C2-A8CC-189068E8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531-E7B8-426B-9A86-096328A7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BE10-D21D-406F-ABF5-3C07FC334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223770"/>
          <p:cNvPicPr/>
          <p:nvPr/>
        </p:nvPicPr>
        <p:blipFill>
          <a:blip r:embed="rId2"/>
          <a:stretch/>
        </p:blipFill>
        <p:spPr>
          <a:xfrm>
            <a:off x="5076720" y="2997360"/>
            <a:ext cx="3097440" cy="27018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846000" y="1071720"/>
            <a:ext cx="613728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Площадь кру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еометрическая фигура называется круг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539640" y="1773360"/>
            <a:ext cx="4248360" cy="424800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92720" y="1916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3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6"/>
          <p:cNvSpPr/>
          <p:nvPr/>
        </p:nvSpPr>
        <p:spPr>
          <a:xfrm rot="1878000">
            <a:off x="552240" y="1039680"/>
            <a:ext cx="4608360" cy="3913200"/>
          </a:xfrm>
          <a:prstGeom prst="hexagon">
            <a:avLst>
              <a:gd name="adj" fmla="val 29441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879480" y="1058760"/>
            <a:ext cx="3952800" cy="3882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874960" y="71604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H="1" flipV="1">
            <a:off x="1801800" y="1337760"/>
            <a:ext cx="1060560" cy="15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791440" y="1364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929120" y="160668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836960" y="413712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7520" y="1353960"/>
            <a:ext cx="57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923200" y="15429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000880" y="196056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794400" y="3854520"/>
            <a:ext cx="5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149720" y="54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925600" y="593640"/>
            <a:ext cx="210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9"/>
              <p:cNvSpPr txBox="1"/>
              <p:nvPr/>
            </p:nvSpPr>
            <p:spPr>
              <a:xfrm>
                <a:off x="6416640" y="1649520"/>
                <a:ext cx="1281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0"/>
              <p:cNvSpPr txBox="1"/>
              <p:nvPr/>
            </p:nvSpPr>
            <p:spPr>
              <a:xfrm>
                <a:off x="6362640" y="3849840"/>
                <a:ext cx="1441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1"/>
              <p:cNvSpPr txBox="1"/>
              <p:nvPr/>
            </p:nvSpPr>
            <p:spPr>
              <a:xfrm>
                <a:off x="6343560" y="2674800"/>
                <a:ext cx="1476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836640" y="5403960"/>
                <a:ext cx="66628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11400" y="2268360"/>
                <a:ext cx="3335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8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7"/>
          <p:cNvGrpSpPr/>
          <p:nvPr/>
        </p:nvGrpSpPr>
        <p:grpSpPr>
          <a:xfrm>
            <a:off x="539640" y="677880"/>
            <a:ext cx="4608720" cy="4622760"/>
            <a:chOff x="539640" y="677880"/>
            <a:chExt cx="4608720" cy="4622760"/>
          </a:xfrm>
        </p:grpSpPr>
        <p:sp>
          <p:nvSpPr>
            <p:cNvPr id="76" name="Oval 2"/>
            <p:cNvSpPr/>
            <p:nvPr/>
          </p:nvSpPr>
          <p:spPr>
            <a:xfrm>
              <a:off x="539640" y="692280"/>
              <a:ext cx="4608720" cy="4608360"/>
            </a:xfrm>
            <a:prstGeom prst="ellipse">
              <a:avLst/>
            </a:prstGeom>
            <a:solidFill>
              <a:srgbClr val="99cc00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rc 4"/>
            <p:cNvSpPr/>
            <p:nvPr/>
          </p:nvSpPr>
          <p:spPr>
            <a:xfrm>
              <a:off x="2782800" y="677880"/>
              <a:ext cx="2359080" cy="3294000"/>
            </a:xfrm>
            <a:custGeom>
              <a:avLst/>
              <a:gdLst>
                <a:gd name="textAreaLeft" fmla="*/ 0 w 2359080"/>
                <a:gd name="textAreaRight" fmla="*/ 2359440 w 2359080"/>
                <a:gd name="textAreaTop" fmla="*/ 0 h 3294000"/>
                <a:gd name="textAreaBottom" fmla="*/ 3294360 h 3294000"/>
              </a:gdLst>
              <a:ahLst/>
              <a:rect l="textAreaLeft" t="textAreaTop" r="textAreaRight" b="textAreaBottom"/>
              <a:pathLst>
                <a:path fill="none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</a:path>
                <a:path stroke="0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"/>
          <p:cNvSpPr/>
          <p:nvPr/>
        </p:nvSpPr>
        <p:spPr>
          <a:xfrm>
            <a:off x="5263920" y="51588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руговой с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27640" y="136224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круга, ограниченная двумя радиусами и дугой, соединяющий концы этих радиу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2844720" y="2413080"/>
                <a:ext cx="901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3224160" y="3332160"/>
                <a:ext cx="730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5662440" y="3987720"/>
                <a:ext cx="24447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12:39Z</dcterms:created>
  <dc:creator/>
  <dc:description/>
  <dc:language>en-US</dc:language>
  <cp:lastModifiedBy>А</cp:lastModifiedBy>
  <dcterms:modified xsi:type="dcterms:W3CDTF">2011-12-12T17:28:59Z</dcterms:modified>
  <cp:revision>4</cp:revision>
  <dc:subject/>
  <dc:title>Презентация PowerPoint</dc:title>
</cp:coreProperties>
</file>