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B590-EB4B-4079-9557-9CA2BC485D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F0BB-D1B0-4388-9E0C-5E256D4800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2A0B-8774-40D5-AC1A-DA3445EB95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AF7A-542E-484F-BDD7-EF17558A44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9E8F-44BB-426A-B8BB-03CD8A8825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A04E-A435-43B4-92BE-5000AA3BFC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5DDC-1D4D-4E5F-9746-78DF8D3ED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806B-A5BF-48AD-8F57-1726FB5A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41CC-69B3-48F5-8C78-4CD631915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A89E-7AD6-41A4-BFF8-A57ACF997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C5B1-C47A-4637-9052-36D7AFF9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2E1B-5DB7-452A-A800-1998E387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801E-9F2A-4E07-8770-E4E9EEC6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5BB4-AC04-428E-B5D5-4EF63694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EBD0-0E50-4343-A832-67D20020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00FE-9BE6-4575-ADF5-4E3E5D82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BF15-6345-4D14-9779-48084F12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F570-EBBA-4EB1-8D86-64650A5D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159B-4259-42BC-9650-54F7DF4BEB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j0223770"/>
          <p:cNvPicPr/>
          <p:nvPr/>
        </p:nvPicPr>
        <p:blipFill>
          <a:blip r:embed="rId2"/>
          <a:stretch/>
        </p:blipFill>
        <p:spPr>
          <a:xfrm>
            <a:off x="5076720" y="2997360"/>
            <a:ext cx="3097440" cy="27018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846000" y="1071720"/>
            <a:ext cx="6137280" cy="14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Площадь круг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ая геометрическая фигура называется круго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4"/>
          <p:cNvSpPr/>
          <p:nvPr/>
        </p:nvSpPr>
        <p:spPr>
          <a:xfrm>
            <a:off x="539640" y="1773360"/>
            <a:ext cx="4248360" cy="4248000"/>
          </a:xfrm>
          <a:prstGeom prst="ellipse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292720" y="1916280"/>
            <a:ext cx="35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ь плоскости, ограниченная окруж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val 3"/>
          <p:cNvSpPr/>
          <p:nvPr/>
        </p:nvSpPr>
        <p:spPr>
          <a:xfrm>
            <a:off x="539640" y="692280"/>
            <a:ext cx="4608720" cy="460836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6"/>
          <p:cNvSpPr/>
          <p:nvPr/>
        </p:nvSpPr>
        <p:spPr>
          <a:xfrm rot="1878000">
            <a:off x="552240" y="1039680"/>
            <a:ext cx="4608360" cy="3913200"/>
          </a:xfrm>
          <a:prstGeom prst="hexagon">
            <a:avLst>
              <a:gd name="adj" fmla="val 29441"/>
              <a:gd name="vf" fmla="val 11547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4"/>
          <p:cNvSpPr/>
          <p:nvPr/>
        </p:nvSpPr>
        <p:spPr>
          <a:xfrm>
            <a:off x="539640" y="692280"/>
            <a:ext cx="4608720" cy="460836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7"/>
          <p:cNvSpPr/>
          <p:nvPr/>
        </p:nvSpPr>
        <p:spPr>
          <a:xfrm>
            <a:off x="879480" y="1058760"/>
            <a:ext cx="3952800" cy="388296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>
            <a:off x="2874960" y="716040"/>
            <a:ext cx="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9"/>
          <p:cNvSpPr/>
          <p:nvPr/>
        </p:nvSpPr>
        <p:spPr>
          <a:xfrm flipH="1" flipV="1">
            <a:off x="1801800" y="1337760"/>
            <a:ext cx="1060560" cy="155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2791440" y="13644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4929120" y="1606680"/>
            <a:ext cx="57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4836960" y="4137120"/>
            <a:ext cx="57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317520" y="1353960"/>
            <a:ext cx="57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2923200" y="154296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2000880" y="1960560"/>
            <a:ext cx="39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3794400" y="3854520"/>
            <a:ext cx="5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S</a:t>
            </a:r>
            <a:r>
              <a:rPr b="0" lang="en-US" sz="3200" spc="-1" strike="noStrike" baseline="30000">
                <a:solidFill>
                  <a:srgbClr val="ff00ff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4149720" y="541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5925600" y="593640"/>
            <a:ext cx="2104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S</a:t>
            </a:r>
            <a:r>
              <a:rPr b="0" lang="en-US" sz="3200" spc="-1" strike="noStrike" baseline="30000">
                <a:solidFill>
                  <a:srgbClr val="ff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19"/>
              <p:cNvSpPr txBox="1"/>
              <p:nvPr/>
            </p:nvSpPr>
            <p:spPr>
              <a:xfrm>
                <a:off x="6416640" y="1649520"/>
                <a:ext cx="12812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20"/>
              <p:cNvSpPr txBox="1"/>
              <p:nvPr/>
            </p:nvSpPr>
            <p:spPr>
              <a:xfrm>
                <a:off x="6362640" y="3849840"/>
                <a:ext cx="144144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21"/>
              <p:cNvSpPr txBox="1"/>
              <p:nvPr/>
            </p:nvSpPr>
            <p:spPr>
              <a:xfrm>
                <a:off x="6343560" y="2674800"/>
                <a:ext cx="147636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22"/>
              <p:cNvSpPr txBox="1"/>
              <p:nvPr/>
            </p:nvSpPr>
            <p:spPr>
              <a:xfrm>
                <a:off x="836640" y="5403960"/>
                <a:ext cx="666288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2</m:t>
                    </m:r>
                    <m:r>
                      <m:t xml:space="preserve">πR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Oval 4"/>
          <p:cNvSpPr/>
          <p:nvPr/>
        </p:nvSpPr>
        <p:spPr>
          <a:xfrm>
            <a:off x="539640" y="692280"/>
            <a:ext cx="4608720" cy="4608360"/>
          </a:xfrm>
          <a:prstGeom prst="ellipse">
            <a:avLst/>
          </a:prstGeom>
          <a:solidFill>
            <a:srgbClr val="99cc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5"/>
              <p:cNvSpPr txBox="1"/>
              <p:nvPr/>
            </p:nvSpPr>
            <p:spPr>
              <a:xfrm>
                <a:off x="1211400" y="2268360"/>
                <a:ext cx="333504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Oval 8"/>
          <p:cNvSpPr/>
          <p:nvPr/>
        </p:nvSpPr>
        <p:spPr>
          <a:xfrm>
            <a:off x="539640" y="692280"/>
            <a:ext cx="4608720" cy="4608360"/>
          </a:xfrm>
          <a:prstGeom prst="ellipse">
            <a:avLst/>
          </a:prstGeom>
          <a:solidFill>
            <a:srgbClr val="99cc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7"/>
          <p:cNvGrpSpPr/>
          <p:nvPr/>
        </p:nvGrpSpPr>
        <p:grpSpPr>
          <a:xfrm>
            <a:off x="539640" y="677880"/>
            <a:ext cx="4608720" cy="4622760"/>
            <a:chOff x="539640" y="677880"/>
            <a:chExt cx="4608720" cy="4622760"/>
          </a:xfrm>
        </p:grpSpPr>
        <p:sp>
          <p:nvSpPr>
            <p:cNvPr id="76" name="Oval 2"/>
            <p:cNvSpPr/>
            <p:nvPr/>
          </p:nvSpPr>
          <p:spPr>
            <a:xfrm>
              <a:off x="539640" y="692280"/>
              <a:ext cx="4608720" cy="4608360"/>
            </a:xfrm>
            <a:prstGeom prst="ellipse">
              <a:avLst/>
            </a:prstGeom>
            <a:solidFill>
              <a:srgbClr val="99cc00"/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Arc 4"/>
            <p:cNvSpPr/>
            <p:nvPr/>
          </p:nvSpPr>
          <p:spPr>
            <a:xfrm>
              <a:off x="2782800" y="677880"/>
              <a:ext cx="2359080" cy="3294000"/>
            </a:xfrm>
            <a:custGeom>
              <a:avLst/>
              <a:gdLst>
                <a:gd name="textAreaLeft" fmla="*/ 0 w 2359080"/>
                <a:gd name="textAreaRight" fmla="*/ 2359440 w 2359080"/>
                <a:gd name="textAreaTop" fmla="*/ 0 h 3294000"/>
                <a:gd name="textAreaBottom" fmla="*/ 3294360 h 3294000"/>
              </a:gdLst>
              <a:ahLst/>
              <a:rect l="textAreaLeft" t="textAreaTop" r="textAreaRight" b="textAreaBottom"/>
              <a:pathLst>
                <a:path fill="none" w="21600" h="30166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4546"/>
                    <a:pt x="20997" y="27461"/>
                    <a:pt x="19828" y="30165"/>
                  </a:cubicBezTo>
                </a:path>
                <a:path stroke="0" w="21600" h="30166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4546"/>
                    <a:pt x="20997" y="27461"/>
                    <a:pt x="19828" y="30165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ff"/>
            </a:solidFill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 Box 5"/>
          <p:cNvSpPr/>
          <p:nvPr/>
        </p:nvSpPr>
        <p:spPr>
          <a:xfrm>
            <a:off x="5263920" y="515880"/>
            <a:ext cx="36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Круговой сек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5327640" y="1362240"/>
            <a:ext cx="38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ь круга, ограниченная двумя радиусами и дугой, соединяющий концы этих радиу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9"/>
              <p:cNvSpPr txBox="1"/>
              <p:nvPr/>
            </p:nvSpPr>
            <p:spPr>
              <a:xfrm>
                <a:off x="2844720" y="2413080"/>
                <a:ext cx="90180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10"/>
              <p:cNvSpPr txBox="1"/>
              <p:nvPr/>
            </p:nvSpPr>
            <p:spPr>
              <a:xfrm>
                <a:off x="3224160" y="3332160"/>
                <a:ext cx="7304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11"/>
              <p:cNvSpPr txBox="1"/>
              <p:nvPr/>
            </p:nvSpPr>
            <p:spPr>
              <a:xfrm>
                <a:off x="5662440" y="3987720"/>
                <a:ext cx="244476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06:12:39Z</dcterms:created>
  <dc:creator/>
  <dc:description/>
  <dc:language>en-US</dc:language>
  <cp:lastModifiedBy>А</cp:lastModifiedBy>
  <dcterms:modified xsi:type="dcterms:W3CDTF">2011-12-12T17:28:59Z</dcterms:modified>
  <cp:revision>4</cp:revision>
  <dc:subject/>
  <dc:title>Презентация PowerPoint</dc:title>
</cp:coreProperties>
</file>