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B61A-51B2-4860-95D1-64F7429794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1C9B-9D89-4FEC-B2F2-0219D5A2DE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F158-6C35-42EC-AD6C-7CA4E1D573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6B21-8260-444A-9FED-C49C00273D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7850-15EB-4057-8A2D-E49B6146F1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35E4-79F8-4A71-ABF0-BDB7CF298E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7BFA-659D-4F0B-9432-A9084F08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E7A-66FA-479F-913D-D2D3DB83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612-9624-4C69-963C-1079798E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A76A-5D0E-478D-B24E-1582189E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A570-963E-4FAB-B425-04679F02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73E-E0B4-4F9D-A8F6-70E5E17E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86D6-4C60-4A71-9C51-A738BEB3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91CD-5B44-4B72-A505-24DF274C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EB15-F1CE-41D1-A4EC-CC498F3F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D265-6596-4807-9227-B6681448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93FA-0159-4E97-A969-FF4FF678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54F-1FFC-4172-B210-31C5C810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8741-6D98-4EDC-83E5-68F1FB147D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0223770"/>
          <p:cNvPicPr/>
          <p:nvPr/>
        </p:nvPicPr>
        <p:blipFill>
          <a:blip r:embed="rId2"/>
          <a:stretch/>
        </p:blipFill>
        <p:spPr>
          <a:xfrm>
            <a:off x="5076720" y="2997360"/>
            <a:ext cx="3097440" cy="27018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846000" y="1071720"/>
            <a:ext cx="6137280" cy="14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Площадь кру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геометрическая фигура называется круг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539640" y="1773360"/>
            <a:ext cx="4248360" cy="424800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92720" y="191628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плоскости, ограниченная окруж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3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6"/>
          <p:cNvSpPr/>
          <p:nvPr/>
        </p:nvSpPr>
        <p:spPr>
          <a:xfrm rot="1878000">
            <a:off x="552240" y="1039680"/>
            <a:ext cx="4608360" cy="3913200"/>
          </a:xfrm>
          <a:prstGeom prst="hexagon">
            <a:avLst>
              <a:gd name="adj" fmla="val 29441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879480" y="1058760"/>
            <a:ext cx="3952800" cy="3882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874960" y="716040"/>
            <a:ext cx="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 flipH="1" flipV="1">
            <a:off x="1801800" y="1337760"/>
            <a:ext cx="1060560" cy="155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791440" y="1364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929120" y="160668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836960" y="413712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7520" y="1353960"/>
            <a:ext cx="57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923200" y="154296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000880" y="196056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794400" y="3854520"/>
            <a:ext cx="5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4149720" y="541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925600" y="593640"/>
            <a:ext cx="210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9"/>
              <p:cNvSpPr txBox="1"/>
              <p:nvPr/>
            </p:nvSpPr>
            <p:spPr>
              <a:xfrm>
                <a:off x="6416640" y="1649520"/>
                <a:ext cx="12812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0"/>
              <p:cNvSpPr txBox="1"/>
              <p:nvPr/>
            </p:nvSpPr>
            <p:spPr>
              <a:xfrm>
                <a:off x="6362640" y="3849840"/>
                <a:ext cx="14414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1"/>
              <p:cNvSpPr txBox="1"/>
              <p:nvPr/>
            </p:nvSpPr>
            <p:spPr>
              <a:xfrm>
                <a:off x="6343560" y="2674800"/>
                <a:ext cx="14763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2"/>
              <p:cNvSpPr txBox="1"/>
              <p:nvPr/>
            </p:nvSpPr>
            <p:spPr>
              <a:xfrm>
                <a:off x="836640" y="5403960"/>
                <a:ext cx="66628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11400" y="2268360"/>
                <a:ext cx="33350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8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7"/>
          <p:cNvGrpSpPr/>
          <p:nvPr/>
        </p:nvGrpSpPr>
        <p:grpSpPr>
          <a:xfrm>
            <a:off x="539640" y="677880"/>
            <a:ext cx="4608720" cy="4622760"/>
            <a:chOff x="539640" y="677880"/>
            <a:chExt cx="4608720" cy="4622760"/>
          </a:xfrm>
        </p:grpSpPr>
        <p:sp>
          <p:nvSpPr>
            <p:cNvPr id="76" name="Oval 2"/>
            <p:cNvSpPr/>
            <p:nvPr/>
          </p:nvSpPr>
          <p:spPr>
            <a:xfrm>
              <a:off x="539640" y="692280"/>
              <a:ext cx="4608720" cy="4608360"/>
            </a:xfrm>
            <a:prstGeom prst="ellipse">
              <a:avLst/>
            </a:prstGeom>
            <a:solidFill>
              <a:srgbClr val="99cc00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rc 4"/>
            <p:cNvSpPr/>
            <p:nvPr/>
          </p:nvSpPr>
          <p:spPr>
            <a:xfrm>
              <a:off x="2782800" y="677880"/>
              <a:ext cx="2359080" cy="3294000"/>
            </a:xfrm>
            <a:custGeom>
              <a:avLst/>
              <a:gdLst>
                <a:gd name="textAreaLeft" fmla="*/ 0 w 2359080"/>
                <a:gd name="textAreaRight" fmla="*/ 2359440 w 2359080"/>
                <a:gd name="textAreaTop" fmla="*/ 0 h 3294000"/>
                <a:gd name="textAreaBottom" fmla="*/ 3294360 h 3294000"/>
              </a:gdLst>
              <a:ahLst/>
              <a:rect l="textAreaLeft" t="textAreaTop" r="textAreaRight" b="textAreaBottom"/>
              <a:pathLst>
                <a:path fill="none" w="21600" h="3016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546"/>
                    <a:pt x="20997" y="27461"/>
                    <a:pt x="19828" y="30165"/>
                  </a:cubicBezTo>
                </a:path>
                <a:path stroke="0" w="21600" h="3016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546"/>
                    <a:pt x="20997" y="27461"/>
                    <a:pt x="19828" y="3016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ff"/>
            </a:solidFill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5"/>
          <p:cNvSpPr/>
          <p:nvPr/>
        </p:nvSpPr>
        <p:spPr>
          <a:xfrm>
            <a:off x="5263920" y="51588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Круговой се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27640" y="136224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круга, ограниченная двумя радиусами и дугой, соединяющий концы этих радиу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2844720" y="2413080"/>
                <a:ext cx="901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3224160" y="3332160"/>
                <a:ext cx="730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1"/>
              <p:cNvSpPr txBox="1"/>
              <p:nvPr/>
            </p:nvSpPr>
            <p:spPr>
              <a:xfrm>
                <a:off x="5662440" y="3987720"/>
                <a:ext cx="24447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6:12:39Z</dcterms:created>
  <dc:creator/>
  <dc:description/>
  <dc:language>en-US</dc:language>
  <cp:lastModifiedBy>А</cp:lastModifiedBy>
  <dcterms:modified xsi:type="dcterms:W3CDTF">2011-12-12T17:28:59Z</dcterms:modified>
  <cp:revision>4</cp:revision>
  <dc:subject/>
  <dc:title>Презентация PowerPoint</dc:title>
</cp:coreProperties>
</file>