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55.jpeg" ContentType="image/jpeg"/>
  <Override PartName="/ppt/media/image43.png" ContentType="image/png"/>
  <Override PartName="/ppt/media/image54.jpeg" ContentType="image/jpeg"/>
  <Override PartName="/ppt/media/image33.png" ContentType="image/png"/>
  <Override PartName="/ppt/media/image51.jpeg" ContentType="image/jpeg"/>
  <Override PartName="/ppt/media/image23.wmf" ContentType="image/x-wmf"/>
  <Override PartName="/ppt/media/image7.jpeg" ContentType="image/jpeg"/>
  <Override PartName="/ppt/media/image28.png" ContentType="image/png"/>
  <Override PartName="/ppt/media/image14.wmf" ContentType="image/x-wmf"/>
  <Override PartName="/ppt/media/image58.jpeg" ContentType="image/jpeg"/>
  <Override PartName="/ppt/media/image29.png" ContentType="image/png"/>
  <Override PartName="/ppt/media/image63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62.wmf" ContentType="image/x-wmf"/>
  <Override PartName="/ppt/media/image24.jpeg" ContentType="image/jpeg"/>
  <Override PartName="/ppt/media/image30.png" ContentType="image/png"/>
  <Override PartName="/ppt/media/image16.wmf" ContentType="image/x-wmf"/>
  <Override PartName="/ppt/media/image60.jpeg" ContentType="image/jpeg"/>
  <Override PartName="/ppt/media/image64.png" ContentType="image/png"/>
  <Override PartName="/ppt/media/image15.jpeg" ContentType="image/jpeg"/>
  <Override PartName="/ppt/media/image27.png" ContentType="image/png"/>
  <Override PartName="/ppt/media/image22.wmf" ContentType="image/x-wmf"/>
  <Override PartName="/ppt/media/image20.jpeg" ContentType="image/jpeg"/>
  <Override PartName="/ppt/media/image19.png" ContentType="image/png"/>
  <Override PartName="/ppt/media/image47.png" ContentType="image/png"/>
  <Override PartName="/ppt/media/image18.jpeg" ContentType="image/jpeg"/>
  <Override PartName="/ppt/media/image17.jpeg" ContentType="image/jpeg"/>
  <Override PartName="/ppt/media/image1.jpeg" ContentType="image/jpeg"/>
  <Override PartName="/ppt/media/image21.png" ContentType="image/png"/>
  <Override PartName="/ppt/media/image36.png" ContentType="image/png"/>
  <Override PartName="/ppt/media/image9.jpeg" ContentType="image/jpeg"/>
  <Override PartName="/ppt/media/image48.png" ContentType="image/png"/>
  <Override PartName="/ppt/media/image11.jpeg" ContentType="image/jpeg"/>
  <Override PartName="/ppt/media/image12.png" ContentType="image/png"/>
  <Override PartName="/ppt/media/image49.png" ContentType="image/png"/>
  <Override PartName="/ppt/media/image65.jpeg" ContentType="image/jpeg"/>
  <Override PartName="/ppt/media/image38.png" ContentType="image/png"/>
  <Override PartName="/ppt/media/image8.jpeg" ContentType="image/jpeg"/>
  <Override PartName="/ppt/media/image26.png" ContentType="image/png"/>
  <Override PartName="/ppt/media/image5.wmf" ContentType="image/x-wmf"/>
  <Override PartName="/ppt/media/image10.jpeg" ContentType="image/jpeg"/>
  <Override PartName="/ppt/media/image13.wmf" ContentType="image/x-wmf"/>
  <Override PartName="/ppt/media/image50.jpeg" ContentType="image/jpeg"/>
  <Override PartName="/ppt/media/image2.jpeg" ContentType="image/jpeg"/>
  <Override PartName="/ppt/media/image31.png" ContentType="image/png"/>
  <Override PartName="/ppt/media/image53.png" ContentType="image/png"/>
  <Override PartName="/ppt/media/image56.jpeg" ContentType="image/jpeg"/>
  <Override PartName="/ppt/media/image34.png" ContentType="image/png"/>
  <Override PartName="/ppt/media/image35.png" ContentType="image/png"/>
  <Override PartName="/ppt/media/image37.png" ContentType="image/png"/>
  <Override PartName="/ppt/media/image61.wmf" ContentType="image/x-wmf"/>
  <Override PartName="/ppt/media/image39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0A25-1F58-482B-B1A5-ED7C72B3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71E9-F568-4DFA-B2FC-A5831E42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8FF8-A75A-46F2-985F-49BE4A3BC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7C32-29DF-40FE-B3AB-1B757C96F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D3E-967F-4B23-B58D-0F4C2CA9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B5D8-BCEC-4980-9EFA-F88E151C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53B0-F99D-4A45-A46E-CBBAF865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27A8-F8F0-44EE-8172-13CA1685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7DA3-7E35-46DE-8F01-F084BDC5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D840-6136-408D-9FC0-042231D8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1DCA-8685-4CF0-A406-A4373C1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4FA-B67C-4FB6-B0CD-7716A6CCA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79280" y="100080"/>
            <a:ext cx="863640" cy="807840"/>
          </a:xfrm>
          <a:prstGeom prst="pentagon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9299-B415-40E5-B957-580C02709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" Target="slide2.xml"/><Relationship Id="rId5" Type="http://schemas.openxmlformats.org/officeDocument/2006/relationships/image" Target="../media/image20.jpeg"/><Relationship Id="rId6" Type="http://schemas.openxmlformats.org/officeDocument/2006/relationships/image" Target="../media/image21.png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6.png"/><Relationship Id="rId13" Type="http://schemas.openxmlformats.org/officeDocument/2006/relationships/image" Target="../media/image37.png"/><Relationship Id="rId1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png"/><Relationship Id="rId1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jpe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8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6.xml"/><Relationship Id="rId9" Type="http://schemas.openxmlformats.org/officeDocument/2006/relationships/slide" Target="slide20.xml"/><Relationship Id="rId10" Type="http://schemas.openxmlformats.org/officeDocument/2006/relationships/slide" Target="slide22.xml"/><Relationship Id="rId1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63.jpeg"/><Relationship Id="rId4" Type="http://schemas.openxmlformats.org/officeDocument/2006/relationships/image" Target="../media/image64.png"/><Relationship Id="rId5" Type="http://schemas.openxmlformats.org/officeDocument/2006/relationships/image" Target="../media/image65.jpeg"/><Relationship Id="rId6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333520" y="385920"/>
            <a:ext cx="4575240" cy="4107960"/>
            <a:chOff x="2333520" y="385920"/>
            <a:chExt cx="4575240" cy="4107960"/>
          </a:xfrm>
        </p:grpSpPr>
        <p:sp>
          <p:nvSpPr>
            <p:cNvPr id="43" name=""/>
            <p:cNvSpPr/>
            <p:nvPr/>
          </p:nvSpPr>
          <p:spPr>
            <a:xfrm>
              <a:off x="2338560" y="401040"/>
              <a:ext cx="4570200" cy="4092840"/>
            </a:xfrm>
            <a:prstGeom prst="pentagon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2333520" y="385920"/>
              <a:ext cx="4573080" cy="4090320"/>
              <a:chOff x="2333520" y="385920"/>
              <a:chExt cx="4573080" cy="4090320"/>
            </a:xfrm>
          </p:grpSpPr>
          <p:sp>
            <p:nvSpPr>
              <p:cNvPr id="45" name=""/>
              <p:cNvSpPr/>
              <p:nvPr/>
            </p:nvSpPr>
            <p:spPr>
              <a:xfrm>
                <a:off x="2333520" y="405720"/>
                <a:ext cx="4573080" cy="4064400"/>
              </a:xfrm>
              <a:prstGeom prst="pentagon">
                <a:avLst/>
              </a:prstGeom>
              <a:noFill/>
              <a:ln w="2232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2333520" y="405720"/>
                <a:ext cx="4573080" cy="405252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333520" y="1954440"/>
                <a:ext cx="457308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233880" y="385920"/>
                <a:ext cx="138600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3233880" y="1972440"/>
                <a:ext cx="3668760" cy="248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619880" y="403200"/>
                <a:ext cx="1385280" cy="40554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356200" y="1972440"/>
                <a:ext cx="3668760" cy="250380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3746160" y="1957320"/>
              <a:ext cx="1755720" cy="1572480"/>
              <a:chOff x="3746160" y="1957320"/>
              <a:chExt cx="1755720" cy="1572480"/>
            </a:xfrm>
          </p:grpSpPr>
          <p:sp>
            <p:nvSpPr>
              <p:cNvPr id="53" name=""/>
              <p:cNvSpPr/>
              <p:nvPr/>
            </p:nvSpPr>
            <p:spPr>
              <a:xfrm rot="10800000">
                <a:off x="3746160" y="1959480"/>
                <a:ext cx="1755720" cy="15627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10800000">
                <a:off x="3746160" y="1964160"/>
                <a:ext cx="1755720" cy="155808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H="1">
                <a:off x="3746160" y="2926800"/>
                <a:ext cx="17557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10800000">
                <a:off x="4624200" y="1970640"/>
                <a:ext cx="53208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0800000">
                <a:off x="3747960" y="1964160"/>
                <a:ext cx="1408320" cy="95580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800000">
                <a:off x="4092480" y="1964160"/>
                <a:ext cx="531720" cy="1559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0800000">
                <a:off x="4084920" y="1957320"/>
                <a:ext cx="1408320" cy="9626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4278240" y="2325960"/>
              <a:ext cx="684360" cy="598680"/>
              <a:chOff x="4278240" y="2325960"/>
              <a:chExt cx="684360" cy="598680"/>
            </a:xfrm>
          </p:grpSpPr>
          <p:sp>
            <p:nvSpPr>
              <p:cNvPr id="61" name=""/>
              <p:cNvSpPr/>
              <p:nvPr/>
            </p:nvSpPr>
            <p:spPr>
              <a:xfrm>
                <a:off x="4278240" y="2328840"/>
                <a:ext cx="684360" cy="59544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278240" y="2328840"/>
                <a:ext cx="684360" cy="593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4278240" y="2555640"/>
                <a:ext cx="6843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412880" y="232596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412880" y="2558160"/>
                <a:ext cx="549000" cy="363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620240" y="2328480"/>
                <a:ext cx="207360" cy="594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4281480" y="2558160"/>
                <a:ext cx="549000" cy="36648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90240"/>
            <a:ext cx="8136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br>
              <a:rPr sz="1000"/>
            </a:br>
            <a:r>
              <a:rPr b="0" lang="en-US" sz="6600" spc="-1" strike="noStrike">
                <a:solidFill>
                  <a:srgbClr val="d40056"/>
                </a:solidFill>
                <a:latin typeface="GothicRus"/>
              </a:rPr>
              <a:t>«Золотое сечение»</a:t>
            </a:r>
            <a:br>
              <a:rPr sz="6600"/>
            </a:br>
            <a:br>
              <a:rPr sz="2800"/>
            </a:br>
            <a:br>
              <a:rPr sz="6600"/>
            </a:br>
            <a:br>
              <a:rPr sz="1200"/>
            </a:br>
            <a:br>
              <a:rPr sz="6600"/>
            </a:br>
            <a:br>
              <a:rPr sz="10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иртуальны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ультати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874440" y="5149800"/>
            <a:ext cx="769788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Составитель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- Процко Т.М.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учитель математики МГМЛ при МГТУ им. Г.И.Носов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2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63400" y="1192320"/>
            <a:ext cx="3384720" cy="2708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4527720" y="1384200"/>
            <a:ext cx="4000320" cy="1629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80" y="3895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76800" y="60249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порции, близкие к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4" action="ppaction://hlinksldjump"/>
              </a:rPr>
              <a:t>золотому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сечению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1243080" y="4005360"/>
            <a:ext cx="1647720" cy="266364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3529080" y="4307040"/>
            <a:ext cx="5040360" cy="1039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7"/>
          <a:stretch/>
        </p:blipFill>
        <p:spPr>
          <a:xfrm>
            <a:off x="5003640" y="5315040"/>
            <a:ext cx="2016360" cy="6462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5905440" y="3054240"/>
            <a:ext cx="1297080" cy="60984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68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75960" y="37800"/>
            <a:ext cx="7699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Пристальное и глубоко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учение природы есть ист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самых плодотворных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ткрытий математи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Фурье Ж.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03280" y="333000"/>
            <a:ext cx="73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Не знающи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еометр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а не войдёт в Академию»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Плато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122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тайный знак пифагорейского братства – была выбрана ими в качестве символа жизни и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гласно легенде , один пифагореец заболел на чужбине и не мог перед смертью расплатиться с ухаживающим за ним хозяином дома. Последний нарисовал на стене своего дом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вёздчатый пятиуголь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Увидав через несколько лет этот знак, другой странствующий пифагореец осведомился о случившимся у хозяина и щедро его вознагради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190080" y="836640"/>
            <a:ext cx="8655480" cy="286560"/>
            <a:chOff x="190080" y="836640"/>
            <a:chExt cx="8655480" cy="286560"/>
          </a:xfrm>
        </p:grpSpPr>
        <p:sp>
          <p:nvSpPr>
            <p:cNvPr id="174" name=""/>
            <p:cNvSpPr/>
            <p:nvPr/>
          </p:nvSpPr>
          <p:spPr>
            <a:xfrm flipH="1" rot="5400000">
              <a:off x="445212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rot="16200000">
              <a:off x="439992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193680" y="1584000"/>
            <a:ext cx="3889440" cy="3754440"/>
            <a:chOff x="193680" y="1584000"/>
            <a:chExt cx="3889440" cy="3754440"/>
          </a:xfrm>
        </p:grpSpPr>
        <p:sp>
          <p:nvSpPr>
            <p:cNvPr id="177" name=""/>
            <p:cNvSpPr/>
            <p:nvPr/>
          </p:nvSpPr>
          <p:spPr>
            <a:xfrm rot="10800000">
              <a:off x="193680" y="1584000"/>
              <a:ext cx="3889440" cy="3754440"/>
            </a:xfrm>
            <a:prstGeom prst="verticalScroll">
              <a:avLst>
                <a:gd name="adj" fmla="val 802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91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73120" y="1743120"/>
              <a:ext cx="3109680" cy="3109680"/>
              <a:chOff x="573120" y="1743120"/>
              <a:chExt cx="3109680" cy="310968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73120" y="1743120"/>
                <a:ext cx="3109680" cy="3109680"/>
                <a:chOff x="573120" y="1743120"/>
                <a:chExt cx="3109680" cy="310968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573120" y="1758600"/>
                  <a:ext cx="3109680" cy="3080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73120" y="2936160"/>
                  <a:ext cx="310968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185480" y="1743120"/>
                  <a:ext cx="942480" cy="308304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1185480" y="2949480"/>
                  <a:ext cx="2494800" cy="189000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2127960" y="1756080"/>
                  <a:ext cx="941760" cy="30834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87880" y="2949480"/>
                  <a:ext cx="2495160" cy="190332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539720" y="2944800"/>
                <a:ext cx="1177920" cy="1184040"/>
                <a:chOff x="1539720" y="2944800"/>
                <a:chExt cx="1177920" cy="1184040"/>
              </a:xfrm>
            </p:grpSpPr>
            <p:sp>
              <p:nvSpPr>
                <p:cNvPr id="187" name=""/>
                <p:cNvSpPr/>
                <p:nvPr/>
              </p:nvSpPr>
              <p:spPr>
                <a:xfrm rot="10800000">
                  <a:off x="1539720" y="2946600"/>
                  <a:ext cx="1177920" cy="11764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10800000">
                  <a:off x="1539720" y="2950200"/>
                  <a:ext cx="1177920" cy="117288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flipH="1">
                  <a:off x="1539720" y="3674880"/>
                  <a:ext cx="11779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 rot="10800000">
                  <a:off x="2129040" y="295488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 rot="10800000">
                  <a:off x="1540800" y="2950200"/>
                  <a:ext cx="945000" cy="71928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 rot="10800000">
                  <a:off x="1771920" y="2950200"/>
                  <a:ext cx="356760" cy="117396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 rot="10800000">
                  <a:off x="1766880" y="2944800"/>
                  <a:ext cx="945000" cy="72468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1889280" y="3222720"/>
                <a:ext cx="450720" cy="455760"/>
                <a:chOff x="1889280" y="3222720"/>
                <a:chExt cx="450720" cy="455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1889280" y="3224880"/>
                  <a:ext cx="450720" cy="452880"/>
                </a:xfrm>
                <a:prstGeom prst="pentagon">
                  <a:avLst/>
                </a:prstGeom>
                <a:noFill/>
                <a:ln w="9360">
                  <a:solidFill>
                    <a:srgbClr val="e8271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1889280" y="3224880"/>
                  <a:ext cx="450720" cy="451800"/>
                </a:xfrm>
                <a:prstGeom prst="star5">
                  <a:avLst/>
                </a:prstGeom>
                <a:noFill/>
                <a:ln w="936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889280" y="3397320"/>
                  <a:ext cx="450720" cy="0"/>
                </a:xfrm>
                <a:prstGeom prst="line">
                  <a:avLst/>
                </a:prstGeom>
                <a:ln w="12600">
                  <a:solidFill>
                    <a:srgbClr val="0031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1977840" y="32227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426" y="0"/>
                      </a:moveTo>
                      <a:lnTo>
                        <a:pt x="0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977840" y="3399480"/>
                  <a:ext cx="361800" cy="276840"/>
                </a:xfrm>
                <a:custGeom>
                  <a:avLst/>
                  <a:gdLst/>
                  <a:ahLst/>
                  <a:rect l="l" t="t" r="r" b="b"/>
                  <a:pathLst>
                    <a:path w="1128" h="846">
                      <a:moveTo>
                        <a:pt x="1128" y="0"/>
                      </a:moveTo>
                      <a:lnTo>
                        <a:pt x="0" y="846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14640" y="3224520"/>
                  <a:ext cx="136440" cy="451800"/>
                </a:xfrm>
                <a:custGeom>
                  <a:avLst/>
                  <a:gdLst/>
                  <a:ahLst/>
                  <a:rect l="l" t="t" r="r" b="b"/>
                  <a:pathLst>
                    <a:path w="426" h="1380">
                      <a:moveTo>
                        <a:pt x="0" y="0"/>
                      </a:moveTo>
                      <a:lnTo>
                        <a:pt x="426" y="1380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1891440" y="3399480"/>
                  <a:ext cx="361800" cy="279000"/>
                </a:xfrm>
                <a:custGeom>
                  <a:avLst/>
                  <a:gdLst/>
                  <a:ahLst/>
                  <a:rect l="l" t="t" r="r" b="b"/>
                  <a:pathLst>
                    <a:path w="1128" h="852">
                      <a:moveTo>
                        <a:pt x="0" y="0"/>
                      </a:moveTo>
                      <a:lnTo>
                        <a:pt x="1128" y="852"/>
                      </a:lnTo>
                    </a:path>
                  </a:pathLst>
                </a:custGeom>
                <a:noFill/>
                <a:ln w="12600">
                  <a:solidFill>
                    <a:srgbClr val="0031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2" name=""/>
          <p:cNvSpPr/>
          <p:nvPr/>
        </p:nvSpPr>
        <p:spPr>
          <a:xfrm>
            <a:off x="627480" y="5419800"/>
            <a:ext cx="807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Геометрия владеет двумя сокровищами: одно из них – это теорема Пифагор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 другое – деление отрезка в «золотом сечении». Первое можно сравн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 мерой золота; второе же больше напоминает драгоценный камень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оганн Кепл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7320"/>
            <a:ext cx="822960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Ходить превыше звёзд влечёт меня охота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 облаком нестись, презрев земную низкость.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М.В.Ломоно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09160" y="836640"/>
            <a:ext cx="8655480" cy="286560"/>
            <a:chOff x="209160" y="836640"/>
            <a:chExt cx="8655480" cy="286560"/>
          </a:xfrm>
        </p:grpSpPr>
        <p:sp>
          <p:nvSpPr>
            <p:cNvPr id="205" name=""/>
            <p:cNvSpPr/>
            <p:nvPr/>
          </p:nvSpPr>
          <p:spPr>
            <a:xfrm flipH="1" rot="5400000">
              <a:off x="447120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41900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2987640" y="1420920"/>
            <a:ext cx="49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ентаграмму  изображали для того,  чтоб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пастись  от проникновения в дом злых дух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924280"/>
            <a:ext cx="3827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трывок из «Фауста»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рудновато выйти мне тепер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ут кое – что мешает мне немного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олшебный знак у вашего пор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Ф а у с 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к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этому ви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о как же бес пробрался ты за мной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ким путём впросак попался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М е ф и с т о ф е л 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зволили её вы плохо начерт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 промежуток в уголку осталс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Там, у дверей, - и я свободно мог вскочи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224000" y="1163520"/>
            <a:ext cx="1690560" cy="1669680"/>
            <a:chOff x="1224000" y="1163520"/>
            <a:chExt cx="1690560" cy="1669680"/>
          </a:xfrm>
        </p:grpSpPr>
        <p:grpSp>
          <p:nvGrpSpPr>
            <p:cNvPr id="210" name=""/>
            <p:cNvGrpSpPr/>
            <p:nvPr/>
          </p:nvGrpSpPr>
          <p:grpSpPr>
            <a:xfrm>
              <a:off x="1224000" y="1163520"/>
              <a:ext cx="1690560" cy="1669680"/>
              <a:chOff x="1224000" y="1163520"/>
              <a:chExt cx="1690560" cy="1669680"/>
            </a:xfrm>
          </p:grpSpPr>
          <p:sp>
            <p:nvSpPr>
              <p:cNvPr id="211" name=""/>
              <p:cNvSpPr/>
              <p:nvPr/>
            </p:nvSpPr>
            <p:spPr>
              <a:xfrm>
                <a:off x="1224000" y="1171800"/>
                <a:ext cx="1690560" cy="165456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24000" y="1803960"/>
                <a:ext cx="16905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1556640" y="1163520"/>
                <a:ext cx="51228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556640" y="1811160"/>
                <a:ext cx="1356120" cy="101484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069280" y="1170360"/>
                <a:ext cx="511920" cy="165564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231920" y="1811160"/>
                <a:ext cx="1356480" cy="10220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739160" y="1808640"/>
              <a:ext cx="654120" cy="628560"/>
              <a:chOff x="1739160" y="1808640"/>
              <a:chExt cx="654120" cy="628560"/>
            </a:xfrm>
          </p:grpSpPr>
          <p:sp>
            <p:nvSpPr>
              <p:cNvPr id="218" name=""/>
              <p:cNvSpPr/>
              <p:nvPr/>
            </p:nvSpPr>
            <p:spPr>
              <a:xfrm rot="10800000">
                <a:off x="1739160" y="1809720"/>
                <a:ext cx="654120" cy="62460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1739160" y="1811520"/>
                <a:ext cx="654120" cy="62280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1739160" y="2196360"/>
                <a:ext cx="65412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0800000">
                <a:off x="2066760" y="181404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1739880" y="1811520"/>
                <a:ext cx="524880" cy="38196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10800000">
                <a:off x="1868400" y="1811520"/>
                <a:ext cx="198000" cy="62316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0800000">
                <a:off x="1865160" y="1808640"/>
                <a:ext cx="524880" cy="38484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1938960" y="1957680"/>
              <a:ext cx="245160" cy="244800"/>
              <a:chOff x="1938960" y="1957680"/>
              <a:chExt cx="245160" cy="244800"/>
            </a:xfrm>
          </p:grpSpPr>
          <p:sp>
            <p:nvSpPr>
              <p:cNvPr id="226" name=""/>
              <p:cNvSpPr/>
              <p:nvPr/>
            </p:nvSpPr>
            <p:spPr>
              <a:xfrm>
                <a:off x="1938960" y="1958760"/>
                <a:ext cx="245160" cy="243360"/>
              </a:xfrm>
              <a:prstGeom prst="pentagon">
                <a:avLst/>
              </a:prstGeom>
              <a:noFill/>
              <a:ln w="9360">
                <a:solidFill>
                  <a:srgbClr val="e8271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938960" y="1958760"/>
                <a:ext cx="245160" cy="242640"/>
              </a:xfrm>
              <a:prstGeom prst="star5">
                <a:avLst/>
              </a:prstGeom>
              <a:noFill/>
              <a:ln w="936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38960" y="2051640"/>
                <a:ext cx="245160" cy="0"/>
              </a:xfrm>
              <a:prstGeom prst="line">
                <a:avLst/>
              </a:prstGeom>
              <a:ln w="12600">
                <a:solidFill>
                  <a:srgbClr val="0031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987200" y="195768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426" y="0"/>
                    </a:moveTo>
                    <a:lnTo>
                      <a:pt x="0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987200" y="2052720"/>
                <a:ext cx="196920" cy="148680"/>
              </a:xfrm>
              <a:custGeom>
                <a:avLst/>
                <a:gdLst/>
                <a:ahLst/>
                <a:rect l="l" t="t" r="r" b="b"/>
                <a:pathLst>
                  <a:path w="1128" h="846">
                    <a:moveTo>
                      <a:pt x="1128" y="0"/>
                    </a:move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061360" y="1958400"/>
                <a:ext cx="74160" cy="243000"/>
              </a:xfrm>
              <a:custGeom>
                <a:avLst/>
                <a:gdLst/>
                <a:ahLst/>
                <a:rect l="l" t="t" r="r" b="b"/>
                <a:pathLst>
                  <a:path w="426" h="1380">
                    <a:moveTo>
                      <a:pt x="0" y="0"/>
                    </a:moveTo>
                    <a:lnTo>
                      <a:pt x="426" y="1380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940040" y="2052720"/>
                <a:ext cx="196920" cy="149760"/>
              </a:xfrm>
              <a:custGeom>
                <a:avLst/>
                <a:gdLst/>
                <a:ahLst/>
                <a:rect l="l" t="t" r="r" b="b"/>
                <a:pathLst>
                  <a:path w="1128" h="852">
                    <a:moveTo>
                      <a:pt x="0" y="0"/>
                    </a:moveTo>
                    <a:lnTo>
                      <a:pt x="1128" y="852"/>
                    </a:lnTo>
                  </a:path>
                </a:pathLst>
              </a:custGeom>
              <a:noFill/>
              <a:ln w="12600">
                <a:solidFill>
                  <a:srgbClr val="0031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4970520" y="2205000"/>
            <a:ext cx="3457440" cy="4105440"/>
            <a:chOff x="4970520" y="2205000"/>
            <a:chExt cx="3457440" cy="4105440"/>
          </a:xfrm>
        </p:grpSpPr>
        <p:pic>
          <p:nvPicPr>
            <p:cNvPr id="234" name="" descr=""/>
            <p:cNvPicPr/>
            <p:nvPr/>
          </p:nvPicPr>
          <p:blipFill>
            <a:blip r:embed="rId2"/>
            <a:srcRect l="-2570" t="0" r="-1321" b="74"/>
            <a:stretch/>
          </p:blipFill>
          <p:spPr>
            <a:xfrm>
              <a:off x="4970520" y="2205000"/>
              <a:ext cx="3457440" cy="410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5076720" y="2205000"/>
              <a:ext cx="3311640" cy="4105440"/>
            </a:xfrm>
            <a:prstGeom prst="rect">
              <a:avLst/>
            </a:prstGeom>
            <a:noFill/>
            <a:ln w="41400">
              <a:solidFill>
                <a:srgbClr val="b03b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4280" y="5665680"/>
              <a:ext cx="2288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Иоганн Вольфганг Гёте 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749 г. – 1832 г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96800" y="2980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Тысячи путей ведут к заблуждению, к истине – только один»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Жан Жак Рус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125000"/>
            <a:ext cx="7910640" cy="7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порциональна и, значит, красива. Не случайно и сегодня пятиконечная звезда реет на флагах едва ли не половины стран ми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51920" y="836640"/>
            <a:ext cx="8655480" cy="286560"/>
            <a:chOff x="151920" y="836640"/>
            <a:chExt cx="8655480" cy="286560"/>
          </a:xfrm>
        </p:grpSpPr>
        <p:sp>
          <p:nvSpPr>
            <p:cNvPr id="240" name=""/>
            <p:cNvSpPr/>
            <p:nvPr/>
          </p:nvSpPr>
          <p:spPr>
            <a:xfrm flipH="1" rot="5400000">
              <a:off x="4413960" y="-325692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6200000">
              <a:off x="4361760" y="-337248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68360" y="1825560"/>
            <a:ext cx="8163000" cy="1367640"/>
            <a:chOff x="468360" y="1825560"/>
            <a:chExt cx="8163000" cy="1367640"/>
          </a:xfrm>
        </p:grpSpPr>
        <p:grpSp>
          <p:nvGrpSpPr>
            <p:cNvPr id="243" name=""/>
            <p:cNvGrpSpPr/>
            <p:nvPr/>
          </p:nvGrpSpPr>
          <p:grpSpPr>
            <a:xfrm>
              <a:off x="468360" y="1849320"/>
              <a:ext cx="1619280" cy="1337400"/>
              <a:chOff x="468360" y="1849320"/>
              <a:chExt cx="1619280" cy="1337400"/>
            </a:xfrm>
          </p:grpSpPr>
          <p:pic>
            <p:nvPicPr>
              <p:cNvPr id="2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932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5" name=""/>
              <p:cNvSpPr/>
              <p:nvPr/>
            </p:nvSpPr>
            <p:spPr>
              <a:xfrm>
                <a:off x="572040" y="2879640"/>
                <a:ext cx="1335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Буркина Фасо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617920" y="1849320"/>
              <a:ext cx="1619280" cy="1343880"/>
              <a:chOff x="2617920" y="1849320"/>
              <a:chExt cx="1619280" cy="1343880"/>
            </a:xfrm>
          </p:grpSpPr>
          <p:pic>
            <p:nvPicPr>
              <p:cNvPr id="24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617920" y="1849320"/>
                <a:ext cx="1619280" cy="107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8" name=""/>
              <p:cNvSpPr/>
              <p:nvPr/>
            </p:nvSpPr>
            <p:spPr>
              <a:xfrm>
                <a:off x="2924640" y="2886120"/>
                <a:ext cx="1070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енесуэ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4805280" y="1871640"/>
              <a:ext cx="1618920" cy="1320120"/>
              <a:chOff x="4805280" y="1871640"/>
              <a:chExt cx="1618920" cy="1320120"/>
            </a:xfrm>
          </p:grpSpPr>
          <p:pic>
            <p:nvPicPr>
              <p:cNvPr id="25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05280" y="187164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>
                <a:off x="4919760" y="2884680"/>
                <a:ext cx="141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винея - Бисау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7012080" y="1825560"/>
              <a:ext cx="1619280" cy="1324440"/>
              <a:chOff x="7012080" y="1825560"/>
              <a:chExt cx="1619280" cy="1324440"/>
            </a:xfrm>
          </p:grpSpPr>
          <p:pic>
            <p:nvPicPr>
              <p:cNvPr id="2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12080" y="182556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>
                <a:off x="7540200" y="2842920"/>
                <a:ext cx="57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ен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5" name=""/>
          <p:cNvGrpSpPr/>
          <p:nvPr/>
        </p:nvGrpSpPr>
        <p:grpSpPr>
          <a:xfrm>
            <a:off x="468360" y="3456000"/>
            <a:ext cx="8200800" cy="1350000"/>
            <a:chOff x="468360" y="3456000"/>
            <a:chExt cx="8200800" cy="1350000"/>
          </a:xfrm>
        </p:grpSpPr>
        <p:grpSp>
          <p:nvGrpSpPr>
            <p:cNvPr id="256" name=""/>
            <p:cNvGrpSpPr/>
            <p:nvPr/>
          </p:nvGrpSpPr>
          <p:grpSpPr>
            <a:xfrm>
              <a:off x="468360" y="3456000"/>
              <a:ext cx="1619280" cy="1317960"/>
              <a:chOff x="468360" y="3456000"/>
              <a:chExt cx="1619280" cy="1317960"/>
            </a:xfrm>
          </p:grpSpPr>
          <p:pic>
            <p:nvPicPr>
              <p:cNvPr id="257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68360" y="3456000"/>
                <a:ext cx="1619280" cy="107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8" name=""/>
              <p:cNvSpPr/>
              <p:nvPr/>
            </p:nvSpPr>
            <p:spPr>
              <a:xfrm>
                <a:off x="846000" y="4466880"/>
                <a:ext cx="89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Вьетна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612880" y="3460680"/>
              <a:ext cx="1619280" cy="1337400"/>
              <a:chOff x="2612880" y="3460680"/>
              <a:chExt cx="1619280" cy="1337400"/>
            </a:xfrm>
          </p:grpSpPr>
          <p:pic>
            <p:nvPicPr>
              <p:cNvPr id="2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346068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1" name=""/>
              <p:cNvSpPr/>
              <p:nvPr/>
            </p:nvSpPr>
            <p:spPr>
              <a:xfrm>
                <a:off x="2937960" y="4491000"/>
                <a:ext cx="95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ондура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826160" y="3479760"/>
              <a:ext cx="1618920" cy="1326240"/>
              <a:chOff x="4826160" y="3479760"/>
              <a:chExt cx="1618920" cy="1326240"/>
            </a:xfrm>
          </p:grpSpPr>
          <p:pic>
            <p:nvPicPr>
              <p:cNvPr id="2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26160" y="347976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4" name=""/>
              <p:cNvSpPr/>
              <p:nvPr/>
            </p:nvSpPr>
            <p:spPr>
              <a:xfrm>
                <a:off x="5203800" y="4498920"/>
                <a:ext cx="875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Гренад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7050240" y="3465360"/>
              <a:ext cx="1618920" cy="1305360"/>
              <a:chOff x="7050240" y="3465360"/>
              <a:chExt cx="1618920" cy="1305360"/>
            </a:xfrm>
          </p:grpSpPr>
          <p:pic>
            <p:nvPicPr>
              <p:cNvPr id="26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50240" y="3465360"/>
                <a:ext cx="161892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>
                <a:off x="7411320" y="446364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жибут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8" name=""/>
          <p:cNvGrpSpPr/>
          <p:nvPr/>
        </p:nvGrpSpPr>
        <p:grpSpPr>
          <a:xfrm>
            <a:off x="468360" y="5072040"/>
            <a:ext cx="8211960" cy="1400760"/>
            <a:chOff x="468360" y="5072040"/>
            <a:chExt cx="8211960" cy="1400760"/>
          </a:xfrm>
        </p:grpSpPr>
        <p:grpSp>
          <p:nvGrpSpPr>
            <p:cNvPr id="269" name=""/>
            <p:cNvGrpSpPr/>
            <p:nvPr/>
          </p:nvGrpSpPr>
          <p:grpSpPr>
            <a:xfrm>
              <a:off x="468360" y="5086440"/>
              <a:ext cx="1619280" cy="1331280"/>
              <a:chOff x="468360" y="5086440"/>
              <a:chExt cx="1619280" cy="1331280"/>
            </a:xfrm>
          </p:grpSpPr>
          <p:pic>
            <p:nvPicPr>
              <p:cNvPr id="27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83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1" name=""/>
              <p:cNvSpPr/>
              <p:nvPr/>
            </p:nvSpPr>
            <p:spPr>
              <a:xfrm>
                <a:off x="757440" y="6110640"/>
                <a:ext cx="996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Домини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631960" y="5086440"/>
              <a:ext cx="1619280" cy="1331280"/>
              <a:chOff x="2631960" y="5086440"/>
              <a:chExt cx="1619280" cy="1331280"/>
            </a:xfrm>
          </p:grpSpPr>
          <p:pic>
            <p:nvPicPr>
              <p:cNvPr id="2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3196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4" name=""/>
              <p:cNvSpPr/>
              <p:nvPr/>
            </p:nvSpPr>
            <p:spPr>
              <a:xfrm>
                <a:off x="2935080" y="6110640"/>
                <a:ext cx="1006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Зимбабв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4819680" y="5086440"/>
              <a:ext cx="1619280" cy="1331280"/>
              <a:chOff x="4819680" y="5086440"/>
              <a:chExt cx="1619280" cy="1331280"/>
            </a:xfrm>
          </p:grpSpPr>
          <p:pic>
            <p:nvPicPr>
              <p:cNvPr id="2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19680" y="50864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7" name=""/>
              <p:cNvSpPr/>
              <p:nvPr/>
            </p:nvSpPr>
            <p:spPr>
              <a:xfrm>
                <a:off x="5325840" y="6110640"/>
                <a:ext cx="58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Ир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7075440" y="5072040"/>
              <a:ext cx="1604880" cy="1400760"/>
              <a:chOff x="7075440" y="5072040"/>
              <a:chExt cx="1604880" cy="1400760"/>
            </a:xfrm>
          </p:grpSpPr>
          <p:pic>
            <p:nvPicPr>
              <p:cNvPr id="27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75440" y="5072040"/>
                <a:ext cx="16048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0" name=""/>
              <p:cNvSpPr/>
              <p:nvPr/>
            </p:nvSpPr>
            <p:spPr>
              <a:xfrm>
                <a:off x="7508160" y="6165720"/>
                <a:ext cx="727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Йеме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wedg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193320" y="847800"/>
            <a:ext cx="8655480" cy="286560"/>
            <a:chOff x="193320" y="847800"/>
            <a:chExt cx="8655480" cy="286560"/>
          </a:xfrm>
        </p:grpSpPr>
        <p:sp>
          <p:nvSpPr>
            <p:cNvPr id="282" name=""/>
            <p:cNvSpPr/>
            <p:nvPr/>
          </p:nvSpPr>
          <p:spPr>
            <a:xfrm flipH="1" rot="5400000">
              <a:off x="4455360" y="-324576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16200000">
              <a:off x="4403160" y="-336132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Мудрее всего – время, ибо оно раскрывает всё»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Фал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468360" y="1336680"/>
            <a:ext cx="8352000" cy="1374120"/>
            <a:chOff x="468360" y="1336680"/>
            <a:chExt cx="8352000" cy="1374120"/>
          </a:xfrm>
        </p:grpSpPr>
        <p:grpSp>
          <p:nvGrpSpPr>
            <p:cNvPr id="286" name=""/>
            <p:cNvGrpSpPr/>
            <p:nvPr/>
          </p:nvGrpSpPr>
          <p:grpSpPr>
            <a:xfrm>
              <a:off x="468360" y="1336680"/>
              <a:ext cx="1618920" cy="1343520"/>
              <a:chOff x="468360" y="1336680"/>
              <a:chExt cx="1618920" cy="1343520"/>
            </a:xfrm>
          </p:grpSpPr>
          <p:pic>
            <p:nvPicPr>
              <p:cNvPr id="28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3366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788760" y="237312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амеру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2593800" y="1355760"/>
              <a:ext cx="1619280" cy="1343520"/>
              <a:chOff x="2593800" y="1355760"/>
              <a:chExt cx="1619280" cy="1343520"/>
            </a:xfrm>
          </p:grpSpPr>
          <p:pic>
            <p:nvPicPr>
              <p:cNvPr id="29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3800" y="1355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1" name=""/>
              <p:cNvSpPr/>
              <p:nvPr/>
            </p:nvSpPr>
            <p:spPr>
              <a:xfrm>
                <a:off x="3009600" y="2392200"/>
                <a:ext cx="663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ита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4785840" y="1336680"/>
              <a:ext cx="1782360" cy="1348200"/>
              <a:chOff x="4785840" y="1336680"/>
              <a:chExt cx="1782360" cy="1348200"/>
            </a:xfrm>
          </p:grpSpPr>
          <p:sp>
            <p:nvSpPr>
              <p:cNvPr id="293" name=""/>
              <p:cNvSpPr/>
              <p:nvPr/>
            </p:nvSpPr>
            <p:spPr>
              <a:xfrm>
                <a:off x="4785840" y="2377800"/>
                <a:ext cx="1782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оморские остров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59640" y="133668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95" name=""/>
            <p:cNvGrpSpPr/>
            <p:nvPr/>
          </p:nvGrpSpPr>
          <p:grpSpPr>
            <a:xfrm>
              <a:off x="6932880" y="1450800"/>
              <a:ext cx="1887480" cy="1260000"/>
              <a:chOff x="6932880" y="1450800"/>
              <a:chExt cx="1887480" cy="1260000"/>
            </a:xfrm>
          </p:grpSpPr>
          <p:pic>
            <p:nvPicPr>
              <p:cNvPr id="2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7067520" y="1450800"/>
                <a:ext cx="1619280" cy="80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"/>
              <p:cNvSpPr/>
              <p:nvPr/>
            </p:nvSpPr>
            <p:spPr>
              <a:xfrm>
                <a:off x="6932880" y="2190600"/>
                <a:ext cx="1887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Корейская народна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400" spc="-1" strike="noStrike">
                    <a:solidFill>
                      <a:srgbClr val="000000"/>
                    </a:solidFill>
                    <a:latin typeface="Arial"/>
                  </a:rPr>
                  <a:t>Демокр-ая р - к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449280" y="2867040"/>
            <a:ext cx="8263080" cy="1345320"/>
            <a:chOff x="449280" y="2867040"/>
            <a:chExt cx="8263080" cy="1345320"/>
          </a:xfrm>
        </p:grpSpPr>
        <p:grpSp>
          <p:nvGrpSpPr>
            <p:cNvPr id="299" name=""/>
            <p:cNvGrpSpPr/>
            <p:nvPr/>
          </p:nvGrpSpPr>
          <p:grpSpPr>
            <a:xfrm>
              <a:off x="449280" y="2959200"/>
              <a:ext cx="1619280" cy="1095840"/>
              <a:chOff x="449280" y="2959200"/>
              <a:chExt cx="1619280" cy="1095840"/>
            </a:xfrm>
          </p:grpSpPr>
          <p:pic>
            <p:nvPicPr>
              <p:cNvPr id="300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49280" y="2959200"/>
                <a:ext cx="1619280" cy="79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1" name=""/>
              <p:cNvSpPr/>
              <p:nvPr/>
            </p:nvSpPr>
            <p:spPr>
              <a:xfrm>
                <a:off x="954360" y="3747960"/>
                <a:ext cx="57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Куб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2612880" y="2867040"/>
              <a:ext cx="1619280" cy="1330920"/>
              <a:chOff x="2612880" y="2867040"/>
              <a:chExt cx="1619280" cy="1330920"/>
            </a:xfrm>
          </p:grpSpPr>
          <p:pic>
            <p:nvPicPr>
              <p:cNvPr id="30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6128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4" name=""/>
              <p:cNvSpPr/>
              <p:nvPr/>
            </p:nvSpPr>
            <p:spPr>
              <a:xfrm>
                <a:off x="2975400" y="3890880"/>
                <a:ext cx="892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Либер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5" name=""/>
            <p:cNvGrpSpPr/>
            <p:nvPr/>
          </p:nvGrpSpPr>
          <p:grpSpPr>
            <a:xfrm>
              <a:off x="4878360" y="2867040"/>
              <a:ext cx="1619280" cy="1345320"/>
              <a:chOff x="4878360" y="2867040"/>
              <a:chExt cx="1619280" cy="1345320"/>
            </a:xfrm>
          </p:grpSpPr>
          <p:pic>
            <p:nvPicPr>
              <p:cNvPr id="30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87836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5095440" y="3905280"/>
                <a:ext cx="1195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авритан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093080" y="2867040"/>
              <a:ext cx="1619280" cy="1330920"/>
              <a:chOff x="7093080" y="2867040"/>
              <a:chExt cx="1619280" cy="1330920"/>
            </a:xfrm>
          </p:grpSpPr>
          <p:pic>
            <p:nvPicPr>
              <p:cNvPr id="3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7093080" y="28670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>
                <a:off x="7310160" y="3890880"/>
                <a:ext cx="117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икронез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1" name=""/>
          <p:cNvGrpSpPr/>
          <p:nvPr/>
        </p:nvGrpSpPr>
        <p:grpSpPr>
          <a:xfrm>
            <a:off x="482760" y="4308480"/>
            <a:ext cx="8438040" cy="1402560"/>
            <a:chOff x="482760" y="4308480"/>
            <a:chExt cx="8438040" cy="1402560"/>
          </a:xfrm>
        </p:grpSpPr>
        <p:grpSp>
          <p:nvGrpSpPr>
            <p:cNvPr id="312" name=""/>
            <p:cNvGrpSpPr/>
            <p:nvPr/>
          </p:nvGrpSpPr>
          <p:grpSpPr>
            <a:xfrm>
              <a:off x="482760" y="4308480"/>
              <a:ext cx="1618920" cy="1364400"/>
              <a:chOff x="482760" y="4308480"/>
              <a:chExt cx="1618920" cy="1364400"/>
            </a:xfrm>
          </p:grpSpPr>
          <p:pic>
            <p:nvPicPr>
              <p:cNvPr id="31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2760" y="4308480"/>
                <a:ext cx="161892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>
                <a:off x="790920" y="5365800"/>
                <a:ext cx="1009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Мозамби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612880" y="4346640"/>
              <a:ext cx="1643760" cy="1316520"/>
              <a:chOff x="2612880" y="4346640"/>
              <a:chExt cx="1643760" cy="1316520"/>
            </a:xfrm>
          </p:grpSpPr>
          <p:pic>
            <p:nvPicPr>
              <p:cNvPr id="31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612880" y="434664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7" name=""/>
              <p:cNvSpPr/>
              <p:nvPr/>
            </p:nvSpPr>
            <p:spPr>
              <a:xfrm>
                <a:off x="2701440" y="5356080"/>
                <a:ext cx="1555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Новая Зеланди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8" name=""/>
            <p:cNvGrpSpPr/>
            <p:nvPr/>
          </p:nvGrpSpPr>
          <p:grpSpPr>
            <a:xfrm>
              <a:off x="4878360" y="4361040"/>
              <a:ext cx="1619280" cy="1350000"/>
              <a:chOff x="4878360" y="4361040"/>
              <a:chExt cx="1619280" cy="1350000"/>
            </a:xfrm>
          </p:grpSpPr>
          <p:pic>
            <p:nvPicPr>
              <p:cNvPr id="319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878360" y="4361040"/>
                <a:ext cx="1619280" cy="107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5291280" y="5403960"/>
                <a:ext cx="95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кист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6877800" y="4379760"/>
              <a:ext cx="2043000" cy="1329480"/>
              <a:chOff x="6877800" y="4379760"/>
              <a:chExt cx="2043000" cy="1329480"/>
            </a:xfrm>
          </p:grpSpPr>
          <p:pic>
            <p:nvPicPr>
              <p:cNvPr id="3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112160" y="4379760"/>
                <a:ext cx="1619280" cy="107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6877800" y="5402160"/>
                <a:ext cx="2043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Папуа – Новая Гвинея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"/>
          <p:cNvSpPr/>
          <p:nvPr/>
        </p:nvSpPr>
        <p:spPr>
          <a:xfrm>
            <a:off x="1008000" y="5734080"/>
            <a:ext cx="706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толь необычайно пропорциональное строение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ентаграммы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крас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ё внутреннего математического содерж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являются основой её внешней красо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7058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Ни тридцать лет ни тридцать столетий не оказывают                    никакого влияния на ясность или на красоту геометрических тел»</a:t>
            </a:r>
            <a:br>
              <a:rPr sz="18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эррол Л. (Додгсон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8160" y="1270080"/>
            <a:ext cx="3745080" cy="2663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1116000" y="4149720"/>
            <a:ext cx="2881440" cy="20224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42920" y="1412640"/>
            <a:ext cx="3961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аифский мужской монастырь – единственный в Татарии сохранившийся монастырский комплекс, построенный в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XVII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еке.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мплекс имеет форму пятиуголь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нтагон в США . Комплекс имеет форму правильного пятиугольника, сотканного из </a:t>
            </a:r>
            <a:r>
              <a:rPr b="0" lang="ru-RU" sz="21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олотых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опорц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51960" y="333360"/>
            <a:ext cx="82407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Если бы мне пришлось начать вновь своё обучение  то я последовал бы совету Платона и принялся бы сперва за математику».</a:t>
            </a:r>
            <a:br>
              <a:rPr sz="1800"/>
            </a:b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Галилей 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643280" y="1412640"/>
            <a:ext cx="4176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 Платону: пять правильных  многогранников – пять стихий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лицетворяет вселенну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тон считал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декаэд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ым «правильным» из всех правильных многогранников,     т. к. его грани – правильные пятиугольники – сотканы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ых пропорций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754200" y="1211400"/>
            <a:ext cx="3598560" cy="2693880"/>
          </a:xfrm>
          <a:prstGeom prst="rect">
            <a:avLst/>
          </a:prstGeom>
          <a:ln w="12600">
            <a:solidFill>
              <a:srgbClr val="b97247"/>
            </a:solidFill>
            <a:miter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1147680" y="4038480"/>
            <a:ext cx="2735280" cy="2522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336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37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3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8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«…Мир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Во всей его живой архитектуре –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Орган поющий, море труб, клавир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Не умирающий ни в радости, ни в буре.»                        Н. Заболоц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11080" y="1197000"/>
            <a:ext cx="7864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исталлы пирита имеют форму  додекаэдра – поверхности, составленной из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правильных пятиугольник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 показывают раскопки в Италии, пирит был любимой игрушкой этрусских детей во времена Пифагора.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rcRect l="0" t="0" r="0" b="60"/>
          <a:stretch/>
        </p:blipFill>
        <p:spPr>
          <a:xfrm>
            <a:off x="5565600" y="2968560"/>
            <a:ext cx="3135600" cy="280512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289080" y="3006720"/>
            <a:ext cx="2849400" cy="2981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3371760" y="2994120"/>
            <a:ext cx="1932120" cy="19317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353400" y="5157720"/>
            <a:ext cx="192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исталлы пири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4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687760" y="419040"/>
            <a:ext cx="21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6320" y="5567400"/>
            <a:ext cx="238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исунок кристалла пир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7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Мышление начинается с удивления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иписывается Аристот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rcRect l="0" t="0" r="52164" b="0"/>
          <a:stretch/>
        </p:blipFill>
        <p:spPr>
          <a:xfrm>
            <a:off x="468360" y="1557360"/>
            <a:ext cx="267948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796000" y="1600200"/>
            <a:ext cx="2890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онардо да Винчи любил мастерить каркасы правильных тел и преподносить их в дар знатным особам, возможно пытаясь таким образом приобщить сильных мира сего к философским размышлениям о красоте вечных и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3"/>
          <a:srcRect l="54304" t="0" r="0" b="0"/>
          <a:stretch/>
        </p:blipFill>
        <p:spPr>
          <a:xfrm>
            <a:off x="3203640" y="1557360"/>
            <a:ext cx="2484360" cy="3456000"/>
          </a:xfrm>
          <a:prstGeom prst="rect">
            <a:avLst/>
          </a:prstGeom>
          <a:ln w="9360">
            <a:solidFill>
              <a:srgbClr val="cc6600"/>
            </a:solidFill>
            <a:miter/>
          </a:ln>
        </p:spPr>
      </p:pic>
      <p:sp>
        <p:nvSpPr>
          <p:cNvPr id="354" name=""/>
          <p:cNvSpPr/>
          <p:nvPr/>
        </p:nvSpPr>
        <p:spPr>
          <a:xfrm>
            <a:off x="395280" y="5200200"/>
            <a:ext cx="573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унки Леонардо да Вин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книги Луки Пачол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Божественная пропорц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56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9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Да, путь познания не гл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Но знаем мы со школьных лет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Загадок больше, чем разгадок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И поискам предела н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тьяничева 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2"/>
          <a:stretch/>
        </p:blipFill>
        <p:spPr>
          <a:xfrm>
            <a:off x="1547640" y="1484280"/>
            <a:ext cx="5616720" cy="3519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84280" y="5046840"/>
            <a:ext cx="7859520" cy="15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г – отец «оберегает» вселенную, имеющую форму додекаэд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граней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додекаэдра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и 12 апостолов  Христа не просто совпадение - в картине Сальвадора Дали «Тайная вечеря»  заключён глубокий религиозный смыс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62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2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075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3200" y="120348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ате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учения о золотом сеч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Понят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олотого сеч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 архитек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в живописи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в живых организм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ентаграм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ый «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правильн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многогран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олотое сечение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округ на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исок используемой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7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719360" y="5497560"/>
            <a:ext cx="5889600" cy="94680"/>
            <a:chOff x="1719360" y="5497560"/>
            <a:chExt cx="5889600" cy="94680"/>
          </a:xfrm>
        </p:grpSpPr>
        <p:sp>
          <p:nvSpPr>
            <p:cNvPr id="77" name=""/>
            <p:cNvSpPr/>
            <p:nvPr/>
          </p:nvSpPr>
          <p:spPr>
            <a:xfrm>
              <a:off x="17193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447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5900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88152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600440" y="5506920"/>
              <a:ext cx="8604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5560" y="550692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06420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9464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23280" y="5497560"/>
              <a:ext cx="85680" cy="85320"/>
            </a:xfrm>
            <a:prstGeom prst="pentagon">
              <a:avLst/>
            </a:prstGeom>
            <a:solidFill>
              <a:srgbClr val="ffbe7d"/>
            </a:solidFill>
            <a:ln w="93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744480" y="274320"/>
            <a:ext cx="80755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Кто любит учиться - никогда не проводит время в праздн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онтескье 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800280" y="1436760"/>
            <a:ext cx="19443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3433680" y="1455840"/>
            <a:ext cx="2028960" cy="33112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67" name=""/>
          <p:cNvSpPr/>
          <p:nvPr/>
        </p:nvSpPr>
        <p:spPr>
          <a:xfrm>
            <a:off x="7740720" y="2427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321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232680" y="1265400"/>
            <a:ext cx="2072880" cy="2854080"/>
            <a:chOff x="6232680" y="1265400"/>
            <a:chExt cx="2072880" cy="2854080"/>
          </a:xfrm>
        </p:grpSpPr>
        <p:sp>
          <p:nvSpPr>
            <p:cNvPr id="370" name=""/>
            <p:cNvSpPr/>
            <p:nvPr/>
          </p:nvSpPr>
          <p:spPr>
            <a:xfrm>
              <a:off x="6483240" y="1519200"/>
              <a:ext cx="1247400" cy="18576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олото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прям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угольн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6200000">
              <a:off x="6953040" y="2907000"/>
              <a:ext cx="309600" cy="1249200"/>
            </a:xfrm>
            <a:custGeom>
              <a:avLst/>
              <a:gdLst>
                <a:gd name="textAreaLeft" fmla="*/ 198000 w 309600"/>
                <a:gd name="textAreaRight" fmla="*/ 309960 w 309600"/>
                <a:gd name="textAreaTop" fmla="*/ 32400 h 1249200"/>
                <a:gd name="textAreaBottom" fmla="*/ 1216800 h 124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66"/>
                  </a:lnTo>
                  <a:cubicBezTo>
                    <a:pt x="10800" y="10566"/>
                    <a:pt x="5400" y="11466"/>
                    <a:pt x="0" y="11466"/>
                  </a:cubicBezTo>
                  <a:cubicBezTo>
                    <a:pt x="5400" y="11466"/>
                    <a:pt x="10800" y="12366"/>
                    <a:pt x="10800" y="1326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731000" y="1519200"/>
              <a:ext cx="312480" cy="1857600"/>
            </a:xfrm>
            <a:custGeom>
              <a:avLst/>
              <a:gdLst>
                <a:gd name="textAreaLeft" fmla="*/ 0 w 312480"/>
                <a:gd name="textAreaRight" fmla="*/ 112680 w 312480"/>
                <a:gd name="textAreaTop" fmla="*/ 48240 h 1857600"/>
                <a:gd name="textAreaBottom" fmla="*/ 1809360 h 18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993080" y="2293920"/>
              <a:ext cx="31248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676920" y="3627360"/>
              <a:ext cx="1854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232680" y="3270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254640" y="1276560"/>
              <a:ext cx="4615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574040" y="1265400"/>
              <a:ext cx="46800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680240" y="3324240"/>
              <a:ext cx="463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9" name="" descr=""/>
            <p:cNvPicPr/>
            <p:nvPr/>
          </p:nvPicPr>
          <p:blipFill>
            <a:blip r:embed="rId4"/>
            <a:stretch/>
          </p:blipFill>
          <p:spPr>
            <a:xfrm>
              <a:off x="6875280" y="3691080"/>
              <a:ext cx="456840" cy="42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0" y="3068640"/>
            <a:ext cx="9144000" cy="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588000" y="4254480"/>
            <a:ext cx="1224000" cy="79704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535680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ногие современные изделия с прямоугольными гран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меют форму граней, близкую к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золотому сечению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8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8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 В задачах, которые ставит перед нами жизнь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экзаменатором является сама природа»</a:t>
            </a:r>
            <a:br>
              <a:rPr sz="18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йер 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642920" y="4868640"/>
            <a:ext cx="417204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инии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сечения «вырезают» в кадре монитора области, связанные с ощущениями порядка, академической суховатой  продуманности и рассудоч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1042920" y="1484280"/>
            <a:ext cx="3048120" cy="2197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89" name="" descr=""/>
          <p:cNvPicPr/>
          <p:nvPr/>
        </p:nvPicPr>
        <p:blipFill>
          <a:blip r:embed="rId4"/>
          <a:stretch/>
        </p:blipFill>
        <p:spPr>
          <a:xfrm>
            <a:off x="5292720" y="1557360"/>
            <a:ext cx="2610000" cy="16956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1017720" y="3938760"/>
            <a:ext cx="3073320" cy="23065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391" name=""/>
          <p:cNvSpPr/>
          <p:nvPr/>
        </p:nvSpPr>
        <p:spPr>
          <a:xfrm>
            <a:off x="5003640" y="3370680"/>
            <a:ext cx="324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полнительные опорные лини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линии золотого сечен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57680" y="4006440"/>
            <a:ext cx="3826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казан вариант для монитора с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ним размером экра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600 на 800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0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4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6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исок используем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.В. Волошин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ифагор.- М: «Просвещение» 199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.И. Глейзе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История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матема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I-VIII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л. Пособие для учителей.- М: «Просвещение» 198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Лиман М.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Школьникам о математике и математиках.                М: «Просвещение» 198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ww photoline.ru/tcomp 1.ht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ttp//www.nips.riss-telecom.ru/poly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399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0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768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4" dur="768" fill="hold"/>
                                        <p:tgtEl>
                                          <p:spTgt spid="3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6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8" dur="768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1453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Довольно почестей Александрам! Да здравствуют Архимеды!»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-Симон 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33920" y="1260360"/>
            <a:ext cx="4175280" cy="499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порции, т.е. равенства отношений изучались пифагорейц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вдокс развил учение о пропорциях–одно из величайших достижений греческой мате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рмин «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чение» ввёл Леонардо да Вин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682720" y="1235160"/>
            <a:ext cx="1668600" cy="20876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684360" y="2459160"/>
            <a:ext cx="1511280" cy="21016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2678040" y="4202280"/>
            <a:ext cx="1720800" cy="194436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314280" y="460260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вдокс (408 – ок.355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9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2586240" y="3394800"/>
            <a:ext cx="186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ифагор (580-500 г.г.до н.э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399760" y="6236640"/>
            <a:ext cx="225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Леонардо да Винчи (1452-1519 г.г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1440" y="404280"/>
            <a:ext cx="7991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равнение математических фигур и величин служи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материалом для игр и обучения мудрости»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есталоцци И.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rcRect l="0" t="0" r="47276" b="37320"/>
          <a:stretch/>
        </p:blipFill>
        <p:spPr>
          <a:xfrm>
            <a:off x="449280" y="4194000"/>
            <a:ext cx="4680000" cy="1767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76360" y="1628640"/>
            <a:ext cx="3745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ие золотого сечения: целое относится к его большей части так же, как большая часть относится к меньшей ч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АВ так относится к его бол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эта большая ча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носится к его меньшей ча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аче говоря, точ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елит 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«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олотой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rcRect l="0" t="0" r="0" b="-201"/>
          <a:stretch/>
        </p:blipFill>
        <p:spPr>
          <a:xfrm>
            <a:off x="1122480" y="1096920"/>
            <a:ext cx="2879640" cy="279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00000" y="12654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0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932360" y="1412640"/>
            <a:ext cx="3811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ть  предположение, что Пифагор понятие золотого сечения позаимствовал у египтян и вавилонян. И, действительно пропорции пирамиды Хеопса, барельефы предметов быта и украшений из гробницы Тутанхамона свидетельствуют, что египетские мастера пользовались соотношени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при их созд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6640" y="3994200"/>
            <a:ext cx="3672000" cy="23112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grpSp>
        <p:nvGrpSpPr>
          <p:cNvPr id="107" name=""/>
          <p:cNvGrpSpPr/>
          <p:nvPr/>
        </p:nvGrpSpPr>
        <p:grpSpPr>
          <a:xfrm>
            <a:off x="926280" y="1182600"/>
            <a:ext cx="3381120" cy="2723760"/>
            <a:chOff x="926280" y="1182600"/>
            <a:chExt cx="3381120" cy="2723760"/>
          </a:xfrm>
        </p:grpSpPr>
        <p:pic>
          <p:nvPicPr>
            <p:cNvPr id="108" name="" descr=""/>
            <p:cNvPicPr/>
            <p:nvPr/>
          </p:nvPicPr>
          <p:blipFill>
            <a:blip r:embed="rId3"/>
            <a:stretch/>
          </p:blipFill>
          <p:spPr>
            <a:xfrm>
              <a:off x="998280" y="1182600"/>
              <a:ext cx="3240360" cy="2430720"/>
            </a:xfrm>
            <a:prstGeom prst="rect">
              <a:avLst/>
            </a:prstGeom>
            <a:ln w="9360">
              <a:solidFill>
                <a:srgbClr val="cc6600"/>
              </a:solidFill>
              <a:miter/>
            </a:ln>
          </p:spPr>
        </p:pic>
        <p:sp>
          <p:nvSpPr>
            <p:cNvPr id="109" name=""/>
            <p:cNvSpPr/>
            <p:nvPr/>
          </p:nvSpPr>
          <p:spPr>
            <a:xfrm>
              <a:off x="926280" y="3629880"/>
              <a:ext cx="338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Сфинкс, охраняющий гробницу Тутанхамо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808280" y="6317640"/>
            <a:ext cx="146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ирамида Хеоп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«Есть в математике нечто вызывающее восторг»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аусдорф Ф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13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459640" cy="7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Гёте удачно назвал благородный собор «окаменелой музыкой», …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1960" y="1168560"/>
            <a:ext cx="3189240" cy="475272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71640" y="599400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рковь Покрова Богородицы на Нерли 1165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Простая» красота пропорций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золотого сечения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776840" y="1211400"/>
            <a:ext cx="3659040" cy="4679640"/>
          </a:xfrm>
          <a:prstGeom prst="rect">
            <a:avLst/>
          </a:prstGeom>
          <a:ln w="9360">
            <a:solidFill>
              <a:srgbClr val="993300"/>
            </a:solidFill>
            <a:miter/>
          </a:ln>
        </p:spPr>
      </p:pic>
      <p:grpSp>
        <p:nvGrpSpPr>
          <p:cNvPr id="11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2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3200" y="189000"/>
            <a:ext cx="7912080" cy="72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…, но, быть может, ещё лучше было бы назвать такой собор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«окаменелой математикой»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нг Д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4998960"/>
            <a:ext cx="713916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порции Покровского Собора на Красной площади в Москве определяются  восемью членами ряда золотого сечени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ногие члены ряда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го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сечения повторяются в затейливых элементах храма многократн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61800" y="1306440"/>
            <a:ext cx="4824720" cy="347508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95960" y="1216080"/>
            <a:ext cx="3483000" cy="381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2400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5"/>
          <a:stretch/>
        </p:blipFill>
        <p:spPr>
          <a:xfrm>
            <a:off x="2917800" y="6087960"/>
            <a:ext cx="4044960" cy="32868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0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6"/>
          <a:stretch/>
        </p:blipFill>
        <p:spPr>
          <a:xfrm>
            <a:off x="7155000" y="5238720"/>
            <a:ext cx="1079280" cy="328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34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39560" y="1523880"/>
            <a:ext cx="5905800" cy="370224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pic>
        <p:nvPicPr>
          <p:cNvPr id="137" name="" descr=""/>
          <p:cNvPicPr/>
          <p:nvPr/>
        </p:nvPicPr>
        <p:blipFill>
          <a:blip r:embed="rId3"/>
          <a:srcRect l="0" t="0" r="60610" b="0"/>
          <a:stretch/>
        </p:blipFill>
        <p:spPr>
          <a:xfrm>
            <a:off x="6472080" y="1336680"/>
            <a:ext cx="2411640" cy="393048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84120" y="5379840"/>
            <a:ext cx="8229600" cy="96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ндро Ботичелли  «Рождение Венеры» (около 1485 г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порции Венеры выполнены 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олотом сеч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754200" y="2026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Поистине живопись – наука и законная дочь природы…»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онардо да Винч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259920"/>
            <a:ext cx="813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Высшее назначение математики…состоит в том, чтобы находи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ый порядок в хаосе, который нас окружает».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нер 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Человеку, сведущему в геометрии и работающему с нею, становятся доступны… все те высшие наслаждения, которые называются наслаждениями математического порядка… Я думаю, что никогда до настоящего времени мы не жили в такой геометрический период. Стоит поразмыслить о прошлом, вспомнить то, что было ранее, и мы будем ошеломлены, видя, что окружающий нас мир – это мир геометрии, чистой, истинной, безупречной в наших глазах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сё вокруг – геометр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.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и идеальной фигуры человека, по Корбюзье, должны подчиняться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золотом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57160" y="1268280"/>
            <a:ext cx="2492640" cy="4680000"/>
          </a:xfrm>
          <a:prstGeom prst="rect">
            <a:avLst/>
          </a:prstGeom>
          <a:ln w="9360">
            <a:solidFill>
              <a:srgbClr val="b97247"/>
            </a:solidFill>
            <a:miter/>
          </a:ln>
        </p:spPr>
      </p:pic>
      <p:sp>
        <p:nvSpPr>
          <p:cNvPr id="143" name=""/>
          <p:cNvSpPr/>
          <p:nvPr/>
        </p:nvSpPr>
        <p:spPr>
          <a:xfrm>
            <a:off x="749880" y="59493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дулор  Ле Корбюз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93320" y="838080"/>
            <a:ext cx="8655480" cy="286560"/>
            <a:chOff x="193320" y="838080"/>
            <a:chExt cx="8655480" cy="286560"/>
          </a:xfrm>
        </p:grpSpPr>
        <p:sp>
          <p:nvSpPr>
            <p:cNvPr id="145" name=""/>
            <p:cNvSpPr/>
            <p:nvPr/>
          </p:nvSpPr>
          <p:spPr>
            <a:xfrm flipH="1" rot="5400000">
              <a:off x="4455360" y="-3255480"/>
              <a:ext cx="117720" cy="8642520"/>
            </a:xfrm>
            <a:custGeom>
              <a:avLst/>
              <a:gdLst>
                <a:gd name="textAreaLeft" fmla="*/ -360 w 117720"/>
                <a:gd name="textAreaRight" fmla="*/ 82440 w 117720"/>
                <a:gd name="textAreaTop" fmla="*/ 358920 h 8642520"/>
                <a:gd name="textAreaBottom" fmla="*/ 8283600 h 86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898"/>
                    <a:pt x="21600" y="1795"/>
                  </a:cubicBezTo>
                  <a:lnTo>
                    <a:pt x="21600" y="19805"/>
                  </a:lnTo>
                  <a:cubicBezTo>
                    <a:pt x="21600" y="20703"/>
                    <a:pt x="10800" y="21600"/>
                    <a:pt x="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16200000">
              <a:off x="4403160" y="-3371040"/>
              <a:ext cx="236160" cy="8655120"/>
            </a:xfrm>
            <a:custGeom>
              <a:avLst/>
              <a:gdLst>
                <a:gd name="textAreaLeft" fmla="*/ 69480 w 236160"/>
                <a:gd name="textAreaRight" fmla="*/ 236520 w 236160"/>
                <a:gd name="textAreaTop" fmla="*/ 360360 h 8655120"/>
                <a:gd name="textAreaBottom" fmla="*/ 8294760 h 865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44280">
              <a:solidFill>
                <a:srgbClr val="ffba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18:19:36Z</dcterms:created>
  <dc:creator>User</dc:creator>
  <dc:description/>
  <dc:language>en-US</dc:language>
  <cp:lastModifiedBy>Name</cp:lastModifiedBy>
  <dcterms:modified xsi:type="dcterms:W3CDTF">2010-09-26T09:23:12Z</dcterms:modified>
  <cp:revision>21</cp:revision>
  <dc:subject/>
  <dc:title>Пропорции золотого сечен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0d000000000001024140</vt:lpwstr>
  </property>
</Properties>
</file>