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48E7F-6ABE-42D9-A300-DB2AA595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13014-4EFC-4F56-9B13-F8D1A5E9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82142-81CC-4981-87DA-A29531ADA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ED051-A241-4459-A3CE-A29C4989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7BBE-E637-44C9-BD49-0D42ED72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A3E7-0402-4773-884C-0225C18C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B20F-00EB-49CA-BDFC-535878BA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8047-10D4-4931-B24E-F4FFC219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83D7-F9BF-4F9D-AE69-F14D4DD7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E3FE-FF16-4AA6-9E44-FEA62D95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2636-34B1-4DD4-B6D8-B879CD8D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22C37-386F-4F1C-87A3-46375E01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0908-AE74-400A-8308-6C255F4F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EE36-62CF-4424-8AF7-7B145D77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0BA5-3AAB-433A-BEE6-41D8C7BE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C218-B96B-4883-B984-C3ACDC3BC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5AEF-43E4-4D14-BD4A-1A281442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037E1-F04A-4B28-9F35-C2382562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ECC9A-EC21-4D3C-BA7D-C56506A3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9F00A-6D7F-43F6-AEE7-43ACA93E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6BAAF-57D1-461F-8F7F-FB227808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71E2A-90AA-4ACC-87EC-C341E56E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9F2CD-4B79-491C-AA8E-EEF65035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5B845-2788-455D-B78D-4B5336BF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9A41-9F83-4680-9FE6-C43BC6EF42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B9D2-1E01-4C21-ADFC-4E48FCA3BE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9185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Garamond"/>
              </a:rPr>
              <a:t>Борьба Руси с западными завоевателями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Но когда полчища Батыя начали громить русские земли, Тевтонский орден объединился с Ливонским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332000" y="2924280"/>
            <a:ext cx="6551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038480" cy="53182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Garamond"/>
              </a:rPr>
              <a:t>Александр Ярославич (Новгородский князь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5435640" y="5950080"/>
            <a:ext cx="26654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рочитать на стр.108-1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15 июля 1240 г.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Невская битв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3400" y="1600200"/>
            <a:ext cx="328608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Русское войско, во главе с Александром (прозванным Невским), одержало на Неве блестящую победу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81471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Летом 1240г. датские и немецкие завоеватели возобновили поход на Новгородскую землю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6978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Ледовое побоище (</a:t>
            </a: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5 апреля 1242 г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4038840" cy="4525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8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35280" y="274680"/>
            <a:ext cx="325116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Александро-Невская Лавра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в г. Санкт-Петербурге.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Здесь похоронен князь Александр Невский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6591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Благодаря полководческому таланту Александра Невского Русь отстояла свою территорию и веру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07552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e5ff"/>
                </a:solidFill>
                <a:latin typeface="Garamond"/>
              </a:rPr>
              <a:t>Кто к нам с мечем придет, от меча и погибнет.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Александр Невский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38275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Одновременно с монгольским нашествием русскому народу пришлось выдержать борьбу с западными завоевателям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6480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00720" y="274680"/>
            <a:ext cx="418608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1164г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шведские отряды вторглись в пределы Новгородской земли, но были разбиты новгородским ополчением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248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Узнав о нашествии монголов на Северо-Восточную Русь, шведы решили воспользоваться ослаблением Рус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69944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В кон. 12 века римский папа объявил крестовый поход против «язычников» -жителей прибалтийских земель. На обращение откликнулись немецкие феодалы. Отряды рыцарей-крестоносцев весной 1200 г высадились в устье Западной Двины и заложили крепость Рига. Крестоносцы объединились в Орден меченосцев (Ливонский орден).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3613320"/>
            <a:ext cx="3600360" cy="2925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19640" y="3603600"/>
            <a:ext cx="361332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зже немецкие рыцари захватили земли племени пруссов и основали на них Тевтонский орден. </a:t>
            </a: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 1219г на земле эстов высадились датские рыцари, которые построили крепость Ревель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838836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10800"/>
                </a:moveTo>
                <a:lnTo>
                  <a:pt x="21859" y="3794"/>
                </a:lnTo>
                <a:lnTo>
                  <a:pt x="21859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Завоеватели силой заставляли местное население принимать католичество, отбирали у него земли, строили свои замки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5651640" cy="4292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12000" y="2997360"/>
            <a:ext cx="2663640" cy="825480"/>
          </a:xfrm>
          <a:prstGeom prst="rect">
            <a:avLst/>
          </a:pr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На помощь пришла Рус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0:35:59Z</dcterms:created>
  <dc:creator>Галкина</dc:creator>
  <dc:description/>
  <dc:language>en-US</dc:language>
  <cp:lastModifiedBy>Sanek</cp:lastModifiedBy>
  <dcterms:modified xsi:type="dcterms:W3CDTF">2011-03-09T15:06:57Z</dcterms:modified>
  <cp:revision>4</cp:revision>
  <dc:subject/>
  <dc:title>Борьба Руси с западными завоевателя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40f0000000000010250300207f7000400038000</vt:lpwstr>
  </property>
</Properties>
</file>