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F66D6-5A39-401A-954D-C2FBF8425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F700C-A62F-4F9D-810B-DE218575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7894D-8C94-410A-AE71-C803F9DAF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EE286-3ECB-4741-AC26-9203AD436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9BED0-8740-4D87-9DB6-96E15B2D2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2478-A981-4F0E-B78D-26FE5978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8B0C8-15ED-438A-B3B5-60B2008D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AC4E-9939-49A4-A41F-8062ABDA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68F0-E072-4AC6-84AA-57FFE9DD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81F0-55CF-4487-A5C2-97D87C36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1C74-F074-4B3D-9EA9-A209F00A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5DA71-19A2-437E-9FC4-43818AB9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CFBA-AC95-4E24-B678-59D9349D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F591-F0EA-4E41-AB50-3B236D3C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BD68-8AF1-4987-B6C2-CA29322C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56E8-2B5C-4FB6-92E9-A28855950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E027-8E3D-4743-8228-51EA04E1A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C0B0E-4F88-4926-8D67-46535C6F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68DE1-B811-4E50-85C9-F549F17A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10159-A8BA-4C7F-8E0F-0ED46837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D6FCA-A28F-496C-86BD-EBDCDBE6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EAE33-C47F-4600-8C23-6F6E7BD6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60CD3-3504-43CA-9723-3C7034F3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1E305-AA7E-4D9D-8B75-6FD9999E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B1E6-BF05-4556-9CFE-0128995BA1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776E-69CD-4ABA-82AC-EEBCC3396F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9185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00"/>
                </a:solidFill>
                <a:latin typeface="Garamond"/>
              </a:rPr>
              <a:t>Борьба Руси с западными завоевателями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Но когда полчища Батыя начали громить русские земли, Тевтонский орден объединился с Ливонским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332000" y="2924280"/>
            <a:ext cx="6551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038480" cy="53182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Garamond"/>
              </a:rPr>
              <a:t>Александр Ярославич (Новгородский князь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5435640" y="5950080"/>
            <a:ext cx="26654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рочитать на стр.108-1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15 июля 1240 г.</a:t>
            </a:r>
            <a:br>
              <a:rPr sz="4800"/>
            </a:b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Невская битв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33400" y="1600200"/>
            <a:ext cx="3286080" cy="4525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Русское войско, во главе с Александром (прозванным Невским), одержало на Неве блестящую победу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814716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Летом 1240г. датские и немецкие завоеватели возобновили поход на Новгородскую землю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69780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Ледовое побоище (</a:t>
            </a: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5 апреля 1242 г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4038840" cy="4525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8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435280" y="274680"/>
            <a:ext cx="325116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Александро-Невская Лавра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в г. Санкт-Петербурге.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Здесь похоронен князь Александр Невский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6591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Благодаря полководческому таланту Александра Невского Русь отстояла свою территорию и веру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07552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0" y="274680"/>
            <a:ext cx="41148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e5ff"/>
                </a:solidFill>
                <a:latin typeface="Garamond"/>
              </a:rPr>
              <a:t>Кто к нам с мечем придет, от меча и погибнет.</a:t>
            </a: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Александр Невский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38275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Одновременно с монгольским нашествием русскому народу пришлось выдержать борьбу с западными завоевателям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58920" y="2708280"/>
            <a:ext cx="6480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00720" y="274680"/>
            <a:ext cx="418608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1164г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шведские отряды вторглись в пределы Новгородской земли, но были разбиты новгородским ополчением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248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Узнав о нашествии монголов на Северо-Восточную Русь, шведы решили воспользоваться ослаблением Рус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69944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В кон. 12 века римский папа объявил крестовый поход против «язычников» -жителей прибалтийских земель. На обращение откликнулись немецкие феодалы. Отряды рыцарей-крестоносцев весной 1200 г высадились в устье Западной Двины и заложили крепость Рига. Крестоносцы объединились в Орден меченосцев (Ливонский орден). 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3613320"/>
            <a:ext cx="3600360" cy="2925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219640" y="3603600"/>
            <a:ext cx="361332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82296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озже немецкие рыцари захватили земли племени пруссов и основали на них Тевтонский орден. </a:t>
            </a: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 1219г на земле эстов высадились датские рыцари, которые построили крепость Ревель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8388360" y="6308640"/>
            <a:ext cx="755640" cy="549360"/>
          </a:xfrm>
          <a:custGeom>
            <a:avLst/>
            <a:gdLst>
              <a:gd name="textAreaLeft" fmla="*/ 35280 w 755640"/>
              <a:gd name="textAreaRight" fmla="*/ 720360 w 755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9705" h="21600">
                <a:moveTo>
                  <a:pt x="0" y="0"/>
                </a:moveTo>
                <a:lnTo>
                  <a:pt x="29705" y="0"/>
                </a:lnTo>
                <a:lnTo>
                  <a:pt x="29705" y="21600"/>
                </a:lnTo>
                <a:lnTo>
                  <a:pt x="0" y="21600"/>
                </a:lnTo>
                <a:close/>
              </a:path>
              <a:path fill="lightenLess" w="29705" h="21600">
                <a:moveTo>
                  <a:pt x="0" y="0"/>
                </a:moveTo>
                <a:lnTo>
                  <a:pt x="29705" y="0"/>
                </a:lnTo>
                <a:lnTo>
                  <a:pt x="28305" y="1400"/>
                </a:lnTo>
                <a:lnTo>
                  <a:pt x="1400" y="1400"/>
                </a:lnTo>
                <a:close/>
              </a:path>
              <a:path fill="darken" w="29705" h="21600">
                <a:moveTo>
                  <a:pt x="29705" y="0"/>
                </a:moveTo>
                <a:lnTo>
                  <a:pt x="29705" y="21600"/>
                </a:lnTo>
                <a:lnTo>
                  <a:pt x="28305" y="20200"/>
                </a:lnTo>
                <a:lnTo>
                  <a:pt x="28305" y="1400"/>
                </a:lnTo>
                <a:close/>
              </a:path>
              <a:path fill="darkenLess" w="29705" h="21600">
                <a:moveTo>
                  <a:pt x="29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5" y="20200"/>
                </a:lnTo>
                <a:close/>
              </a:path>
              <a:path fill="lighten" w="29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5" h="21600">
                <a:moveTo>
                  <a:pt x="7846" y="10800"/>
                </a:moveTo>
                <a:lnTo>
                  <a:pt x="21859" y="3794"/>
                </a:lnTo>
                <a:lnTo>
                  <a:pt x="21859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Завоеватели силой заставляли местное население принимать католичество, отбирали у него земли, строили свои замки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5651640" cy="4292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012000" y="2997360"/>
            <a:ext cx="2663640" cy="825480"/>
          </a:xfrm>
          <a:prstGeom prst="rect">
            <a:avLst/>
          </a:prstGeom>
          <a:solidFill>
            <a:srgbClr val="e5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На помощь пришла Рус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10:35:59Z</dcterms:created>
  <dc:creator>Галкина</dc:creator>
  <dc:description/>
  <dc:language>en-US</dc:language>
  <cp:lastModifiedBy>Sanek</cp:lastModifiedBy>
  <dcterms:modified xsi:type="dcterms:W3CDTF">2011-03-09T15:06:57Z</dcterms:modified>
  <cp:revision>4</cp:revision>
  <dc:subject/>
  <dc:title>Борьба Руси с западными завоевателя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40f0000000000010250300207f7000400038000</vt:lpwstr>
  </property>
</Properties>
</file>