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116C-D8D1-4F3E-B9E3-53ED4CAE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35DF-CC00-498F-B18B-9995F210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F960-70FF-461E-A9C6-2C41A677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EE5F-BFA6-40E6-92E4-314F7FFE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9BB4-1DCA-41CD-9109-B7F376C7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48EF-DC6E-43AD-9D1F-FA4BC7AE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5B7A-A81A-472F-9354-9F47E507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7D00-3290-483F-A89D-5C0A88C9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92DD-4F3B-4F86-92F6-FB4123DF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2320-779A-4ABC-8FE2-B957575B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9631-5F71-4592-8A21-7CA670DA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A4C0-8090-4397-85DC-F424CF9A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7326-4D1C-4D0F-8860-6B98ACD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C036-6948-4680-9D52-6FF0A07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35FF-61BC-46AB-9C54-17D03748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DB21-631D-45BC-810E-2891294B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2634-285C-4892-A484-9B52833B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63FE-5FF2-47E6-A34F-B34F7857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8444-7EB8-4EB3-90C2-541B9178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03C7-83DB-4CBF-B845-31B82002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628C-BBB2-4CAD-86D4-545D82CB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C3A9-05A4-46FF-984F-8BE5F1D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C669-E5BF-4CE3-8600-683F390E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1236-8C98-4BD7-90CD-2F74940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8A14-A758-46F5-A53C-A095B6ADB5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4268-C59D-42C8-BA26-BAB18D422B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Sanek</cp:lastModifiedBy>
  <dcterms:modified xsi:type="dcterms:W3CDTF">2011-03-09T15:06:57Z</dcterms:modified>
  <cp:revision>4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