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124B2-2F43-44AC-917E-F235C867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400E9-8043-49C6-84FC-CBBAFC4E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D7106-3539-4E22-9BED-215AF8B7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AB8BD-B234-4043-92BF-001E5DBA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F647-13D7-4950-B9AB-64D10886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1465-3806-446A-B319-685AE4ED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730C-0E63-4989-838A-787051B6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9D3C-22C0-4B3F-B084-C338FB5E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2AD5-A1B3-4D38-8801-529D97C3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EEE4-4FF2-4C9A-8B4D-7D94150A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C238-1780-4E5C-9C44-3CDF5276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99B8-2D0D-4C81-ADA0-3CEB4696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4744-945E-4F36-A845-F5A77821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F488-E42C-403C-A5DE-0FC153F1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B6F2-9ABC-416F-80EF-93E81D49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C106-AF37-448F-9F0C-BCB949D1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4B5B-2281-4069-A0B9-A55906C6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5FFFB-7421-4C22-A265-604C82B7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88F9A-E2C3-4682-8A31-84C547AD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C9692-8CD2-4D35-979C-EC11DC05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C343C-73EB-4CE5-B407-393AF611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C3BA3-1EBE-43AD-8BE9-CC0C9F44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D47D6-2CBA-4748-8EA0-5A8F7E62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ECCA0-1889-4D41-99EB-770D0CE9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A94B-D066-4E8B-B388-D42E83963B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5312-716D-4AF5-B5EB-ED2BDB0FA8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Garamond"/>
              </a:rPr>
              <a:t>Борьба Руси с западными завоевателями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о когда полчища Батыя начали громить русские земли, Тевтонский орден объединился с Ливонски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6551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38480" cy="5318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Garamond"/>
              </a:rPr>
              <a:t>Александр Ярославич (Новгородский князь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5950080"/>
            <a:ext cx="2665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читать на стр.108-1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15 июля 1240 г.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Невская битв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328608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усское войско, во главе с Александром (прозванным Невским), одержало на Неве блестящую победу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147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том 1240г. датские и немецкие завоеватели возобновили поход на Новгородскую земл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довое побоище (</a:t>
            </a: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5 апреля 1242 г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8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2511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Александро-Невская Лавра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в г. Санкт-Петербурге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Здесь похоронен князь Александр Невский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59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Благодаря полководческому таланту Александра Невского Русь отстояла свою территорию и вер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7552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Кто к нам с мечем придет, от меча и погибнет.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Александр Невск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38275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48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1164г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994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3613320"/>
            <a:ext cx="3600360" cy="2925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3603600"/>
            <a:ext cx="3613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 1219г на земле эстов высадились датские рыцари, которые построили крепость Ревел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5651640" cy="4292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12000" y="2997360"/>
            <a:ext cx="2663640" cy="825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На помощь пришла Рус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0:35:59Z</dcterms:created>
  <dc:creator>Галкина</dc:creator>
  <dc:description/>
  <dc:language>en-US</dc:language>
  <cp:lastModifiedBy>Sanek</cp:lastModifiedBy>
  <dcterms:modified xsi:type="dcterms:W3CDTF">2011-03-09T15:06:57Z</dcterms:modified>
  <cp:revision>4</cp:revision>
  <dc:subject/>
  <dc:title>Борьба Руси с западными завоевател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f0000000000010250300207f7000400038000</vt:lpwstr>
  </property>
</Properties>
</file>