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EF102-67DB-4C7B-ADBE-CB97835F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08BF3-8315-43D5-92B8-2189E77E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9D36-5478-4987-B8B7-0C47D509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096A8-2207-429A-8921-2B612E519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5188A-E657-4789-9209-6696ED68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92EC-6652-456A-AE88-2F615FE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01C6-9B55-4E8A-849C-6E2B4903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3318-C4F8-4AEF-8188-21B99682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CBEB2-AAE0-4A83-BBF4-E0B0B871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0644-C7AC-4C64-8ECB-869FB6BD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B0B6-C79C-474E-8C90-59BD5B8E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687F-41EF-44C2-A755-88EE6741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BF6C-2080-4B04-AD7B-0190071C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1BD3-E491-48A9-B6A8-3F9A025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FDD7C-F437-4A58-8C20-9D16FC60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8F08-F447-4DDB-BFF4-A732AC0A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74BB-C1C8-41FE-814D-6B55225A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F9639-C712-4DCF-8AAF-DAB009FF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AC6DF-691E-464B-BE02-7352D0C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6CD20-CBD5-4FDC-9EF9-0C086839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3FCEC-B00F-451C-9768-DBDAE204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67198-0498-48DB-A389-47AD3F28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66F28-53CB-4424-94C5-EC969671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47CC-6690-43BE-82C2-7BA9128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F7F-FD36-43DC-9BFA-E6F921262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7B52-FE19-465E-A467-1DE87433C0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9185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Garamond"/>
              </a:rPr>
              <a:t>Борьба Руси с западными завоевателями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Но когда полчища Батыя начали громить русские земли, Тевтонский орден объединился с Ливонски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332000" y="2924280"/>
            <a:ext cx="65516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038480" cy="5318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Garamond"/>
              </a:rPr>
              <a:t>Александр Ярославич (Новгородский князь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"/>
          <p:cNvSpPr/>
          <p:nvPr/>
        </p:nvSpPr>
        <p:spPr>
          <a:xfrm>
            <a:off x="5435640" y="5950080"/>
            <a:ext cx="2665440" cy="6426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читать на стр.108-1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15 июля 1240 г.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Невская битва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33400" y="1600200"/>
            <a:ext cx="3286080" cy="4525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Русское войско, во главе с Александром (прозванным Невским), одержало на Неве блестящую победу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814716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том 1240г. датские и немецкие завоеватели возобновили поход на Новгородскую землю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916280"/>
            <a:ext cx="66978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Ледовое побоище (</a:t>
            </a:r>
            <a:r>
              <a:rPr b="1" lang="en-US" sz="4400" spc="-1" strike="noStrike">
                <a:solidFill>
                  <a:srgbClr val="ffcc00"/>
                </a:solidFill>
                <a:latin typeface="Garamond"/>
              </a:rPr>
              <a:t>5 апреля 1242 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)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4038840" cy="4525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8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25116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Александро-Невская Лавра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 в г. Санкт-Петербурге.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Здесь похоронен князь Александр Невски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6591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Благодаря полководческому таланту Александра Невского Русь отстояла свою территорию и веру.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360" y="1989000"/>
            <a:ext cx="807552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0" y="274680"/>
            <a:ext cx="41148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e5ff"/>
                </a:solidFill>
                <a:latin typeface="Garamond"/>
              </a:rPr>
              <a:t>Кто к нам с мечем придет, от меча и погибнет.</a:t>
            </a:r>
            <a:br>
              <a:rPr sz="4800"/>
            </a:br>
            <a:br>
              <a:rPr sz="4800"/>
            </a:b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Александр Невск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38275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дновременно с монгольским нашествием русскому народу пришлось выдержать борьбу с западными завоевателям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4800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00720" y="274680"/>
            <a:ext cx="418608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Garamond"/>
              </a:rPr>
              <a:t>1164г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шведские отряды вторглись в пределы Новгородской земли, но были разбиты новгородским ополчением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248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Узнав о нашествии монголов на Северо-Восточную Русь, шведы решили воспользоваться ослаблением Рус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699444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Garamond"/>
              </a:rPr>
              <a:t>В кон. 12 века римский папа объявил крестовый поход против «язычников» -жителей прибалтийских земель. На обращение откликнулись немецкие феодалы. Отряды рыцарей-крестоносцев весной 1200 г высадились в устье Западной Двины и заложили крепость Рига. Крестоносцы объединились в Орден меченосцев (Ливонский орден). 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3613320"/>
            <a:ext cx="3600360" cy="2925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219640" y="3603600"/>
            <a:ext cx="3613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зже немецкие рыцари захватили земли племени пруссов и основали на них Тевтонский орден. </a:t>
            </a:r>
            <a:br>
              <a:rPr sz="4400"/>
            </a:b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 1219г на земле эстов высадились датские рыцари, которые построили крепость Ревель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Завоеватели силой заставляли местное население принимать католичество, отбирали у него земли, строили свои замки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565360"/>
            <a:ext cx="5651640" cy="4292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012000" y="2997360"/>
            <a:ext cx="2663640" cy="825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Garamond"/>
              </a:rPr>
              <a:t>На помощь пришла Рус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0:35:59Z</dcterms:created>
  <dc:creator>Галкина</dc:creator>
  <dc:description/>
  <dc:language>en-US</dc:language>
  <cp:lastModifiedBy>Sanek</cp:lastModifiedBy>
  <dcterms:modified xsi:type="dcterms:W3CDTF">2011-03-09T15:06:57Z</dcterms:modified>
  <cp:revision>4</cp:revision>
  <dc:subject/>
  <dc:title>Борьба Руси с западными завоевател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40f0000000000010250300207f7000400038000</vt:lpwstr>
  </property>
</Properties>
</file>