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BDC03-A0C0-494C-9069-8BE17BEB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FDAD5-860E-46D8-A128-08996229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FE5D-FDC8-48AE-92AA-64A6F38B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DD31-A3BF-4E0A-98C6-983FA5A2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A750-65EA-437A-963E-DB19FD1B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8E10-7B71-4E76-A839-DA820D0C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45F3-8F1F-4405-862B-B036C0B2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7934-EA2A-4ABD-8406-E0C6C19D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639-0200-4692-B816-9C782065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C357-9DAD-4ED6-BD52-052A719B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4D9D-8FE1-4F92-8853-DF47B5D4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2193-D1DD-4FB3-82EE-3580C79A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A99E-9551-40BF-BE64-FB93F0B3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9AD7-558C-472B-8E5A-989E9C4C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47B4-BD7D-4B4A-B493-1C791BED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BA2D-D27E-46EF-A0C3-AF9D968B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D12D-F703-4513-8FF1-54D27BCE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4B24A-3CB3-49DB-8D42-49D339F5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D8E5D-A099-4B8C-B1A2-AB95F54F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60C6-D2F6-4DDC-85AD-7B9BDE05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A967C-7A43-4872-AF71-1D62BEE0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4C2E0-5BC5-48E0-93A1-9B52D20C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5D74-C763-4CD1-A86F-C3E87153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E1994-4776-4A4E-B9D7-DDE3D2D3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392E-497C-40F3-8DED-CC2C98AB2E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9F31-C626-470A-BEB0-036ECE3C3B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Sanek</cp:lastModifiedBy>
  <dcterms:modified xsi:type="dcterms:W3CDTF">2011-03-09T15:06:57Z</dcterms:modified>
  <cp:revision>4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