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97D-A209-4731-BC62-DFD3A43A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0ED-9D39-4780-8474-21DCDA85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223-2A45-48D7-850E-6D32D340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CD9-CBA2-4D62-B263-3AADE14D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FD4-E156-4547-AEDA-DE0CD4B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8C5-CE62-46ED-ADC0-7EA6277A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38A-60CB-4716-AF32-F5364F8D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75B-C128-4DC9-BC2A-20EBA501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809-089A-40AA-9D85-B249E62B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640-69B4-45B6-A204-75499A7F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EEF-1712-454F-9AD8-B6DB9498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325-0679-42F8-880D-0D5F46D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3EA6-FEDF-4F5B-9E27-B12F969A84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5840"/>
            <a:ext cx="4143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Час общения, посвященн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Дню Победы, 5 клас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лен учителем МОУ СОШ №20.г.Астрах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уренко Ольгой Валентин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2500200" cy="42876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1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1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1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1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1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2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1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1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1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1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Admin</cp:lastModifiedBy>
  <dcterms:modified xsi:type="dcterms:W3CDTF">2012-04-19T20:07:59Z</dcterms:modified>
  <cp:revision>26</cp:revision>
  <dc:subject/>
  <dc:title>Слайд 1</dc:title>
</cp:coreProperties>
</file>