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D251-6BEF-4B15-ABB6-4DA78579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F45-0B10-4573-8CED-26BF2827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6E8D-6779-4E0D-83A1-69157B1E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9B06-B545-46A0-9B9E-8340F5DC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0895-1FCC-4773-B50C-4D988F0F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7D9-D578-427D-BB69-B311A6CE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FBE5-BEF8-48EA-B291-39E12B87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6949-A383-45CB-B679-1744C269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77F-41C5-4291-9E45-CF1D2E65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7EB-6ED0-405B-BB8B-7A0BAD1E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FE1-F6DE-4E9E-AE47-9B1D59EC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F6C-7C29-4C31-854C-0E5C0DBB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265A-1A08-4DA4-8771-6C9D149FB3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71424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Георгиевская</a:t>
            </a: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ленточ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3280" y="3885840"/>
            <a:ext cx="4143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Час общения, посвященны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Дню Победы, 5 клас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лен учителем МОУ СОШ №20.г.Астраха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Куренко Ольгой Валентиновн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1143000" y="3143160"/>
            <a:ext cx="3071880" cy="2214720"/>
          </a:xfrm>
          <a:prstGeom prst="rect">
            <a:avLst/>
          </a:prstGeom>
          <a:ln w="0">
            <a:noFill/>
          </a:ln>
        </p:spPr>
      </p:pic>
      <p:sp>
        <p:nvSpPr>
          <p:cNvPr id="44" name="Рамка 4"/>
          <p:cNvSpPr/>
          <p:nvPr/>
        </p:nvSpPr>
        <p:spPr>
          <a:xfrm>
            <a:off x="3571920" y="0"/>
            <a:ext cx="2500200" cy="428760"/>
          </a:xfrm>
          <a:prstGeom prst="pie">
            <a:avLst/>
          </a:prstGeom>
          <a:solidFill>
            <a:srgbClr val="b83d68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том, насколько почетно было получить орден Святого Георгия 1-й степени, говорит, например, следующий факт. Выдающуюся награду Российской империи – орден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Андрея Первозванног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получило более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тысяч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ловек. А орден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Святого Георгия    1-й степен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2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ловек. Среди них великие полководцы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увор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утуз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ЮРА\Мои документы\Мои рисунки\2009-05-06\Scan10106.JPG"/>
          <p:cNvPicPr/>
          <p:nvPr/>
        </p:nvPicPr>
        <p:blipFill>
          <a:blip r:embed="rId1"/>
          <a:stretch/>
        </p:blipFill>
        <p:spPr>
          <a:xfrm>
            <a:off x="5072040" y="1357200"/>
            <a:ext cx="35719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к отличия — Георгиевский Крес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(I степен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I степени из серебра с позолотой. На нижнем конце оборотной стороне креста — надпись: «1-я степ.». Носится на пятиугольной колодке, обтянутой шелковой, муаровой лентой с бантом цветов ордена Святого Георгия. Ширина ленты — 24 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5" descr="Георгиевский Крест (I ст.)"/>
          <p:cNvPicPr/>
          <p:nvPr/>
        </p:nvPicPr>
        <p:blipFill>
          <a:blip r:embed="rId1"/>
          <a:stretch/>
        </p:blipFill>
        <p:spPr>
          <a:xfrm>
            <a:off x="928800" y="1857240"/>
            <a:ext cx="3500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(II степен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ест из серебра с позолотой. На нижнем конце оборотной стороны креста — надпись: «2-я степ.». Носится на пятиугольной колодке, обтянутой шелковой, муаровой лентой цветов ордена Святого Георгия. Ширина ленты — 24 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Георгиевский Крест (II ст.)"/>
          <p:cNvPicPr/>
          <p:nvPr/>
        </p:nvPicPr>
        <p:blipFill>
          <a:blip r:embed="rId1"/>
          <a:stretch/>
        </p:blipFill>
        <p:spPr>
          <a:xfrm>
            <a:off x="642960" y="1643040"/>
            <a:ext cx="3714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Георгиевский Крест (III степени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рест из серебра. На нижнем конце оборотной стороны креста — надпись: «3-я степ.». Носится на пятиугольной колодке, обтянутой шелковой, муаровой лентой с бантом цветов ордена Святого Георгия. Ширина ленты — 24 м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Георгиевский Крест (III ст.)"/>
          <p:cNvPicPr/>
          <p:nvPr/>
        </p:nvPicPr>
        <p:blipFill>
          <a:blip r:embed="rId1"/>
          <a:stretch/>
        </p:blipFill>
        <p:spPr>
          <a:xfrm>
            <a:off x="785880" y="1714680"/>
            <a:ext cx="36432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еоргиевский Крест (VI степени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ест из серебра. На нижнем конце оборотной стороны креста — надпись: «4-я степ.». Носится на пятиугольной колодке, обтянутой шелковой, муаровой лентой цветов ордена Святого Георгия. Ширина ленты — 24 м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ношении лент без крестов используется планка высотой 8 мм, ширина ленты — 24 м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4" descr="Георгиевский Крест (IV ст.)"/>
          <p:cNvPicPr/>
          <p:nvPr/>
        </p:nvPicPr>
        <p:blipFill>
          <a:blip r:embed="rId1"/>
          <a:stretch/>
        </p:blipFill>
        <p:spPr>
          <a:xfrm>
            <a:off x="500040" y="1643040"/>
            <a:ext cx="37861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ден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амый разгар битвы с фашистами в 1942   году был учрежден орден Отечественной войны. На нем тоже есть  Георгиевская лента – как символ связи с русской боевой традици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ЮРА\Мои документы\Мои рисунки\Order_gpw1_rib.png"/>
          <p:cNvPicPr/>
          <p:nvPr/>
        </p:nvPicPr>
        <p:blipFill>
          <a:blip r:embed="rId1"/>
          <a:stretch/>
        </p:blipFill>
        <p:spPr>
          <a:xfrm>
            <a:off x="785880" y="2357280"/>
            <a:ext cx="1143000" cy="135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ЮРА\Мои документы\Мои рисунки\2009-05-06\150px-Orden_Ot_voine.jpg"/>
          <p:cNvPicPr/>
          <p:nvPr/>
        </p:nvPicPr>
        <p:blipFill>
          <a:blip r:embed="rId2"/>
          <a:stretch/>
        </p:blipFill>
        <p:spPr>
          <a:xfrm>
            <a:off x="2143080" y="22860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ины Александра Невского, дружинники Дмитрия Донского, солдаты Суворова и миллионы советских солдат шли в бой за Родину, за честь и свободу своей земли. И они ПОБЕДИЛ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ЮРА\Мои документы\Мои рисунки\2009-05-06\Scan10107.JPG"/>
          <p:cNvPicPr/>
          <p:nvPr/>
        </p:nvPicPr>
        <p:blipFill>
          <a:blip r:embed="rId1"/>
          <a:stretch/>
        </p:blipFill>
        <p:spPr>
          <a:xfrm>
            <a:off x="4648320" y="1643040"/>
            <a:ext cx="40384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ция «Георгиевская ленточка» была задумана и осуществляется «РИА Новости» и «Студенческой общиной» при поддержке Правительства города Моск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ю этого мероприятия, по мнению инициаторов данного проекта, является создание атмосферы всеобщего праздника, выражение уважения и гордости за наших ветеранов. Это не только дань памяти тем, кто пал на поле боя, но и благодарность людям, прошедшим через ВОЙ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4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2500200" y="285840"/>
            <a:ext cx="40719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оргиевские ленты имеют смысловую символику. Их цветовое исполнение — чёрный и оранжевый цвет — означают «дым и пламень», характерные для военного времени. Георгиевские ленты олицетворяют подвиг русского воина на полях сражений, в тылу и на перед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4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4929120" y="1857240"/>
            <a:ext cx="35006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а, еще относительно молодая, достаточно новая символика пробуждает у людей, в первую очередь, патриотические чувства, преисполняя их чувством гордости за свою страну-победительницу. Помимо всего вышесказанного, яркие ленточки вызывают весёлые, праздничные эмоции, дарят ощущение незыблемости и един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кция "Георгиевская ленточка-2009" пройдет с 24 апреля по 9 ма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ероприятие приурочено к 64-й годовщине Победы в Великой Отечественной войне. В этом году акция будет проходить пятый год подря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6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2214720" y="357120"/>
            <a:ext cx="27144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ЮРА\Мои документы\Мои рисунки\left_bg.jpg"/>
          <p:cNvPicPr/>
          <p:nvPr/>
        </p:nvPicPr>
        <p:blipFill>
          <a:blip r:embed="rId1"/>
          <a:stretch/>
        </p:blipFill>
        <p:spPr>
          <a:xfrm>
            <a:off x="571680" y="214200"/>
            <a:ext cx="7858080" cy="591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57400" y="274680"/>
            <a:ext cx="407196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9 Ма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еоргиевская лента 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вухцветная лента к ордену Святого Георгия, “За победу над Германией” или как ее еще называют “Гвардейская лента”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мвол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еоргиевская ленточ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лучила свое название от ордена Святого Георгия. Этот орден был учрежден в России в 1769 году. Он назван по имени святого Георгия, покровителя русского воин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6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642960" y="1928880"/>
            <a:ext cx="36432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вятой Георгий – великомученик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был замучен и убит врагами христианства – язычниками. За мужество и за духовную победу над мучителями, которые не смогли заставить   его отказаться от христианства, а также за чудодейственную помощь людям в опасности святого Георгия называют еще Победоносц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ЮРА\Мои документы\Мои рисунки\2009-05-06\Копия Scan10104.JPG"/>
          <p:cNvPicPr/>
          <p:nvPr/>
        </p:nvPicPr>
        <p:blipFill>
          <a:blip r:embed="rId1"/>
          <a:stretch/>
        </p:blipFill>
        <p:spPr>
          <a:xfrm>
            <a:off x="714240" y="1643040"/>
            <a:ext cx="37864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13880"/>
            <a:ext cx="40384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иконах святой Георгий изображается сидящим на белом коне и поражающим копьем змея. Это изображение основано на предании     и относится к посмертным чудесам святого великомученика Георгия.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ЮРА\Мои документы\Мои рисунки\2009-05-06\Scan10103.JPG"/>
          <p:cNvPicPr/>
          <p:nvPr/>
        </p:nvPicPr>
        <p:blipFill>
          <a:blip r:embed="rId1"/>
          <a:stretch/>
        </p:blipFill>
        <p:spPr>
          <a:xfrm>
            <a:off x="4643280" y="642960"/>
            <a:ext cx="39294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ЮРА\Мои документы\Мои рисунки\2009-05-06\Scan10104.JPG"/>
          <p:cNvPicPr/>
          <p:nvPr/>
        </p:nvPicPr>
        <p:blipFill>
          <a:blip r:embed="rId1"/>
          <a:stretch/>
        </p:blipFill>
        <p:spPr>
          <a:xfrm>
            <a:off x="1763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ден Святого Геор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оссии очень любили и почитали  святого великомученика  Георгия. Поэтому дали его имя самому  почетному военному ордену. Этим орденом награждались только офицеры и генералы за личные боевые заслуг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ЮРА\Мои документы\Мои рисунки\2009-05-06\Scan10105.JPG"/>
          <p:cNvPicPr/>
          <p:nvPr/>
        </p:nvPicPr>
        <p:blipFill>
          <a:blip r:embed="rId1"/>
          <a:stretch/>
        </p:blipFill>
        <p:spPr>
          <a:xfrm>
            <a:off x="428760" y="1785960"/>
            <a:ext cx="3929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4d1d"/>
                </a:solidFill>
                <a:latin typeface="Calibri"/>
              </a:rPr>
              <a:t>Орденом награждалис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, кто «лично предводительствуя войском, одержит над неприятелем, в значительных силах состоящим, полную победу, последствием которой будет совершенное его уничтожение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лично предводительствуя войском, возьмет крепость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взятие неприятельского знамени, захват в плен главнокомандующего неприятельского войска и другие выдающиеся подвиг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272880"/>
            <a:ext cx="29653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рядок награждения орден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раз выдавалась низшая, 4 ступень, в следующий раз более высокая 3-я, далее 2-я и, наконец, совершивший четвертый выдающийся подвиг мог быть представлен к награждению орденом Святого Геор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-й степ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C:\Documents and Settings\ЮРА\Мои документы\Мои рисунки\2009-05-06\Scan10105.JPG"/>
          <p:cNvPicPr/>
          <p:nvPr/>
        </p:nvPicPr>
        <p:blipFill>
          <a:blip r:embed="rId1"/>
          <a:stretch/>
        </p:blipFill>
        <p:spPr>
          <a:xfrm>
            <a:off x="500040" y="2071800"/>
            <a:ext cx="3000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5:09:46Z</dcterms:created>
  <dc:creator>Юра</dc:creator>
  <dc:description/>
  <dc:language>en-US</dc:language>
  <cp:lastModifiedBy>Admin</cp:lastModifiedBy>
  <dcterms:modified xsi:type="dcterms:W3CDTF">2012-04-19T20:07:59Z</dcterms:modified>
  <cp:revision>26</cp:revision>
  <dc:subject/>
  <dc:title>Слайд 1</dc:title>
</cp:coreProperties>
</file>