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CA4-8934-420A-B9DD-2D170E55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CEB-683B-4A09-B24D-A93FFECA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D20-06B8-4D78-8162-AFDFB2D4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AEC-9A29-44F9-AA1A-81D047F8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BFE-4107-4C8C-8F2C-CD121DFA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0C5-ADB4-4110-98E9-09F05504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A2D-D281-4D05-873D-3CA638CF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43AD-185D-4FA4-B9F8-21BBC084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089-EEEB-442A-985A-A25D2E2E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F321-0BD4-475C-9489-32D7ABC7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805-2EBD-4D16-9158-B919D6B0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6A2-9E07-4F00-8B5E-6D3D3828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2169-B3FE-448D-B2C3-4A5678FB25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85920" y="1214280"/>
            <a:ext cx="6634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ультимедийная презентация</a:t>
            </a:r>
            <a:endParaRPr b="1" lang="en-US" sz="1800" spc="1" strike="noStrike">
              <a:ln w="28440">
                <a:solidFill>
                  <a:srgbClr val="78060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857240" y="0"/>
            <a:ext cx="591984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a40808"/>
                </a:solidFill>
                <a:latin typeface="Arial"/>
              </a:rPr>
              <a:t>Prezentacii.com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a40808"/>
              </a:solidFill>
              <a:latin typeface="Arial"/>
              <a:ea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642960" y="2071800"/>
            <a:ext cx="8104320" cy="22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8440">
                  <a:solidFill>
                    <a:srgbClr val="780606"/>
                  </a:solidFill>
                  <a:miter/>
                </a:ln>
                <a:solidFill>
                  <a:srgbClr val="003366"/>
                </a:solidFill>
                <a:latin typeface="Impact"/>
              </a:rPr>
              <a:t>"Курская  </a:t>
            </a:r>
            <a:endParaRPr b="0" lang="en-US" sz="4000" spc="1" strike="noStrike">
              <a:ln w="28440">
                <a:solidFill>
                  <a:srgbClr val="780606"/>
                </a:solidFill>
                <a:miter/>
              </a:ln>
              <a:solidFill>
                <a:srgbClr val="003366"/>
              </a:solidFill>
              <a:latin typeface="Impact"/>
              <a:ea typeface="Impact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2336760" y="3143160"/>
            <a:ext cx="6807240" cy="27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 У Г А"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042920" y="6093000"/>
            <a:ext cx="7362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уководитель проекта: Муратова Т.В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8920" y="5589360"/>
            <a:ext cx="1800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силевский А.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0656"/>
          <p:cNvPicPr/>
          <p:nvPr/>
        </p:nvPicPr>
        <p:blipFill>
          <a:blip r:embed="rId1"/>
          <a:stretch/>
        </p:blipFill>
        <p:spPr>
          <a:xfrm>
            <a:off x="1979640" y="4365720"/>
            <a:ext cx="1251000" cy="208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923"/>
          <p:cNvPicPr/>
          <p:nvPr/>
        </p:nvPicPr>
        <p:blipFill>
          <a:blip r:embed="rId2"/>
          <a:stretch/>
        </p:blipFill>
        <p:spPr>
          <a:xfrm>
            <a:off x="971640" y="620640"/>
            <a:ext cx="1208160" cy="2016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826920" y="263700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коссовский К.К., командующий Централь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0941"/>
          <p:cNvPicPr/>
          <p:nvPr/>
        </p:nvPicPr>
        <p:blipFill>
          <a:blip r:embed="rId3"/>
          <a:stretch/>
        </p:blipFill>
        <p:spPr>
          <a:xfrm>
            <a:off x="5076720" y="4292640"/>
            <a:ext cx="1295640" cy="21621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6732720" y="5805360"/>
            <a:ext cx="1726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уков Г.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ь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0942"/>
          <p:cNvPicPr/>
          <p:nvPr/>
        </p:nvPicPr>
        <p:blipFill>
          <a:blip r:embed="rId4"/>
          <a:stretch/>
        </p:blipFill>
        <p:spPr>
          <a:xfrm>
            <a:off x="3995640" y="620640"/>
            <a:ext cx="1168560" cy="1944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3995640" y="256536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в И. С., команд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епным фро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5"/>
          <a:stretch/>
        </p:blipFill>
        <p:spPr>
          <a:xfrm>
            <a:off x="6659640" y="692280"/>
            <a:ext cx="1200240" cy="18730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2"/>
          <p:cNvSpPr/>
          <p:nvPr/>
        </p:nvSpPr>
        <p:spPr>
          <a:xfrm>
            <a:off x="6732720" y="2565360"/>
            <a:ext cx="136836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.Ф. Ватутин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ующий Воронежским фро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5"/>
          <p:cNvSpPr txBox="1"/>
          <p:nvPr/>
        </p:nvSpPr>
        <p:spPr>
          <a:xfrm>
            <a:off x="1908000" y="342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андующие курской битвой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8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3995640" y="174600"/>
            <a:ext cx="4680000" cy="68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йска Центральн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Константин Рокоссо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обороняли северный фас Курского выступа, а войска Воронежского фронта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— генерал армии Николай Ватути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— южный фас. Войска, занимавшие выступ, опирались на Степной фронт (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командующий генерал-полковник Иван Коне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 Координацию действий фронтов осуществляли представители Ставки Маршалы Советского Союза </a:t>
            </a:r>
            <a:r>
              <a:rPr b="1" i="1" lang="ru-RU" sz="1600" spc="-1" strike="noStrike">
                <a:solidFill>
                  <a:srgbClr val="780606"/>
                </a:solidFill>
                <a:latin typeface="Arial"/>
              </a:rPr>
              <a:t>Георгий Жуков и Александр Василевск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ское командование приняло решение провести оборонительное сражение, измотать войска неприятеля и нанести им поражение, нанеся в критический момент контрудары по наступающим. С этой целью на обоих фасах курского выступа была создана глубоко эшелонированная оборона. В общей сложности было создано 8 оборонительных рубежей. Средняя плотность минирования на направлении ожидаемых ударов противника составляла 1500 противотанковых и 1700 противопехотных мин на кажд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илометр фро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Северный фас"/>
          <p:cNvPicPr/>
          <p:nvPr/>
        </p:nvPicPr>
        <p:blipFill>
          <a:blip r:embed="rId1"/>
          <a:stretch/>
        </p:blipFill>
        <p:spPr>
          <a:xfrm>
            <a:off x="971640" y="476280"/>
            <a:ext cx="1822320" cy="22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Южный фас"/>
          <p:cNvPicPr/>
          <p:nvPr/>
        </p:nvPicPr>
        <p:blipFill>
          <a:blip r:embed="rId2"/>
          <a:stretch/>
        </p:blipFill>
        <p:spPr>
          <a:xfrm>
            <a:off x="684360" y="4221000"/>
            <a:ext cx="2735280" cy="1798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829440" y="3429000"/>
            <a:ext cx="18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043640" y="6021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жный  ф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475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ка в ставках с обеих сто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товились военные планы, на фр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тупила пауза: тревожные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лдат дни и но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Военные ночи, тёмные но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Когда уж нет сил, чтоб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евозмоч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И шепчутся сосны, кому-т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ророч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Подвиг и смерть в эту тём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очь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 От Советского Информацион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юро. С 5 июля наши войска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ловско - Курском и Белгородс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равлениях вели упорные бо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шедшими в наступление крупны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лами пехоты и танков против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 атаки немцев отбиты с больш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них потерями. Бои продолжаютс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бой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076720" y="549360"/>
            <a:ext cx="3743280" cy="576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5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5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5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5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5000" fill="hold"/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5000" fill="hold"/>
                                        <p:tgtEl>
                                          <p:spTgt spid="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5000" fill="hold"/>
                                        <p:tgtEl>
                                          <p:spTgt spid="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5000" fill="hold"/>
                                        <p:tgtEl>
                                          <p:spTgt spid="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5000" fill="hold"/>
                                        <p:tgtEl>
                                          <p:spTgt spid="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24000" y="907920"/>
            <a:ext cx="88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агая данными о времени начала германского наступления, советское командование провело заранее спланированную артиллерийскую контрподготовку по районам сосредоточения ударных группировок врага. Противник понес ощутимые потери, его расчеты на внезапность наступления были сорваны. Утром 5 июля на северном фасе Курского выступа немецкие войска перешли в наступление, нанося главный удар в направлении Ольхов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третив упорное сопротивление обороняющихся, противник вынужден был ввести в сражение все силы ударной группировки, но успеха не достиг. Перенеся удар в направлении Понырей, он и здесь не смог прорвать оборону Центрального фронта. Ему удалось продвинуться лишь на 10-12 км, после чего уже 10 июля наступательные возможности немецких войск иссякли. Потеряв до двух третей танков, они вынуждены были перейти и обор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временно на южном фасе противник стремился прорваться в направлении Обояни и Корочи. Но ему это не удалось. Тогда враг перенес главный удар в направлении Прохоровки. Ценой огромных потерь ему удалось продвинуться лишь на 35 км. Но советские войска, усиленные стратегическими резервами, нанесли здесь мощный контрудар по вклинившейся в оборону вражеской группиров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692360" y="333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урская оборонительная операц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5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5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1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195640" y="54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a40808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2 июля 1943 год</a:t>
            </a:r>
            <a:endParaRPr b="0" i="1" lang="en-US" sz="1800" spc="1" strike="noStrike">
              <a:ln w="0">
                <a:noFill/>
              </a:ln>
              <a:solidFill>
                <a:srgbClr val="a40808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95280" y="1801440"/>
            <a:ext cx="828216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В  сражении  у Прохоровки с обеих сторон участвовало до 1200 танков и самоходных орудий. За день боя противоборствовавшие стороны потеряли от 30 до 60% танков и САУ кажд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12 июля наступил перелом в Курской битве, враг прекратил наступление, а 18 июля начал отводить все свои силы в исходное положение. Войска Воронежского, а с 19 июля и Степного фронтов перешли к преследованию и к 23 июля отбросили противника на рубеж, который он занимал накануне своего наступ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a40808"/>
                </a:solidFill>
                <a:latin typeface="Arial"/>
              </a:rPr>
              <a:t>«Цитадель»</a:t>
            </a:r>
            <a:r>
              <a:rPr b="1" lang="ru-RU" sz="2000" spc="-1" strike="noStrike">
                <a:solidFill>
                  <a:srgbClr val="a40808"/>
                </a:solidFill>
                <a:latin typeface="Arial"/>
              </a:rPr>
              <a:t> провалилась, врагу не удалось повернуть ход войны в свою пользу. В этот день завершилась Курская оборонительная операция советских вой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430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0410"/>
          <p:cNvPicPr/>
          <p:nvPr/>
        </p:nvPicPr>
        <p:blipFill>
          <a:blip r:embed="rId1"/>
          <a:stretch/>
        </p:blipFill>
        <p:spPr>
          <a:xfrm>
            <a:off x="5076720" y="386064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0882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246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1377"/>
          <p:cNvPicPr/>
          <p:nvPr/>
        </p:nvPicPr>
        <p:blipFill>
          <a:blip r:embed="rId3"/>
          <a:stretch/>
        </p:blipFill>
        <p:spPr>
          <a:xfrm>
            <a:off x="395280" y="3789360"/>
            <a:ext cx="3960720" cy="285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865"/>
          <p:cNvPicPr/>
          <p:nvPr/>
        </p:nvPicPr>
        <p:blipFill>
          <a:blip r:embed="rId4"/>
          <a:stretch/>
        </p:blipFill>
        <p:spPr>
          <a:xfrm>
            <a:off x="468360" y="333360"/>
            <a:ext cx="388764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4330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йдя в наступление, Крас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мия 5 августа в хо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жесточенных боев освобод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а Орел и Бел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«Гулко катится в кровавой мг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Сотой атаки вал,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лой и упрямый, по груд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Насмерть солдат стоял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А. Су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Бойцы Н-ской части под прикрытием танков идут в атаку на орловском участке фронта 1943 г. Место съемки: Действующая армия Автор съемки: не установлен РГАКФД ед. хр. 0-228079"/>
          <p:cNvPicPr/>
          <p:nvPr/>
        </p:nvPicPr>
        <p:blipFill>
          <a:blip r:embed="rId1"/>
          <a:stretch/>
        </p:blipFill>
        <p:spPr>
          <a:xfrm>
            <a:off x="4788000" y="1125360"/>
            <a:ext cx="3816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Части Степного фронта в бою на подступах к городу Белгороду 1943 г. Место съемки: Белгородская область Автор съемки: не установлен ГАКО ед. хр. 0-41144"/>
          <p:cNvPicPr/>
          <p:nvPr/>
        </p:nvPicPr>
        <p:blipFill>
          <a:blip r:embed="rId2"/>
          <a:stretch/>
        </p:blipFill>
        <p:spPr>
          <a:xfrm>
            <a:off x="4788000" y="3429000"/>
            <a:ext cx="388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августа в Москве был дан первый за всю войну салют. Из приказа Верховного главнокомандующего от 5 августа 1943 года: «Сегодня,  5 августа, в 24 часа столица нашей Родины Москва будет салютовать нашим доблестным войскам, освободившим Орёл и Белгород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енадцатью артиллерийскими залпами  из ста двадцати орудий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чная слава героям, павшим в борьбе за свободу нашей Родины! Смерть немецким оккупантам!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429"/>
          <p:cNvPicPr/>
          <p:nvPr/>
        </p:nvPicPr>
        <p:blipFill>
          <a:blip r:embed="rId1"/>
          <a:stretch/>
        </p:blipFill>
        <p:spPr>
          <a:xfrm>
            <a:off x="1403280" y="2492280"/>
            <a:ext cx="5905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Курская битва"/>
          <p:cNvPicPr/>
          <p:nvPr/>
        </p:nvPicPr>
        <p:blipFill>
          <a:blip r:embed="rId1"/>
          <a:stretch/>
        </p:blipFill>
        <p:spPr>
          <a:xfrm>
            <a:off x="324000" y="1052640"/>
            <a:ext cx="5400360" cy="3825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0" y="509220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ская битва (фрагмент диорамы). Присекин Н.С. 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24000" y="692280"/>
            <a:ext cx="3419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« В привычных сумерках суров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Полночным залпам торж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укоплеща победе 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нимала древняя 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голос праздничных оруд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В сердцах  взолнованных людей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отголоском  грозных буден,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Был громом ваших батарей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й дом и переулок,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И каждым камнем вся Моск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Распознавала в эт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гулах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233be9"/>
                </a:solidFill>
                <a:latin typeface="Arial"/>
              </a:rPr>
              <a:t>ОРЁЛ и БЕЛГОРОД- слова.»                                         (А. Твардов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Военная - На безымянной высоте 1.mp3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3000"/>
                            </p:stCondLst>
                            <p:childTnLst>
                              <p:par>
                                <p:cTn id="5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00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90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6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22350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476000" y="404280"/>
            <a:ext cx="7210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льдмаршал Эрих фон Манштейн, разрабатывавший операцию «Цитадель» и проводивший ее, впоследствии так отзывался о 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Она была последней попыткой сохранить нашу инициативу на Востоке. С ее неудачей, равнозначной провалу, инициатива окончательно перешла к советской стороне. Поэтому операция «Цитадель» является решающим, поворотным пунктом в войне на Восточном фронте»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267"/>
          <p:cNvPicPr/>
          <p:nvPr/>
        </p:nvPicPr>
        <p:blipFill>
          <a:blip r:embed="rId1"/>
          <a:stretch/>
        </p:blipFill>
        <p:spPr>
          <a:xfrm>
            <a:off x="324000" y="189000"/>
            <a:ext cx="143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ликая  Отечественная 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41-1945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тва  на  Курской  дуг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том 1943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1692360" y="378936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дмет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55640" y="274680"/>
            <a:ext cx="74167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Потери   сторон  в  Курской  битв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рогой ценой обошлась победа в Курской битве советским войскам. Они потеряли свыше 860 тыс. человек, более 6 тыс. танков и САУ, 5,2 тыс. орудий и минометов, свыше 1,6 тыс. самол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ровопролитных боях враг понес огромные потери. Престижу немецкого оружия был нанесен непоправимый урон. Разгрому подверглись 30 немецких дивизий, в том числе 7 танковых. Общие потери Вермахта составили более 500 тыс. солдат и офицеров, до 1,5 тыс. танков, 3 тыс. орудий и более 3,5 тыс. самол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4653000"/>
          <a:ext cx="7570800" cy="2205000"/>
        </p:xfrm>
        <a:graphic>
          <a:graphicData uri="http://schemas.openxmlformats.org/drawingml/2006/table">
            <a:tbl>
              <a:tblPr/>
              <a:tblGrid>
                <a:gridCol w="3786120"/>
                <a:gridCol w="3784680"/>
              </a:tblGrid>
              <a:tr h="414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3 303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 тан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7 самолё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е 500 000 убитых, раненых или плен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—1200 тан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3700 самолёт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209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орок  трет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оречью  полын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  меня  пахнул  издалека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Чёрною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Обугленной  равн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идится  мне  Курская  д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«Тигры»  пру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-дикому  упрям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о  со  мно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  трудный  этот  м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рямо  к  окуляру  панора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есь  мой  полк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Уверенно  при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Громыхнуло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разу  на  полсв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анки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Словно  факелы,  горя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ет,  не  зря  живёт  во  мн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Всё  э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ри  десятилетия  подря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Те  бои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ак  мера  нашей  си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Потому она  и  дорог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Насмерть  прикипевша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  Ро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33be9"/>
                </a:solidFill>
                <a:latin typeface="Times New Roman"/>
              </a:rPr>
              <a:t>Курская  великая  дуга…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    </a:t>
            </a:r>
            <a:r>
              <a:rPr b="0" i="1" lang="ru-RU" sz="1400" spc="-1" strike="noStrike">
                <a:solidFill>
                  <a:srgbClr val="233be9"/>
                </a:solidFill>
                <a:latin typeface="Times New Roman"/>
              </a:rPr>
              <a:t>( участник Курской битвы</a:t>
            </a:r>
            <a:r>
              <a:rPr b="1" lang="ru-RU" sz="1600" spc="-1" strike="noStrike">
                <a:solidFill>
                  <a:srgbClr val="233be9"/>
                </a:solidFill>
                <a:latin typeface="Times New Roman"/>
              </a:rPr>
              <a:t>  </a:t>
            </a:r>
            <a:r>
              <a:rPr b="1" i="1" lang="ru-RU" sz="1400" spc="-1" strike="noStrike">
                <a:solidFill>
                  <a:srgbClr val="233be9"/>
                </a:solidFill>
                <a:latin typeface="Times New Roman"/>
              </a:rPr>
              <a:t>Михаил Борисов, Герой Советского Союз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ветские бомбардировщики в боевом полете 1943 г. Место съемки: Орловско-белгородское направление Автор съемки: не установлен ГАКО ед. хр. 0-3595"/>
          <p:cNvPicPr/>
          <p:nvPr/>
        </p:nvPicPr>
        <p:blipFill>
          <a:blip r:embed="rId1"/>
          <a:stretch/>
        </p:blipFill>
        <p:spPr>
          <a:xfrm>
            <a:off x="6084720" y="836640"/>
            <a:ext cx="2449800" cy="155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Залпы «Катюши» в районе станции Поныри в июле 1943 года 1943 г. Место съемки: Станция Поныри Автор съемки: не установлен ГАКО ед. хр. 0-1932"/>
          <p:cNvPicPr/>
          <p:nvPr/>
        </p:nvPicPr>
        <p:blipFill>
          <a:blip r:embed="rId2"/>
          <a:stretch/>
        </p:blipFill>
        <p:spPr>
          <a:xfrm>
            <a:off x="3995640" y="2565360"/>
            <a:ext cx="2808360" cy="167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Расчет противотанкового орудия ведет огонь по вражеским танкам 1943 г. Место съемки: Орловско-курское направление Автор съемки: не установлен ГАКО ед. хр. 0-3574"/>
          <p:cNvPicPr/>
          <p:nvPr/>
        </p:nvPicPr>
        <p:blipFill>
          <a:blip r:embed="rId3"/>
          <a:stretch/>
        </p:blipFill>
        <p:spPr>
          <a:xfrm>
            <a:off x="6084720" y="4365720"/>
            <a:ext cx="2521080" cy="18111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9"/>
          <p:cNvSpPr txBox="1"/>
          <p:nvPr/>
        </p:nvSpPr>
        <p:spPr>
          <a:xfrm>
            <a:off x="684360" y="0"/>
            <a:ext cx="7991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Курская  битва глазами  очевидцев</a:t>
            </a:r>
            <a:endParaRPr b="0" lang="en-US" sz="1600" spc="1" strike="noStrike">
              <a:ln w="12600">
                <a:solidFill>
                  <a:srgbClr val="000099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112" name="ВОЕННЫЕ - Френкель-Журавли.mp3" descr=""/>
          <p:cNvPicPr/>
          <p:nvPr/>
        </p:nvPicPr>
        <p:blipFill>
          <a:blip r:embed="rId4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6" dur="21968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15"/>
          <p:cNvSpPr txBox="1"/>
          <p:nvPr/>
        </p:nvSpPr>
        <p:spPr>
          <a:xfrm>
            <a:off x="1908000" y="189000"/>
            <a:ext cx="5400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 исследования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900000" y="692280"/>
            <a:ext cx="777564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ятьдесят дней, с 5 июля по 23 августа 1943 г., продолжалась Курская битва, включавшая в себя три крупные стратегические операции советских войск: Курскую оборонительную (5-23 июля); Орловскую (12 июля - 18 августа) и Белгородско-Харьковскую (3-23 августа) наступательны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ские Вооружённые Силы прочно захватили стратегическую инициативу. Завершился коренной перелом в ходе Великой Отечественной войны в пользу ССС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оему размаху, привлекаемым силам и средствам, напряженности, результатам и военно-политическим последствиям она является одной из крупнейших битв второй мировой вой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оины 89-й Белгородско-Харьковской гвардейской стрелковой дивизии проходят по улице г.Белгорода 1943 г. Место съемки: Белгород Автор съемки: Кнорринг Олег Борисович РГАКФД ед. хр. 0-3123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49323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«Всё дальше от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розовые военные годы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Сегодня он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обелисках и в звонких стро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На все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Героический подвиг народ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Останется ж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be9"/>
                </a:solidFill>
                <a:latin typeface="Arial"/>
              </a:rPr>
              <a:t>В благородных и честных сердцах.»                                                       (Т. Дунаев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33be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5445000"/>
            <a:ext cx="4038480" cy="6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сражению под  Прохор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Памятник сражению под Прохоровкой"/>
          <p:cNvPicPr/>
          <p:nvPr/>
        </p:nvPicPr>
        <p:blipFill>
          <a:blip r:embed="rId1"/>
          <a:stretch/>
        </p:blipFill>
        <p:spPr>
          <a:xfrm>
            <a:off x="4932360" y="476280"/>
            <a:ext cx="3240000" cy="4753080"/>
          </a:xfrm>
          <a:prstGeom prst="rect">
            <a:avLst/>
          </a:prstGeom>
          <a:ln w="0">
            <a:noFill/>
          </a:ln>
        </p:spPr>
      </p:pic>
      <p:pic>
        <p:nvPicPr>
          <p:cNvPr id="119" name="ВОЕННЫЕ - От героев былых времен .mp3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0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2000"/>
                            </p:stCondLst>
                            <p:childTnLst>
                              <p:par>
                                <p:cTn id="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3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3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3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1" dur="11836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755640" y="2349360"/>
            <a:ext cx="7488360" cy="280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Развитие  чувства  патриотизма, уважения,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гордости  к  знаменитым  сражениям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780606"/>
                  </a:solidFill>
                  <a:miter/>
                </a:ln>
                <a:solidFill>
                  <a:srgbClr val="780606"/>
                </a:solidFill>
                <a:latin typeface="Arial"/>
              </a:rPr>
              <a:t>Великой  Отечественной войны</a:t>
            </a:r>
            <a:endParaRPr b="1" lang="en-US" sz="1800" spc="1" strike="noStrike">
              <a:ln w="12600">
                <a:solidFill>
                  <a:srgbClr val="780606"/>
                </a:solidFill>
                <a:miter/>
              </a:ln>
              <a:solidFill>
                <a:srgbClr val="780606"/>
              </a:solidFill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ль 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ить  обстановку  на  фронте  накануне Курской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снить  соотношение  сил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ледить  ход  бит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ить  потери  обеих 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азать значение битвы  на Курской  дуге  для дальнейших  событий  Второй  мировой вой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1547640" y="620640"/>
            <a:ext cx="59040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дачи исследования: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. Поиск информации в интернете: Атапина Ю.,  Андреева К., Попова Д., Каширин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уппа.  Работа с историческим материалом: Голикова Е., Дегтярева Л., Храмушкин М., Коновалова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. Художественное сопровождение: Щербакова А., Мелешена А., Вязова К., Згибнева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.      Подготовка   презентации: Хорева А., Демина А., Манина 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763640" y="549360"/>
            <a:ext cx="55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ворческие группы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«Мир будет помнить вас,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Гордые, смелые лю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233be9"/>
                </a:solidFill>
                <a:latin typeface="Arial"/>
              </a:rPr>
              <a:t>Мир не забудет России отважных солдат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51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  мировой  истории  есть  события,  оставляющие  неизгладимый  след  в  памяти  человечества.  Одним  из  таких  событий  является  победа  Советских  Вооружённых  сил  в  исторической  битве  на  Курской  дуге  летом  1943 года,  которая  во  многом  определила  дальнейший  ход  всей  второй  мировой  войны  и  её  победный  финал  в  пользу  государств  антифашистской  коалиц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А.М. Василевский, Маршал Советского Сою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ar1941-1945.narod.ru/img/maps/Kursk01.jpg"/>
          <p:cNvPicPr/>
          <p:nvPr/>
        </p:nvPicPr>
        <p:blipFill>
          <a:blip r:embed="rId1"/>
          <a:stretch/>
        </p:blipFill>
        <p:spPr>
          <a:xfrm>
            <a:off x="4140360" y="260280"/>
            <a:ext cx="4679640" cy="64087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353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езультате наступления советской армии в 1942 году и начала 1943 года в районе города Курска образовался  в линии расположения наших войск большой выступ – очень соблазнительная для немцев позиция: если в него ударить, то можно затем легко окружить и разгромить советские войска. У фашистов родился замысел наступательной операции на Курск под кодовым названием «Цитадел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d31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Осуществления  этой операции под Курском, противником были сосредоточены огромные силы и назначены наиболее опытные военачальники: для группы армий "Центр" - командующий генерал-фельдмаршал Г. Клюге и группы армий "Юг" - командующий генерал-фельдмаршал Э. Манштей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ское командование приняло решение провести стратегическую операцию на курском выступе. Планировалось нанести сходящиеся удары из районов городов Орёл (с севера) и Белгород (с юг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4724280"/>
            <a:ext cx="40384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мецкие  офицеры  над  разработкой  операции «Цитад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Рисунок5a"/>
          <p:cNvPicPr/>
          <p:nvPr/>
        </p:nvPicPr>
        <p:blipFill>
          <a:blip r:embed="rId1"/>
          <a:stretch/>
        </p:blipFill>
        <p:spPr>
          <a:xfrm>
            <a:off x="4716360" y="1557360"/>
            <a:ext cx="4032360" cy="3057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16"/>
          <p:cNvSpPr txBox="1"/>
          <p:nvPr/>
        </p:nvSpPr>
        <p:spPr>
          <a:xfrm>
            <a:off x="1692360" y="76500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итадель"</a:t>
            </a:r>
            <a:endParaRPr b="0" i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7:16:53Z</dcterms:created>
  <dc:creator>GEG</dc:creator>
  <dc:description/>
  <dc:language>en-US</dc:language>
  <cp:lastModifiedBy>Admin</cp:lastModifiedBy>
  <dcterms:modified xsi:type="dcterms:W3CDTF">2012-04-19T20:42:08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