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E1B-3721-423F-A8E0-6EFFEFD1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0B38-3188-47C7-8145-7AEEFF84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797-2B52-4530-9EC5-EDC7F6F1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84C-F317-448C-B438-EDDFA76D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357-10A1-4CCD-A66D-E5A786DB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AE97-FAF1-43F4-80F9-97175EF2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3191-99EC-4BF0-BA5E-8D199508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4AF-05B8-4562-9FE3-1E03E190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3646-EC96-4D1E-A057-E82EE06B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606E-2841-434B-8593-13BC5C32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021-5450-41E8-8237-A4094188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3BB-4047-4935-B7BF-12578C8E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4DD4-9008-44F7-9A91-B303576AD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a/a2/Sovremennik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file://upload.wikimedia.org/wikipedia/commons/7/78/Russian_writers_by_Levitsky_1856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166680"/>
            <a:ext cx="9753840" cy="719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 Зарождение революционного народничества и его идеолог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5257800"/>
            <a:ext cx="6400800" cy="1600200"/>
          </a:xfrm>
          <a:prstGeom prst="rect">
            <a:avLst/>
          </a:prstGeom>
          <a:solidFill>
            <a:srgbClr val="d7a36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особы действия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2933280" y="1828080"/>
            <a:ext cx="3274920" cy="1981080"/>
          </a:xfrm>
          <a:custGeom>
            <a:avLst/>
            <a:gdLst>
              <a:gd name="textAreaLeft" fmla="*/ 0 w 3274920"/>
              <a:gd name="textAreaRight" fmla="*/ 3275280 w 327492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514600"/>
            <a:ext cx="3276360" cy="182880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рост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пагандист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4560" y="3886200"/>
            <a:ext cx="3314880" cy="205740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йств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бе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волюцион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тюрь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438280"/>
            <a:ext cx="3124440" cy="198144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сы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 Земля и воля» готовились начать открытое выступление в 1863 году, считая, что в этот период может возникнуть крестьянское восстание, связанное с истечением срока подписания Уставных грамо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Земля и вол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Земля и воля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75248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1862 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– арест наиболее активных чле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5360" y="342900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1863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разочарование революционеров – надеж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осстание не оправд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5360" y="502920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64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самороспуск « Земли и во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86360" y="281952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86360" y="44956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деи А.И.Герцена и  Н.Г. Черныше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ли теоретической основой политического течения русской радикальной интеллигенции – народничества, которые рассматривали народ как реальную политическую силу. Они считали, что необходимо сделать эту силу сознательной и организова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52280"/>
            <a:ext cx="8534520" cy="12956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2819520" y="1447200"/>
            <a:ext cx="3124080" cy="144756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676520"/>
            <a:ext cx="2819520" cy="9903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нта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62240" y="2933640"/>
            <a:ext cx="3162240" cy="87624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пагандист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523880"/>
            <a:ext cx="2819520" cy="99072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говорщиц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666880"/>
            <a:ext cx="533160" cy="1524240"/>
          </a:xfrm>
          <a:prstGeom prst="downArrow">
            <a:avLst>
              <a:gd name="adj1" fmla="val 50000"/>
              <a:gd name="adj2" fmla="val 71472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05240" y="38098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25146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886200"/>
            <a:ext cx="3886200" cy="167652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ха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5257800"/>
            <a:ext cx="3047760" cy="137160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038480"/>
            <a:ext cx="3048120" cy="137160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ит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к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Файл:Bakuninfull.jpg"/>
          <p:cNvPicPr/>
          <p:nvPr/>
        </p:nvPicPr>
        <p:blipFill>
          <a:blip r:embed="rId2"/>
          <a:stretch/>
        </p:blipFill>
        <p:spPr>
          <a:xfrm>
            <a:off x="457200" y="4114800"/>
            <a:ext cx="765000" cy="1100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00400" y="5334120"/>
            <a:ext cx="852480" cy="1144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477120" y="4114800"/>
            <a:ext cx="7617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07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9880" y="1600200"/>
            <a:ext cx="5181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ился 18 мая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814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селе Прямухино, Новоторжокского уезда, Тверской губернии, Российская империя — 19 июня [1 июля]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87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Берн, Швейцария) — русский мыслитель, революционер, панславист, анархист, один из идеологов народничеств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52280"/>
            <a:ext cx="7848720" cy="12956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Файл:Bakuninfull.jpg"/>
          <p:cNvPicPr/>
          <p:nvPr/>
        </p:nvPicPr>
        <p:blipFill>
          <a:blip r:embed="rId2"/>
          <a:stretch/>
        </p:blipFill>
        <p:spPr>
          <a:xfrm>
            <a:off x="304920" y="1523880"/>
            <a:ext cx="3365280" cy="4834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5791320"/>
            <a:ext cx="3962520" cy="7617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А. 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М.А. Бакун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самоуправление народа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унт, восстания,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лн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Бунтар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оциоло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философ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ублици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революционер. Один из идеологов народни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80880"/>
            <a:ext cx="8686800" cy="114300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ропагандист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Файл:Piotr Lavrovich Lavrov.jpg"/>
          <p:cNvPicPr/>
          <p:nvPr/>
        </p:nvPicPr>
        <p:blipFill>
          <a:blip r:embed="rId2"/>
          <a:stretch/>
        </p:blipFill>
        <p:spPr>
          <a:xfrm>
            <a:off x="685800" y="1600200"/>
            <a:ext cx="3394080" cy="4724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880" y="5791320"/>
            <a:ext cx="3962520" cy="7617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.Л. Лав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П. Л. Лавр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здать свободное социалистическ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пропага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опагандист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литературный критик и публицист, брат Александры Анненской. Идеолог якобинского направления в народниче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аговорщицкое 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07920" y="1752480"/>
            <a:ext cx="3391200" cy="4724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9480" y="5943600"/>
            <a:ext cx="3962520" cy="68580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.Н. Тк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знакомимся с идеями и  развитием революционного  общественного движения 60-7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Выяснить причины широкого развития  революционного движ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егодня на урок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П.Н. Ткачё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установление всеобщего равен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загов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Заговорщицкое 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Соотнесите программные установки русских революционер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2502000"/>
                <a:gridCol w="5727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М.А.Баку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Движущая сила революции – интеллигентный пропагандист, ведущий разъяснения среди нар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.Л.Лав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Революция возможна, ее движущая сила – партия заговорщ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.Н.Ткач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Революция – народный бу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Большинство представителей народничества были выходцами из сре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дворя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разночин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кресть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рабоч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лю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–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–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–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-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49528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ошибок – «5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ошибка – «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ошибки – «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ошибки – «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просы на стр. 1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аграф 25, вопросы, записи, терм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чины роста революционного дви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иски ориенти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ория революционного народниче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хранение помещичьего землевла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еменительные условия выкупа земельного на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ведение временнообязанного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длительность, нерешительность, а также непоследовательность  ц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чины роста революцион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15228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Sovremennik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447920"/>
            <a:ext cx="299736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Файл:Russian writers by Levitsky 185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43400" y="1728720"/>
            <a:ext cx="4038480" cy="391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14800" y="5562720"/>
            <a:ext cx="4876920" cy="1066680"/>
          </a:xfrm>
          <a:prstGeom prst="rect">
            <a:avLst/>
          </a:prstGeom>
          <a:solidFill>
            <a:srgbClr val="e8c8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лены редколлегии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 Современник» 185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39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190760" y="1600200"/>
            <a:ext cx="4647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июле 1862 года был арестован и помещён в Петропавловскую крепость, где провёл около 2 лет. Там написал роман: « Что делать?», ставший                          « библией» для русских революцион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57200"/>
            <a:ext cx="7772400" cy="106668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Файл:Nikolay Chernyshevsky.jpg"/>
          <p:cNvPicPr/>
          <p:nvPr/>
        </p:nvPicPr>
        <p:blipFill>
          <a:blip r:embed="rId2"/>
          <a:stretch/>
        </p:blipFill>
        <p:spPr>
          <a:xfrm>
            <a:off x="457200" y="1676520"/>
            <a:ext cx="3333600" cy="4124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5486400"/>
            <a:ext cx="3886200" cy="990720"/>
          </a:xfrm>
          <a:prstGeom prst="rect">
            <a:avLst/>
          </a:prstGeom>
          <a:solidFill>
            <a:srgbClr val="e8c8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Г. Черныш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Лиде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 Н. Обруче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С. Рымаренк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. И. Шамшин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а основания: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18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а роспуска: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18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деология: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арод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04920"/>
            <a:ext cx="7772400" cy="106668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Файл:Zemlya i volya logo.png"/>
          <p:cNvPicPr/>
          <p:nvPr/>
        </p:nvPicPr>
        <p:blipFill>
          <a:blip r:embed="rId2"/>
          <a:stretch/>
        </p:blipFill>
        <p:spPr>
          <a:xfrm>
            <a:off x="304920" y="1790640"/>
            <a:ext cx="403848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7,5% - учащиеся и слушатели ВУЗ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% - рабоч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,3% - учащиеся шк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,3% - служа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,6% - уч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 чём это говори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став « Земли и воли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звать парл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тановить демократическую республ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ирокое применение местного само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вноправие женщ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дать крестьянам всю земл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здание городских и сельских самоуправляющихся общ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ограмма « Земли и воли»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2:27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