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A665-11E9-49B1-BD4F-C8165AE8E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32C-DE27-4C7B-BDE0-7647CF13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9D01-F278-4BA4-BE74-B73516AE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374-4FB6-4EEE-9A51-4F4B9074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7BFC-1C43-4918-87B2-4C0078DC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185-D23B-457D-9F64-3B316B79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914-C086-43F1-ABEF-91CB04DC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B1D0-08B3-40FC-8696-A9B66C2C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BB4-0130-4E19-B452-825AB516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0BF-33C7-4C71-B2CA-654F13DF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AE0-4E2F-44E2-94F3-B81E3AA7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27B-911B-4E5B-9BF0-4BD84ACD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3F7D-446E-4C85-A53A-257551025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a/a2/Sovremennik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file://upload.wikimedia.org/wikipedia/commons/7/78/Russian_writers_by_Levitsky_1856.jpg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166680"/>
            <a:ext cx="9753840" cy="7191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« Зарождение революционного народничества и его идеология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5257800"/>
            <a:ext cx="6400800" cy="1600200"/>
          </a:xfrm>
          <a:prstGeom prst="rect">
            <a:avLst/>
          </a:prstGeom>
          <a:solidFill>
            <a:srgbClr val="d7a36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пособы действия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2933280" y="1828080"/>
            <a:ext cx="3274920" cy="1981080"/>
          </a:xfrm>
          <a:custGeom>
            <a:avLst/>
            <a:gdLst>
              <a:gd name="textAreaLeft" fmla="*/ 0 w 3274920"/>
              <a:gd name="textAreaRight" fmla="*/ 3275280 w 32749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514600"/>
            <a:ext cx="3276360" cy="18288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прост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4560" y="3886200"/>
            <a:ext cx="3314880" cy="205740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действ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бе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волюцион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тюрь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438280"/>
            <a:ext cx="3124440" cy="1981440"/>
          </a:xfrm>
          <a:prstGeom prst="ellipse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ы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« Земля и воля» готовились начать открытое выступление в 1863 году, считая, что в этот период может возникнуть крестьянское восстание, связанное с истечением срока подписания Уставных грамо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Земля и воля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75248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2 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– арест наиболее активных член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5360" y="34290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1863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разочарование революционеров – надеж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восстание не оправдали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5360" y="5029200"/>
            <a:ext cx="8153280" cy="1143000"/>
          </a:xfrm>
          <a:prstGeom prst="roundRect">
            <a:avLst>
              <a:gd name="adj" fmla="val 16667"/>
            </a:avLst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64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самороспуск « Земли и во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86360" y="281952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86360" y="4495680"/>
            <a:ext cx="485640" cy="609840"/>
          </a:xfrm>
          <a:prstGeom prst="downArrow">
            <a:avLst>
              <a:gd name="adj1" fmla="val 50000"/>
              <a:gd name="adj2" fmla="val 31394"/>
            </a:avLst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деи А.И.Герцена и  Н.Г. Чернышев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али теоретической основой политического течения русской радикальной интеллигенции – народничества, которые рассматривали народ как реальную политическую силу. Они считали, что необходимо сделать эту силу сознательной и организован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52280"/>
            <a:ext cx="85345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0800000">
            <a:off x="2819520" y="1447200"/>
            <a:ext cx="3124080" cy="1447560"/>
          </a:xfrm>
          <a:custGeom>
            <a:avLst/>
            <a:gdLst>
              <a:gd name="textAreaLeft" fmla="*/ 0 w 3124080"/>
              <a:gd name="textAreaRight" fmla="*/ 3124440 w 312408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676520"/>
            <a:ext cx="2819520" cy="9903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унта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62240" y="2933640"/>
            <a:ext cx="3162240" cy="87624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пагандист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1523880"/>
            <a:ext cx="2819520" cy="99072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говорщиц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666880"/>
            <a:ext cx="533160" cy="1524240"/>
          </a:xfrm>
          <a:prstGeom prst="downArrow">
            <a:avLst>
              <a:gd name="adj1" fmla="val 50000"/>
              <a:gd name="adj2" fmla="val 71472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05240" y="3809880"/>
            <a:ext cx="533520" cy="1524240"/>
          </a:xfrm>
          <a:prstGeom prst="downArrow">
            <a:avLst>
              <a:gd name="adj1" fmla="val 50000"/>
              <a:gd name="adj2" fmla="val 71424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2514600"/>
            <a:ext cx="533520" cy="1523880"/>
          </a:xfrm>
          <a:prstGeom prst="downArrow">
            <a:avLst>
              <a:gd name="adj1" fmla="val 50000"/>
              <a:gd name="adj2" fmla="val 71407"/>
            </a:avLst>
          </a:prstGeom>
          <a:solidFill>
            <a:srgbClr val="e8c89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886200"/>
            <a:ext cx="3886200" cy="167652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ха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ександ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5257800"/>
            <a:ext cx="304776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038480"/>
            <a:ext cx="3048120" cy="1371600"/>
          </a:xfrm>
          <a:prstGeom prst="ellipse">
            <a:avLst/>
          </a:prstGeom>
          <a:solidFill>
            <a:srgbClr val="e8c8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ё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икит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Файл:Bakuninfull.jpg"/>
          <p:cNvPicPr/>
          <p:nvPr/>
        </p:nvPicPr>
        <p:blipFill>
          <a:blip r:embed="rId2"/>
          <a:stretch/>
        </p:blipFill>
        <p:spPr>
          <a:xfrm>
            <a:off x="457200" y="4114800"/>
            <a:ext cx="765000" cy="1100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200400" y="5334120"/>
            <a:ext cx="852480" cy="114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477120" y="4114800"/>
            <a:ext cx="7617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07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181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одился 18 мая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14 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селе Прямухино, Новоторжокского уезда, Тверской губернии, Российская империя — 19 июня [1 июля]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87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Берн, Швейцария) — русский мыслитель, революционер, панславист, анархист, один из идеологов народничеств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52280"/>
            <a:ext cx="7848720" cy="12956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Теория революцио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народничеств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Файл:Bakuninfull.jpg"/>
          <p:cNvPicPr/>
          <p:nvPr/>
        </p:nvPicPr>
        <p:blipFill>
          <a:blip r:embed="rId2"/>
          <a:stretch/>
        </p:blipFill>
        <p:spPr>
          <a:xfrm>
            <a:off x="304920" y="1523880"/>
            <a:ext cx="3365280" cy="4834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А. Баку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М.А. Бакун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самоуправление народа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бунт, восстания,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лн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Бунтар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оциоло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философ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ублици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и революционер. Один из идеологов народниче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380880"/>
            <a:ext cx="86868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Файл:Piotr Lavrovich Lavrov.jpg"/>
          <p:cNvPicPr/>
          <p:nvPr/>
        </p:nvPicPr>
        <p:blipFill>
          <a:blip r:embed="rId2"/>
          <a:stretch/>
        </p:blipFill>
        <p:spPr>
          <a:xfrm>
            <a:off x="685800" y="1600200"/>
            <a:ext cx="3394080" cy="4724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5791320"/>
            <a:ext cx="3962520" cy="76176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Л. Лав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 Л. Лавр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здать свободное социалистическ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пропаган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опагандистское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литературный критик и публицист, брат Александры Анненской. Идеолог якобинского направления в народничест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07920" y="1752480"/>
            <a:ext cx="3391200" cy="4724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09480" y="5943600"/>
            <a:ext cx="3962520" cy="685800"/>
          </a:xfrm>
          <a:prstGeom prst="rect">
            <a:avLst/>
          </a:prstGeom>
          <a:solidFill>
            <a:srgbClr val="e8c898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.Н. Тк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Познакомимся с идеями и  развитием революционного  общественного движения 60-7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Выяснить причины широкого развития  революционного движения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егодня на урок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Лидер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: П.Н. Ткачё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Цели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установление всеобщего равен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Методы: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загов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Заговорщицкое  течение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Соотнесите программные установки русских революционер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4819680"/>
        </p:xfrm>
        <a:graphic>
          <a:graphicData uri="http://schemas.openxmlformats.org/drawingml/2006/table">
            <a:tbl>
              <a:tblPr/>
              <a:tblGrid>
                <a:gridCol w="2502000"/>
                <a:gridCol w="5727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М.А.Баку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Движущая сила революции – интеллигентный пропагандист, ведущий разъяснения среди на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П.Л.Лавр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Революция возможна, ее движущая сила – партия заговорщик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.Н.Ткаче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Революция – народный бун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Большинство представителей народничества были выходцами из сред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дворя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) разночин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) крестья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) рабоч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48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люч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–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–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–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-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495288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 ошибок – «5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ошибка – «4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ошибки – «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ошибки – «2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опросы на стр. 1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араграф 25, вопросы, записи, терм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чины роста революционного дви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иски ориенти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ория революционного народнич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хранение помещичьего землевла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ременительные условия выкупа земельного на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ведение временнообязанного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длительность, нерешительность, а также непоследовательность  ца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чины роста революционног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38080" y="152280"/>
            <a:ext cx="7772400" cy="114300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Sovremenni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" y="1447920"/>
            <a:ext cx="2997360" cy="4724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Файл:Russian writers by Levitsky 185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343400" y="1728720"/>
            <a:ext cx="4038480" cy="3916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114800" y="5562720"/>
            <a:ext cx="4876920" cy="106668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лены редколлегии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 Современник» 185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39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190760" y="1600200"/>
            <a:ext cx="4647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июле 1862 года был арестован и помещён в Петропавловскую крепость, где провёл около 2 лет. Там написал роман: « Что делать?», ставший                          « библией» для русских революцион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5720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Файл:Nikolay Chernyshevsky.jpg"/>
          <p:cNvPicPr/>
          <p:nvPr/>
        </p:nvPicPr>
        <p:blipFill>
          <a:blip r:embed="rId2"/>
          <a:stretch/>
        </p:blipFill>
        <p:spPr>
          <a:xfrm>
            <a:off x="457200" y="1676520"/>
            <a:ext cx="3333600" cy="4124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5486400"/>
            <a:ext cx="3886200" cy="990720"/>
          </a:xfrm>
          <a:prstGeom prst="rect">
            <a:avLst/>
          </a:prstGeom>
          <a:solidFill>
            <a:srgbClr val="e8c89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.Г. Черныше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Лиде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 Н. Обруче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С. Рымаренко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. И. Шамшин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основания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та роспуска:</a:t>
            </a: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18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деология: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арод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04920"/>
            <a:ext cx="7772400" cy="106668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иски ориентир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Файл:Zemlya i volya logo.png"/>
          <p:cNvPicPr/>
          <p:nvPr/>
        </p:nvPicPr>
        <p:blipFill>
          <a:blip r:embed="rId2"/>
          <a:stretch/>
        </p:blipFill>
        <p:spPr>
          <a:xfrm>
            <a:off x="304920" y="1790640"/>
            <a:ext cx="403848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7,5% - учащиеся и слушатели ВУЗ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% - рабоч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,3% - учащиеся шк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,3% - служа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,6% - учи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О чём это говори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остав « Земли и воли»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15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вать парл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тановить демократическую республ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ирокое применение местного само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вноправие женщ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ередать крестьянам всю земл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здание городских и сельских самоуправляющихся общ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380880"/>
            <a:ext cx="7772400" cy="1067040"/>
          </a:xfrm>
          <a:prstGeom prst="roundRect">
            <a:avLst>
              <a:gd name="adj" fmla="val 16667"/>
            </a:avLst>
          </a:prstGeom>
          <a:solidFill>
            <a:srgbClr val="d7a36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рограмма « Земли и воли»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2:27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