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A6405-2FDC-43F5-8AD7-353592D52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0BF7F-343D-46AC-96DD-B938E491E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76DE6-5F17-4E84-BF08-8D135C799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858D4-7C52-44C8-A12A-6C5A3C5CD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93D88-204F-47B5-9B5C-B8FAFC059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1C696-E9C5-4749-BB1F-4554BC8CF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62BCA-CB44-46B0-9D12-CEF6897E5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042D5-22FB-49AE-9F13-981DD33CF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726CF-A545-4E8B-BE13-6BF30F5E5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A5B95-6684-432A-AAC4-708E03101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FCBE4-51CC-4328-9B18-28DC7BD59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5E796-B92F-4FF2-9B70-F4A4D80BA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BF300-5586-403F-947C-80150FE573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upload.wikimedia.org/wikipedia/commons/a/a2/Sovremennik.jpg" TargetMode="External"/><Relationship Id="rId3" Type="http://schemas.openxmlformats.org/officeDocument/2006/relationships/image" Target="../media/image2.jpeg"/><Relationship Id="rId4" Type="http://schemas.openxmlformats.org/officeDocument/2006/relationships/hyperlink" Target="file://upload.wikimedia.org/wikipedia/commons/7/78/Russian_writers_by_Levitsky_1856.jpg" TargetMode="External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304920" y="-166680"/>
            <a:ext cx="9753840" cy="71913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Тема урока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0" y="2285640"/>
            <a:ext cx="91440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Arial"/>
              </a:rPr>
              <a:t>« Зарождение революционного народничества и его идеология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895480" y="5257800"/>
            <a:ext cx="6400800" cy="1600200"/>
          </a:xfrm>
          <a:prstGeom prst="rect">
            <a:avLst/>
          </a:prstGeom>
          <a:solidFill>
            <a:srgbClr val="d7a36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атериал разработан учителем истор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ОУ Будинской ОО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нтоненковой А.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85152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762120" y="380880"/>
            <a:ext cx="7772400" cy="1067040"/>
          </a:xfrm>
          <a:prstGeom prst="roundRect">
            <a:avLst>
              <a:gd name="adj" fmla="val 16667"/>
            </a:avLst>
          </a:prstGeom>
          <a:solidFill>
            <a:srgbClr val="d7a36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Способы действия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2933280" y="1828080"/>
            <a:ext cx="3274920" cy="1981080"/>
          </a:xfrm>
          <a:custGeom>
            <a:avLst/>
            <a:gdLst>
              <a:gd name="textAreaLeft" fmla="*/ 0 w 3274920"/>
              <a:gd name="textAreaRight" fmla="*/ 3275280 w 3274920"/>
              <a:gd name="textAreaTop" fmla="*/ 0 h 1981080"/>
              <a:gd name="textAreaBottom" fmla="*/ 1981440 h 198108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d7a36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04920" y="2514600"/>
            <a:ext cx="3276360" cy="1828800"/>
          </a:xfrm>
          <a:prstGeom prst="ellipse">
            <a:avLst/>
          </a:prstGeom>
          <a:solidFill>
            <a:srgbClr val="e8c898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аспростран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опагандистск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литерату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914560" y="3886200"/>
            <a:ext cx="3314880" cy="2057400"/>
          </a:xfrm>
          <a:prstGeom prst="ellipse">
            <a:avLst/>
          </a:prstGeom>
          <a:solidFill>
            <a:srgbClr val="e8c898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одействова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бег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еволюционер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з тюрь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867280" y="2438280"/>
            <a:ext cx="3124440" cy="1981440"/>
          </a:xfrm>
          <a:prstGeom prst="ellipse">
            <a:avLst/>
          </a:prstGeom>
          <a:solidFill>
            <a:srgbClr val="e8c898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атериальна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мощ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сыльны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85152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« Земля и воля» готовились начать открытое выступление в 1863 году, считая, что в этот период может возникнуть крестьянское восстание, связанное с истечением срока подписания Уставных грамот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62120" y="380880"/>
            <a:ext cx="7772400" cy="1067040"/>
          </a:xfrm>
          <a:prstGeom prst="roundRect">
            <a:avLst>
              <a:gd name="adj" fmla="val 16667"/>
            </a:avLst>
          </a:prstGeom>
          <a:solidFill>
            <a:srgbClr val="d7a36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« Земля и воля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85152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762120" y="380880"/>
            <a:ext cx="7772400" cy="1067040"/>
          </a:xfrm>
          <a:prstGeom prst="roundRect">
            <a:avLst>
              <a:gd name="adj" fmla="val 16667"/>
            </a:avLst>
          </a:prstGeom>
          <a:solidFill>
            <a:srgbClr val="d7a36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« Земля и воля»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33520" y="1752480"/>
            <a:ext cx="8153280" cy="1143000"/>
          </a:xfrm>
          <a:prstGeom prst="roundRect">
            <a:avLst>
              <a:gd name="adj" fmla="val 16667"/>
            </a:avLst>
          </a:prstGeom>
          <a:solidFill>
            <a:srgbClr val="e8c898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3300"/>
                </a:solidFill>
                <a:uFillTx/>
                <a:latin typeface="Arial"/>
              </a:rPr>
              <a:t>1862 г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– арест наиболее активных члено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рганиз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95360" y="3429000"/>
            <a:ext cx="8153280" cy="1143000"/>
          </a:xfrm>
          <a:prstGeom prst="roundRect">
            <a:avLst>
              <a:gd name="adj" fmla="val 16667"/>
            </a:avLst>
          </a:prstGeom>
          <a:solidFill>
            <a:srgbClr val="e8c898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3300"/>
                </a:solidFill>
                <a:uFillTx/>
                <a:latin typeface="Arial"/>
              </a:rPr>
              <a:t>1863 г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– разочарование революционеров – надеж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а восстание не оправдалис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95360" y="5029200"/>
            <a:ext cx="8153280" cy="1143000"/>
          </a:xfrm>
          <a:prstGeom prst="roundRect">
            <a:avLst>
              <a:gd name="adj" fmla="val 16667"/>
            </a:avLst>
          </a:prstGeom>
          <a:solidFill>
            <a:srgbClr val="e8c898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1864 г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– самороспуск « Земли и вол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086360" y="2819520"/>
            <a:ext cx="485640" cy="609480"/>
          </a:xfrm>
          <a:prstGeom prst="downArrow">
            <a:avLst>
              <a:gd name="adj1" fmla="val 50000"/>
              <a:gd name="adj2" fmla="val 31375"/>
            </a:avLst>
          </a:prstGeom>
          <a:solidFill>
            <a:srgbClr val="e8c898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086360" y="4495680"/>
            <a:ext cx="485640" cy="609840"/>
          </a:xfrm>
          <a:prstGeom prst="downArrow">
            <a:avLst>
              <a:gd name="adj1" fmla="val 50000"/>
              <a:gd name="adj2" fmla="val 31394"/>
            </a:avLst>
          </a:prstGeom>
          <a:solidFill>
            <a:srgbClr val="e8c898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85152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Идеи А.И.Герцена и  Н.Г. Чернышевско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тали теоретической основой политического течения русской радикальной интеллигенции – народничества, которые рассматривали народ как реальную политическую силу. Они считали, что необходимо сделать эту силу сознательной и организованн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880" y="152280"/>
            <a:ext cx="8534520" cy="1295640"/>
          </a:xfrm>
          <a:prstGeom prst="roundRect">
            <a:avLst>
              <a:gd name="adj" fmla="val 16667"/>
            </a:avLst>
          </a:prstGeom>
          <a:solidFill>
            <a:srgbClr val="d7a36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Теория революционного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народничеств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85152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762120" y="380880"/>
            <a:ext cx="7772400" cy="1067040"/>
          </a:xfrm>
          <a:prstGeom prst="roundRect">
            <a:avLst>
              <a:gd name="adj" fmla="val 16667"/>
            </a:avLst>
          </a:prstGeom>
          <a:solidFill>
            <a:srgbClr val="d7a36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Теория революционного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народничества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10800000">
            <a:off x="2819520" y="1447200"/>
            <a:ext cx="3124080" cy="1447560"/>
          </a:xfrm>
          <a:custGeom>
            <a:avLst/>
            <a:gdLst>
              <a:gd name="textAreaLeft" fmla="*/ 0 w 3124080"/>
              <a:gd name="textAreaRight" fmla="*/ 3124440 w 3124080"/>
              <a:gd name="textAreaTop" fmla="*/ 0 h 1447560"/>
              <a:gd name="textAreaBottom" fmla="*/ 1447920 h 144756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d7a36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1676520"/>
            <a:ext cx="2819520" cy="990360"/>
          </a:xfrm>
          <a:prstGeom prst="rect">
            <a:avLst/>
          </a:prstGeom>
          <a:solidFill>
            <a:srgbClr val="e8c898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Бунтарск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162240" y="2933640"/>
            <a:ext cx="3162240" cy="876240"/>
          </a:xfrm>
          <a:prstGeom prst="rect">
            <a:avLst/>
          </a:prstGeom>
          <a:solidFill>
            <a:srgbClr val="e8c898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опагандистск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943600" y="1523880"/>
            <a:ext cx="2819520" cy="990720"/>
          </a:xfrm>
          <a:prstGeom prst="rect">
            <a:avLst/>
          </a:prstGeom>
          <a:solidFill>
            <a:srgbClr val="e8c898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Заговорщицк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219320" y="2666880"/>
            <a:ext cx="533160" cy="1524240"/>
          </a:xfrm>
          <a:prstGeom prst="downArrow">
            <a:avLst>
              <a:gd name="adj1" fmla="val 50000"/>
              <a:gd name="adj2" fmla="val 71472"/>
            </a:avLst>
          </a:prstGeom>
          <a:solidFill>
            <a:srgbClr val="e8c898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305240" y="3809880"/>
            <a:ext cx="533520" cy="1524240"/>
          </a:xfrm>
          <a:prstGeom prst="downArrow">
            <a:avLst>
              <a:gd name="adj1" fmla="val 50000"/>
              <a:gd name="adj2" fmla="val 71424"/>
            </a:avLst>
          </a:prstGeom>
          <a:solidFill>
            <a:srgbClr val="e8c898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238880" y="2514600"/>
            <a:ext cx="533520" cy="1523880"/>
          </a:xfrm>
          <a:prstGeom prst="downArrow">
            <a:avLst>
              <a:gd name="adj1" fmla="val 50000"/>
              <a:gd name="adj2" fmla="val 71407"/>
            </a:avLst>
          </a:prstGeom>
          <a:solidFill>
            <a:srgbClr val="e8c898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52280" y="3886200"/>
            <a:ext cx="3886200" cy="1676520"/>
          </a:xfrm>
          <a:prstGeom prst="ellipse">
            <a:avLst/>
          </a:prstGeom>
          <a:solidFill>
            <a:srgbClr val="e8c898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ихаи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лександрови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Бакун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048120" y="5257800"/>
            <a:ext cx="3047760" cy="1371600"/>
          </a:xfrm>
          <a:prstGeom prst="ellipse">
            <a:avLst/>
          </a:prstGeom>
          <a:solidFill>
            <a:srgbClr val="e8c898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ёт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аврови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авр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095880" y="4038480"/>
            <a:ext cx="3048120" cy="1371600"/>
          </a:xfrm>
          <a:prstGeom prst="ellipse">
            <a:avLst/>
          </a:prstGeom>
          <a:solidFill>
            <a:srgbClr val="e8c898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ёт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икити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Ткачё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Файл:Bakuninfull.jpg"/>
          <p:cNvPicPr/>
          <p:nvPr/>
        </p:nvPicPr>
        <p:blipFill>
          <a:blip r:embed="rId2"/>
          <a:stretch/>
        </p:blipFill>
        <p:spPr>
          <a:xfrm>
            <a:off x="457200" y="4114800"/>
            <a:ext cx="765000" cy="11001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3200400" y="5334120"/>
            <a:ext cx="852480" cy="114444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4"/>
          <a:stretch/>
        </p:blipFill>
        <p:spPr>
          <a:xfrm>
            <a:off x="6477120" y="4114800"/>
            <a:ext cx="76176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72600" cy="690732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3809880" y="1600200"/>
            <a:ext cx="51818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Родился 18 мая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1814 в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селе Прямухино, Новоторжокского уезда, Тверской губернии, Российская империя — 19 июня [1 июля]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1876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Берн, Швейцария) — русский мыслитель, революционер, панславист, анархист, один из идеологов народничества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838080" y="152280"/>
            <a:ext cx="7848720" cy="1295640"/>
          </a:xfrm>
          <a:prstGeom prst="roundRect">
            <a:avLst>
              <a:gd name="adj" fmla="val 16667"/>
            </a:avLst>
          </a:prstGeom>
          <a:solidFill>
            <a:srgbClr val="d7a36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Теория революционного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народничества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Файл:Bakuninfull.jpg"/>
          <p:cNvPicPr/>
          <p:nvPr/>
        </p:nvPicPr>
        <p:blipFill>
          <a:blip r:embed="rId2"/>
          <a:stretch/>
        </p:blipFill>
        <p:spPr>
          <a:xfrm>
            <a:off x="304920" y="1523880"/>
            <a:ext cx="3365280" cy="483408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0" y="5791320"/>
            <a:ext cx="3962520" cy="761760"/>
          </a:xfrm>
          <a:prstGeom prst="rect">
            <a:avLst/>
          </a:prstGeom>
          <a:solidFill>
            <a:srgbClr val="e8c898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.А. Бакун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851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Arial"/>
              </a:rPr>
              <a:t>Лидер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: М.А. Бакунин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US" sz="4800" spc="-1" strike="noStrike">
                <a:solidFill>
                  <a:srgbClr val="ff3300"/>
                </a:solidFill>
                <a:latin typeface="Arial"/>
              </a:rPr>
              <a:t>Цели: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самоуправление народа;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4800" spc="-1" strike="noStrike">
                <a:solidFill>
                  <a:srgbClr val="ff3300"/>
                </a:solidFill>
                <a:latin typeface="Arial"/>
              </a:rPr>
              <a:t>Методы: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бунт, восстания,      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волнения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62120" y="380880"/>
            <a:ext cx="7772400" cy="1067040"/>
          </a:xfrm>
          <a:prstGeom prst="roundRect">
            <a:avLst>
              <a:gd name="adj" fmla="val 16667"/>
            </a:avLst>
          </a:prstGeom>
          <a:solidFill>
            <a:srgbClr val="d7a36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Бунтарское течение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85152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Русский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социолог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 философ,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публицист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и революционер. Один из идеологов народничеств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04920" y="380880"/>
            <a:ext cx="8686800" cy="1143000"/>
          </a:xfrm>
          <a:prstGeom prst="roundRect">
            <a:avLst>
              <a:gd name="adj" fmla="val 16667"/>
            </a:avLst>
          </a:prstGeom>
          <a:solidFill>
            <a:srgbClr val="d7a36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Пропагандистское течение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Файл:Piotr Lavrovich Lavrov.jpg"/>
          <p:cNvPicPr/>
          <p:nvPr/>
        </p:nvPicPr>
        <p:blipFill>
          <a:blip r:embed="rId2"/>
          <a:stretch/>
        </p:blipFill>
        <p:spPr>
          <a:xfrm>
            <a:off x="685800" y="1600200"/>
            <a:ext cx="3394080" cy="472428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380880" y="5791320"/>
            <a:ext cx="3962520" cy="761760"/>
          </a:xfrm>
          <a:prstGeom prst="rect">
            <a:avLst/>
          </a:prstGeom>
          <a:solidFill>
            <a:srgbClr val="e8c898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.Л. Лавр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85152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Arial"/>
              </a:rPr>
              <a:t>Лидер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: П. Л. Лавров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Arial"/>
              </a:rPr>
              <a:t>Цели: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Создать свободное социалистическое обществ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ff3300"/>
                </a:solidFill>
                <a:latin typeface="Arial"/>
              </a:rPr>
              <a:t>Методы: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пропаганд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62120" y="380880"/>
            <a:ext cx="7772400" cy="1067040"/>
          </a:xfrm>
          <a:prstGeom prst="roundRect">
            <a:avLst>
              <a:gd name="adj" fmla="val 16667"/>
            </a:avLst>
          </a:prstGeom>
          <a:solidFill>
            <a:srgbClr val="d7a36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Пропагандистское течение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85152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4647960" y="1600200"/>
            <a:ext cx="4267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русский литературный критик и публицист, брат Александры Анненской. Идеолог якобинского направления в народничеств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62120" y="380880"/>
            <a:ext cx="7772400" cy="1067040"/>
          </a:xfrm>
          <a:prstGeom prst="roundRect">
            <a:avLst>
              <a:gd name="adj" fmla="val 16667"/>
            </a:avLst>
          </a:prstGeom>
          <a:solidFill>
            <a:srgbClr val="d7a36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Заговорщицкое  течение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907920" y="1752480"/>
            <a:ext cx="3391200" cy="472464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609480" y="5943600"/>
            <a:ext cx="3962520" cy="685800"/>
          </a:xfrm>
          <a:prstGeom prst="rect">
            <a:avLst/>
          </a:prstGeom>
          <a:solidFill>
            <a:srgbClr val="e8c898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.Н. Ткачё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85152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Познакомимся с идеями и  развитием революционного  общественного движения 60-70 гг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Выяснить причины широкого развития  революционного движения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120" y="380880"/>
            <a:ext cx="7772400" cy="1067040"/>
          </a:xfrm>
          <a:prstGeom prst="roundRect">
            <a:avLst>
              <a:gd name="adj" fmla="val 16667"/>
            </a:avLst>
          </a:prstGeom>
          <a:solidFill>
            <a:srgbClr val="d7a36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Сегодня на уроке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85152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Arial"/>
              </a:rPr>
              <a:t>Лидер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: П.Н. Ткачёв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Arial"/>
              </a:rPr>
              <a:t>Цели: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установление всеобщего равенств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Arial"/>
              </a:rPr>
              <a:t>Методы: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заговор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62120" y="380880"/>
            <a:ext cx="7772400" cy="1067040"/>
          </a:xfrm>
          <a:prstGeom prst="roundRect">
            <a:avLst>
              <a:gd name="adj" fmla="val 16667"/>
            </a:avLst>
          </a:prstGeom>
          <a:solidFill>
            <a:srgbClr val="d7a36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Заговорщицкое  течение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85152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. Соотнесите программные установки русских революционеров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457200" y="1600200"/>
          <a:ext cx="8229600" cy="4819680"/>
        </p:xfrm>
        <a:graphic>
          <a:graphicData uri="http://schemas.openxmlformats.org/drawingml/2006/table">
            <a:tbl>
              <a:tblPr/>
              <a:tblGrid>
                <a:gridCol w="2502000"/>
                <a:gridCol w="5727600"/>
              </a:tblGrid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М.А.Бакуни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) Движущая сила революции – интеллигентный пропагандист, ведущий разъяснения среди народ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1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П.Л.Лавро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) Революция возможна, ее движущая сила – партия заговорщико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П.Н.Ткаче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) Революция – народный бун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85152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Большинство представителей народничества были выходцами из сред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) дворян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Б) разночинц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) крестья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) рабочи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0" y="6480"/>
            <a:ext cx="9296280" cy="685152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Ключ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 –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 –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 – 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 -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4952880"/>
            <a:ext cx="4114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 ошибок – «5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 ошибка – «4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 ошибки – «3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 ошибки – «2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8515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Подведём итог урок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Вопросы на стр. 18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8515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Домашнее зада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Параграф 25, вопросы, записи, термин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85152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Причины роста революционного движения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Поиски ориентиров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Теория революционного народничеств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62120" y="380880"/>
            <a:ext cx="7772400" cy="1067040"/>
          </a:xfrm>
          <a:prstGeom prst="roundRect">
            <a:avLst>
              <a:gd name="adj" fmla="val 16667"/>
            </a:avLst>
          </a:prstGeom>
          <a:solidFill>
            <a:srgbClr val="d7a36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Работаем по плану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85152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охранение помещичьего землевлад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Обременительные условия выкупа земельного наде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ведение временнообязанного состоя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Медлительность, нерешительность, а также непоследовательность  цар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62120" y="380880"/>
            <a:ext cx="7772400" cy="1067040"/>
          </a:xfrm>
          <a:prstGeom prst="roundRect">
            <a:avLst>
              <a:gd name="adj" fmla="val 16667"/>
            </a:avLst>
          </a:prstGeom>
          <a:solidFill>
            <a:srgbClr val="d7a36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Причины роста революционног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движ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8515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838080" y="152280"/>
            <a:ext cx="7772400" cy="1143000"/>
          </a:xfrm>
          <a:prstGeom prst="roundRect">
            <a:avLst>
              <a:gd name="adj" fmla="val 16667"/>
            </a:avLst>
          </a:prstGeom>
          <a:solidFill>
            <a:srgbClr val="d7a36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Поиски ориентиров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Файл:Sovremennik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85800" y="1447920"/>
            <a:ext cx="2997360" cy="47242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Файл:Russian writers by Levitsky 1856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343400" y="1728720"/>
            <a:ext cx="4038480" cy="39164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4114800" y="5562720"/>
            <a:ext cx="4876920" cy="1066680"/>
          </a:xfrm>
          <a:prstGeom prst="rect">
            <a:avLst/>
          </a:prstGeom>
          <a:solidFill>
            <a:srgbClr val="e8c898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Члены редколлегии журна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« Современник» 1856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152280"/>
            <a:ext cx="9144000" cy="67392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190760" y="1600200"/>
            <a:ext cx="4647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 июле 1862 года был арестован и помещён в Петропавловскую крепость, где провёл около 2 лет. Там написал роман: « Что делать?», ставший                          « библией» для русских революционер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85800" y="457200"/>
            <a:ext cx="7772400" cy="1066680"/>
          </a:xfrm>
          <a:prstGeom prst="roundRect">
            <a:avLst>
              <a:gd name="adj" fmla="val 16667"/>
            </a:avLst>
          </a:prstGeom>
          <a:solidFill>
            <a:srgbClr val="d7a36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Поиски ориентиров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Файл:Nikolay Chernyshevsky.jpg"/>
          <p:cNvPicPr/>
          <p:nvPr/>
        </p:nvPicPr>
        <p:blipFill>
          <a:blip r:embed="rId2"/>
          <a:stretch/>
        </p:blipFill>
        <p:spPr>
          <a:xfrm>
            <a:off x="457200" y="1676520"/>
            <a:ext cx="3333600" cy="41241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228600" y="5486400"/>
            <a:ext cx="3886200" cy="990720"/>
          </a:xfrm>
          <a:prstGeom prst="rect">
            <a:avLst/>
          </a:prstGeom>
          <a:solidFill>
            <a:srgbClr val="e8c898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.Г. Чернышевс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419720" y="1599840"/>
            <a:ext cx="44956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Лидер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. Н. Обручев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. С. Рымаренко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. И. Шамшин и д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ата основания:</a:t>
            </a:r>
            <a:r>
              <a:rPr b="1" i="1" lang="ru-RU" sz="3200" spc="-1" strike="noStrike">
                <a:solidFill>
                  <a:srgbClr val="ff3300"/>
                </a:solidFill>
                <a:latin typeface="Arial"/>
              </a:rPr>
              <a:t>186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ата роспуска:</a:t>
            </a:r>
            <a:r>
              <a:rPr b="1" i="1" lang="ru-RU" sz="3200" spc="-1" strike="noStrike">
                <a:solidFill>
                  <a:srgbClr val="ff3300"/>
                </a:solidFill>
                <a:latin typeface="Arial"/>
              </a:rPr>
              <a:t>186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деология:  </a:t>
            </a: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Народничест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5800" y="304920"/>
            <a:ext cx="7772400" cy="1066680"/>
          </a:xfrm>
          <a:prstGeom prst="roundRect">
            <a:avLst>
              <a:gd name="adj" fmla="val 16667"/>
            </a:avLst>
          </a:prstGeom>
          <a:solidFill>
            <a:srgbClr val="d7a36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Поиски ориентиров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Файл:Zemlya i volya logo.png"/>
          <p:cNvPicPr/>
          <p:nvPr/>
        </p:nvPicPr>
        <p:blipFill>
          <a:blip r:embed="rId2"/>
          <a:stretch/>
        </p:blipFill>
        <p:spPr>
          <a:xfrm>
            <a:off x="304920" y="1790640"/>
            <a:ext cx="4038480" cy="32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85152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7,5% - учащиеся и слушатели ВУЗ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4% - рабоч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1,3% - учащиеся шко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8,3% - служащ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7,6% - учител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О чём это говорит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62120" y="380880"/>
            <a:ext cx="7772400" cy="1067040"/>
          </a:xfrm>
          <a:prstGeom prst="roundRect">
            <a:avLst>
              <a:gd name="adj" fmla="val 16667"/>
            </a:avLst>
          </a:prstGeom>
          <a:solidFill>
            <a:srgbClr val="d7a36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Состав « Земли и воли»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85152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456840" y="1599840"/>
            <a:ext cx="8381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озвать парламен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Установить демократическую республик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Широкое применение местного самоуправл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Равноправие женщи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ередать крестьянам всю землю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оздание городских и сельских самоуправляющихся общи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380880"/>
            <a:ext cx="7772400" cy="1067040"/>
          </a:xfrm>
          <a:prstGeom prst="roundRect">
            <a:avLst>
              <a:gd name="adj" fmla="val 16667"/>
            </a:avLst>
          </a:prstGeom>
          <a:solidFill>
            <a:srgbClr val="d7a36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Программа « Земли и воли»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01-12-31T22:27:5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