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7E17-848E-429B-A7B4-3FEF73D36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4290-C595-4EED-9E8B-C38712966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9CD0-B20F-45D3-B771-51254E26C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9E8C-3D9F-4DCF-890D-7F13B30EB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1531-2590-4C62-BD3B-9F803B801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4876-0F15-4A45-AF7D-F0B501D7A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C6B3-67F8-43BF-BD3A-739978959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42E8-3599-49F7-BC2C-BC7A9E05A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DFC4-F3BA-495D-80B2-4D2FC1DF1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5ACF-4CA3-4949-BEDF-C70132C9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31D6-7D86-402A-A4C2-3829558E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3E8E-2429-4F8B-A716-85A491A3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AB8D6-8D59-4661-AF1A-4FC73F2D8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commons/a/a2/Sovremennik.jpg" TargetMode="External"/><Relationship Id="rId3" Type="http://schemas.openxmlformats.org/officeDocument/2006/relationships/image" Target="../media/image2.jpeg"/><Relationship Id="rId4" Type="http://schemas.openxmlformats.org/officeDocument/2006/relationships/hyperlink" Target="file://upload.wikimedia.org/wikipedia/commons/7/78/Russian_writers_by_Levitsky_1856.jpg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166680"/>
            <a:ext cx="9753840" cy="7191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Тема урок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0" y="2285640"/>
            <a:ext cx="9144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« Зарождение революционного народничества и его идеология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5257800"/>
            <a:ext cx="6400800" cy="1600200"/>
          </a:xfrm>
          <a:prstGeom prst="rect">
            <a:avLst/>
          </a:prstGeom>
          <a:solidFill>
            <a:srgbClr val="d7a36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териал разработан учителем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У Будинской О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тоненковой А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Способы действия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2933280" y="1828080"/>
            <a:ext cx="3274920" cy="1981080"/>
          </a:xfrm>
          <a:custGeom>
            <a:avLst/>
            <a:gdLst>
              <a:gd name="textAreaLeft" fmla="*/ 0 w 3274920"/>
              <a:gd name="textAreaRight" fmla="*/ 3275280 w 3274920"/>
              <a:gd name="textAreaTop" fmla="*/ 0 h 1981080"/>
              <a:gd name="textAreaBottom" fmla="*/ 1981440 h 19810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2514600"/>
            <a:ext cx="3276360" cy="1828800"/>
          </a:xfrm>
          <a:prstGeom prst="ellipse">
            <a:avLst/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простра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пагандистс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14560" y="3886200"/>
            <a:ext cx="3314880" cy="2057400"/>
          </a:xfrm>
          <a:prstGeom prst="ellipse">
            <a:avLst/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действов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бег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волюционе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з тюрь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867280" y="2438280"/>
            <a:ext cx="3124440" cy="1981440"/>
          </a:xfrm>
          <a:prstGeom prst="ellipse">
            <a:avLst/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териаль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сыль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« Земля и воля» готовились начать открытое выступление в 1863 году, считая, что в этот период может возникнуть крестьянское восстание, связанное с истечением срока подписания Уставных грамот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« Земля и вол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« Земля и воля»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1752480"/>
            <a:ext cx="8153280" cy="1143000"/>
          </a:xfrm>
          <a:prstGeom prst="roundRect">
            <a:avLst>
              <a:gd name="adj" fmla="val 16667"/>
            </a:avLst>
          </a:prstGeom>
          <a:solidFill>
            <a:srgbClr val="e8c89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1862 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– арест наиболее активных член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рган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95360" y="3429000"/>
            <a:ext cx="8153280" cy="1143000"/>
          </a:xfrm>
          <a:prstGeom prst="roundRect">
            <a:avLst>
              <a:gd name="adj" fmla="val 16667"/>
            </a:avLst>
          </a:prstGeom>
          <a:solidFill>
            <a:srgbClr val="e8c89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1863 г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разочарование революционеров – надеж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восстание не оправдали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95360" y="5029200"/>
            <a:ext cx="8153280" cy="1143000"/>
          </a:xfrm>
          <a:prstGeom prst="roundRect">
            <a:avLst>
              <a:gd name="adj" fmla="val 16667"/>
            </a:avLst>
          </a:prstGeom>
          <a:solidFill>
            <a:srgbClr val="e8c89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864 г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самороспуск « Земли и вол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86360" y="2819520"/>
            <a:ext cx="485640" cy="609480"/>
          </a:xfrm>
          <a:prstGeom prst="downArrow">
            <a:avLst>
              <a:gd name="adj1" fmla="val 50000"/>
              <a:gd name="adj2" fmla="val 31375"/>
            </a:avLst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86360" y="4495680"/>
            <a:ext cx="485640" cy="609840"/>
          </a:xfrm>
          <a:prstGeom prst="downArrow">
            <a:avLst>
              <a:gd name="adj1" fmla="val 50000"/>
              <a:gd name="adj2" fmla="val 31394"/>
            </a:avLst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деи А.И.Герцена и  Н.Г. Чернышевс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али теоретической основой политического течения русской радикальной интеллигенции – народничества, которые рассматривали народ как реальную политическую силу. Они считали, что необходимо сделать эту силу сознательной и организован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152280"/>
            <a:ext cx="8534520" cy="12956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Теория революционног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народниче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Теория революционног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народничеств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0800000">
            <a:off x="2819520" y="1447200"/>
            <a:ext cx="3124080" cy="1447560"/>
          </a:xfrm>
          <a:custGeom>
            <a:avLst/>
            <a:gdLst>
              <a:gd name="textAreaLeft" fmla="*/ 0 w 3124080"/>
              <a:gd name="textAreaRight" fmla="*/ 3124440 w 312408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1676520"/>
            <a:ext cx="2819520" cy="990360"/>
          </a:xfrm>
          <a:prstGeom prst="rect">
            <a:avLst/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унтар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62240" y="2933640"/>
            <a:ext cx="3162240" cy="876240"/>
          </a:xfrm>
          <a:prstGeom prst="rect">
            <a:avLst/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пагандист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943600" y="1523880"/>
            <a:ext cx="2819520" cy="990720"/>
          </a:xfrm>
          <a:prstGeom prst="rect">
            <a:avLst/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говорщиц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2666880"/>
            <a:ext cx="533160" cy="1524240"/>
          </a:xfrm>
          <a:prstGeom prst="downArrow">
            <a:avLst>
              <a:gd name="adj1" fmla="val 50000"/>
              <a:gd name="adj2" fmla="val 71472"/>
            </a:avLst>
          </a:prstGeom>
          <a:solidFill>
            <a:srgbClr val="e8c898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05240" y="3809880"/>
            <a:ext cx="533520" cy="1524240"/>
          </a:xfrm>
          <a:prstGeom prst="downArrow">
            <a:avLst>
              <a:gd name="adj1" fmla="val 50000"/>
              <a:gd name="adj2" fmla="val 71424"/>
            </a:avLst>
          </a:prstGeom>
          <a:solidFill>
            <a:srgbClr val="e8c898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238880" y="2514600"/>
            <a:ext cx="533520" cy="1523880"/>
          </a:xfrm>
          <a:prstGeom prst="downArrow">
            <a:avLst>
              <a:gd name="adj1" fmla="val 50000"/>
              <a:gd name="adj2" fmla="val 71407"/>
            </a:avLst>
          </a:prstGeom>
          <a:solidFill>
            <a:srgbClr val="e8c898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3886200"/>
            <a:ext cx="3886200" cy="1676520"/>
          </a:xfrm>
          <a:prstGeom prst="ellipse">
            <a:avLst/>
          </a:prstGeom>
          <a:solidFill>
            <a:srgbClr val="e8c89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ихаи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лександр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акун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5257800"/>
            <a:ext cx="3047760" cy="1371600"/>
          </a:xfrm>
          <a:prstGeom prst="ellipse">
            <a:avLst/>
          </a:prstGeom>
          <a:solidFill>
            <a:srgbClr val="e8c89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ё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авр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ав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95880" y="4038480"/>
            <a:ext cx="3048120" cy="1371600"/>
          </a:xfrm>
          <a:prstGeom prst="ellipse">
            <a:avLst/>
          </a:prstGeom>
          <a:solidFill>
            <a:srgbClr val="e8c89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ё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икит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качё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Файл:Bakuninfull.jpg"/>
          <p:cNvPicPr/>
          <p:nvPr/>
        </p:nvPicPr>
        <p:blipFill>
          <a:blip r:embed="rId2"/>
          <a:stretch/>
        </p:blipFill>
        <p:spPr>
          <a:xfrm>
            <a:off x="457200" y="4114800"/>
            <a:ext cx="765000" cy="11001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200400" y="5334120"/>
            <a:ext cx="852480" cy="1144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6477120" y="4114800"/>
            <a:ext cx="76176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9073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809880" y="1600200"/>
            <a:ext cx="5181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одился 18 мая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1814 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селе Прямухино, Новоторжокского уезда, Тверской губернии, Российская империя — 19 июня [1 июля]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187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Берн, Швейцария) — русский мыслитель, революционер, панславист, анархист, один из идеологов народничеств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152280"/>
            <a:ext cx="7848720" cy="12956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Теория революционног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народничества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Файл:Bakuninfull.jpg"/>
          <p:cNvPicPr/>
          <p:nvPr/>
        </p:nvPicPr>
        <p:blipFill>
          <a:blip r:embed="rId2"/>
          <a:stretch/>
        </p:blipFill>
        <p:spPr>
          <a:xfrm>
            <a:off x="304920" y="1523880"/>
            <a:ext cx="3365280" cy="4834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0" y="5791320"/>
            <a:ext cx="3962520" cy="761760"/>
          </a:xfrm>
          <a:prstGeom prst="rect">
            <a:avLst/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.А. Бакун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Лидер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: М.А. Бакуни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Цели: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самоуправление народа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Методы: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бунт, восстания,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волнени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Бунтарское течение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усский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оциоло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философ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ублицис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и революционер. Один из идеологов народничест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380880"/>
            <a:ext cx="8686800" cy="114300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Пропагандистское течение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Файл:Piotr Lavrovich Lavrov.jpg"/>
          <p:cNvPicPr/>
          <p:nvPr/>
        </p:nvPicPr>
        <p:blipFill>
          <a:blip r:embed="rId2"/>
          <a:stretch/>
        </p:blipFill>
        <p:spPr>
          <a:xfrm>
            <a:off x="685800" y="1600200"/>
            <a:ext cx="3394080" cy="47242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80880" y="5791320"/>
            <a:ext cx="3962520" cy="761760"/>
          </a:xfrm>
          <a:prstGeom prst="rect">
            <a:avLst/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.Л. Лав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Лидер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: П. Л. Лавр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Цели: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оздать свободное социалистическое обще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Методы: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пропаган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ропагандистское течение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64796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усский литературный критик и публицист, брат Александры Анненской. Идеолог якобинского направления в народничеств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Заговорщицкое  течение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907920" y="1752480"/>
            <a:ext cx="3391200" cy="47246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09480" y="5943600"/>
            <a:ext cx="3962520" cy="685800"/>
          </a:xfrm>
          <a:prstGeom prst="rect">
            <a:avLst/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.Н. Ткачё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Познакомимся с идеями и  развитием революционного  общественного движения 60-70 г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Выяснить причины широкого развития  революционного движени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Сегодня на уроке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Лидер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: П.Н. Ткачё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Цели: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установление всеобщего равенст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Методы: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заговор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Заговорщицкое  течение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Соотнесите программные установки русских революционеро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57200" y="1600200"/>
          <a:ext cx="8229600" cy="4819680"/>
        </p:xfrm>
        <a:graphic>
          <a:graphicData uri="http://schemas.openxmlformats.org/drawingml/2006/table">
            <a:tbl>
              <a:tblPr/>
              <a:tblGrid>
                <a:gridCol w="2502000"/>
                <a:gridCol w="5727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М.А.Бакун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Движущая сила революции – интеллигентный пропагандист, ведущий разъяснения среди наро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П.Л.Лавр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Революция возможна, ее движущая сила – партия заговорщик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П.Н.Ткаче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Революция – народный бу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Большинство представителей народничества были выходцами из сред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) дворян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) разночинц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) крестья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) рабоч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люч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–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–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– 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-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4952880"/>
            <a:ext cx="41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 ошибок – «5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ошибка – «4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ошибки – «3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ошибки – «2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дведём итог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опросы на стр. 18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араграф 25, вопросы, записи, терм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ичины роста революционного движ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иски ориентир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еория революционного народничеств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Работаем по плану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хранение помещичьего землевла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ременительные условия выкупа земельного над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ведение временнообязанного состоя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едлительность, нерешительность, а также непоследовательность  цар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ичины роста революционн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дви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38080" y="152280"/>
            <a:ext cx="7772400" cy="114300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Поиски ориентиров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Файл:Sovremennik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5800" y="1447920"/>
            <a:ext cx="2997360" cy="4724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Файл:Russian writers by Levitsky 1856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343400" y="1728720"/>
            <a:ext cx="4038480" cy="3916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114800" y="5562720"/>
            <a:ext cx="4876920" cy="1066680"/>
          </a:xfrm>
          <a:prstGeom prst="rect">
            <a:avLst/>
          </a:prstGeom>
          <a:solidFill>
            <a:srgbClr val="e8c89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лены редколлегии журн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 Современник» 1856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7392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190760" y="1600200"/>
            <a:ext cx="4647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июле 1862 года был арестован и помещён в Петропавловскую крепость, где провёл около 2 лет. Там написал роман: « Что делать?», ставший                          « библией» для русских революционе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457200"/>
            <a:ext cx="7772400" cy="106668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оиски ориентиров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Файл:Nikolay Chernyshevsky.jpg"/>
          <p:cNvPicPr/>
          <p:nvPr/>
        </p:nvPicPr>
        <p:blipFill>
          <a:blip r:embed="rId2"/>
          <a:stretch/>
        </p:blipFill>
        <p:spPr>
          <a:xfrm>
            <a:off x="457200" y="1676520"/>
            <a:ext cx="3333600" cy="4124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28600" y="5486400"/>
            <a:ext cx="3886200" cy="990720"/>
          </a:xfrm>
          <a:prstGeom prst="rect">
            <a:avLst/>
          </a:prstGeom>
          <a:solidFill>
            <a:srgbClr val="e8c89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.Г. Черныше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419720" y="1599840"/>
            <a:ext cx="4495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Лидер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. Н. Обручев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. С. Рымаренко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. И. Шамшин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та основания: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186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та роспуска: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18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деология: 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Народни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304920"/>
            <a:ext cx="7772400" cy="106668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оиски ориентир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Файл:Zemlya i volya logo.png"/>
          <p:cNvPicPr/>
          <p:nvPr/>
        </p:nvPicPr>
        <p:blipFill>
          <a:blip r:embed="rId2"/>
          <a:stretch/>
        </p:blipFill>
        <p:spPr>
          <a:xfrm>
            <a:off x="304920" y="1790640"/>
            <a:ext cx="4038480" cy="32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7,5% - учащиеся и слушатели ВУЗ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4% - рабоч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1,3% - учащиеся шко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,3% - служащ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,6% - учите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О чём это говорит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Состав « Земли и воли»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звать парлам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становить демократическую республи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Широкое применение местного самоупр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вноправие женщ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ередать крестьянам всю земл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здание городских и сельских самоуправляющихся общ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рограмма « Земли и воли»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1-12-31T22:27:5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