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DC8-FB41-48DE-83A4-FC9DF088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F31-7EC9-45A9-84E2-34321EBA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FF4C-82C7-4882-9030-DB5FFDBF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327-4E00-4173-A9CE-D3CBDA3E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115-9B21-4D4A-92E2-D15AF130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4695-B165-49DC-A3AC-9357EF7B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713-7854-498E-844E-D51670B4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5BB5-A929-4A88-A4AB-4497973F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9783-94D5-4CC5-81A4-19D8B2A6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EFC-7CAF-4B29-B4C4-A9484FA8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32C-D436-4635-8FFA-33C6D2D7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33A-C84C-485D-88A3-B5A2390D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1429-6B70-454F-B860-601AADFFA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a/MarkAntony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« Установление импер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5257800"/>
            <a:ext cx="5791320" cy="1600200"/>
          </a:xfrm>
          <a:prstGeom prst="rect">
            <a:avLst/>
          </a:prstGeom>
          <a:solidFill>
            <a:srgbClr val="f6ab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Файл:The Death of Cleopatra arthur.jpg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5943600"/>
            <a:ext cx="861048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ь Клеопа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53, вопросы, записи, рабочая 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рьба Антония и Октавиана за вл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диновластие Октавиана Авгу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1120" y="13712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цом Марка Антония был Марк Антоний Кретик, матерью — Юлия Антония. В юности  Антоний отличался приверженцем пагубных привычек, транжирством и часто разгуливал по улицам вместе со своими братьями и друзь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MarkAntony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00200"/>
            <a:ext cx="3863880" cy="461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5791320"/>
            <a:ext cx="4038840" cy="609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к Ант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был внук любимой сестры Цезаря, хилый и болезненный юноша.  Во время убийства Цезаря он находился на Балканском полуострове. Где обучался военному д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Acaugustus.jpg"/>
          <p:cNvPicPr/>
          <p:nvPr/>
        </p:nvPicPr>
        <p:blipFill>
          <a:blip r:embed="rId2"/>
          <a:stretch/>
        </p:blipFill>
        <p:spPr>
          <a:xfrm>
            <a:off x="762120" y="1523880"/>
            <a:ext cx="2857320" cy="461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396252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авиан Авгу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61800" y="1523880"/>
            <a:ext cx="842040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80880" y="5486400"/>
            <a:ext cx="845820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пид, Октавиан и Антоний въезжают в 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дел территор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1523880"/>
            <a:ext cx="8534160" cy="492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5257800" y="3809880"/>
            <a:ext cx="1440" cy="22482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5600" y="5257800"/>
            <a:ext cx="17154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Октави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59680" y="4419720"/>
            <a:ext cx="14457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Авгу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040" y="15235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лавлена благодаря истории любви к римскому полководцу Марку Антонию. В годы её правления Египет был покорён Римом, сама Клеопатра покончила жизнь самоубийством, чтобы не стать пленницей первого римского императора Октавиана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Файл:Cleopatra and Caesar by Jean-Leon-Gerome.jpg"/>
          <p:cNvPicPr/>
          <p:nvPr/>
        </p:nvPicPr>
        <p:blipFill>
          <a:blip r:embed="rId2"/>
          <a:stretch/>
        </p:blipFill>
        <p:spPr>
          <a:xfrm>
            <a:off x="380880" y="1447920"/>
            <a:ext cx="391968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6095880"/>
            <a:ext cx="4191120" cy="609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и Цез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Файл:Cleopatra visits Antony.jpg"/>
          <p:cNvPicPr/>
          <p:nvPr/>
        </p:nvPicPr>
        <p:blipFill>
          <a:blip r:embed="rId2"/>
          <a:stretch/>
        </p:blipFill>
        <p:spPr>
          <a:xfrm>
            <a:off x="482760" y="1523880"/>
            <a:ext cx="8177040" cy="49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943600"/>
            <a:ext cx="83059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плывёт к Анто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жение у мыса Акц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Файл:Castro Battle of Actium.jpg"/>
          <p:cNvPicPr/>
          <p:nvPr/>
        </p:nvPicPr>
        <p:blipFill>
          <a:blip r:embed="rId2"/>
          <a:stretch/>
        </p:blipFill>
        <p:spPr>
          <a:xfrm>
            <a:off x="152280" y="1658880"/>
            <a:ext cx="8991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4T14:19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