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B6A-0260-4984-8458-0678A80E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92EF-B5C7-43FE-9D27-927D3D41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CFF9-20A7-4ED2-BFD5-0CCF5552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264-0A29-4306-BE38-04D6ED97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3654-328C-4C9E-86B0-1A1D9550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1F4-9B0B-4926-94E6-FAAEA505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90F5-7C24-476D-AD0A-72CBDBAF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A20D-3424-4F65-AEF6-E99B6868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1341-9496-4A20-9B8D-C32BF903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AA7A-4AE1-4524-AF51-9042D8C5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8E2F-4062-4A7F-AD09-A5671F74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A7C9-A1F5-4DD4-A86A-9E7E2A34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0E071-84C9-4FCD-9BBE-2482709F0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upload.wikimedia.org/wikipedia/commons/2/2a/MarkAntony1.jpg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2286000"/>
            <a:ext cx="85345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« Установление империи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52680" y="5257800"/>
            <a:ext cx="5791320" cy="1600200"/>
          </a:xfrm>
          <a:prstGeom prst="rect">
            <a:avLst/>
          </a:prstGeom>
          <a:solidFill>
            <a:srgbClr val="f6ab94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Файл:The Death of Cleopatra arthur.jpg"/>
          <p:cNvPicPr/>
          <p:nvPr/>
        </p:nvPicPr>
        <p:blipFill>
          <a:blip r:embed="rId2"/>
          <a:stretch/>
        </p:blipFill>
        <p:spPr>
          <a:xfrm>
            <a:off x="304920" y="457200"/>
            <a:ext cx="8610480" cy="5718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920" y="5943600"/>
            <a:ext cx="86104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мерть Клеопа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опросы на стр. 24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Параграф 53, вопросы, записи, рабочая тетрадь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Борьба Антония и Октавиана за власт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Единовластие Октавиана Авгус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228600"/>
            <a:ext cx="8915400" cy="99072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7324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91120" y="1371240"/>
            <a:ext cx="4952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цом Марка Антония был Марк Антоний Кретик, матерью — Юлия Антония. В юности  Антоний отличался приверженцем пагубных привычек, транжирством и часто разгуливал по улицам вместе со своими братьями и друзьями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Файл:MarkAntony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1600200"/>
            <a:ext cx="3863880" cy="46101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5791320"/>
            <a:ext cx="4038840" cy="6094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к Анто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266720" y="1600200"/>
            <a:ext cx="4876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был внук любимой сестры Цезаря, хилый и болезненный юноша.  Во время убийства Цезаря он находился на Балканском полуострове. Где обучался военному дел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Файл:Acaugustus.jpg"/>
          <p:cNvPicPr/>
          <p:nvPr/>
        </p:nvPicPr>
        <p:blipFill>
          <a:blip r:embed="rId2"/>
          <a:stretch/>
        </p:blipFill>
        <p:spPr>
          <a:xfrm>
            <a:off x="762120" y="1523880"/>
            <a:ext cx="2857320" cy="4619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791320"/>
            <a:ext cx="396252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ктавиан Авгу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ражение сторонников республи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61800" y="1523880"/>
            <a:ext cx="8420400" cy="3810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1" name=""/>
          <p:cNvSpPr/>
          <p:nvPr/>
        </p:nvSpPr>
        <p:spPr>
          <a:xfrm>
            <a:off x="380880" y="5486400"/>
            <a:ext cx="8458200" cy="68580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пид, Октавиан и Антоний въезжают в Р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дел территори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304920" y="1523880"/>
            <a:ext cx="8534160" cy="4927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65" name=""/>
          <p:cNvSpPr/>
          <p:nvPr/>
        </p:nvSpPr>
        <p:spPr>
          <a:xfrm flipH="1">
            <a:off x="5257800" y="3809880"/>
            <a:ext cx="1440" cy="224820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65600" y="5257800"/>
            <a:ext cx="171540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Октави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259680" y="4419720"/>
            <a:ext cx="14457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Times New Roman Cyr"/>
              </a:rPr>
              <a:t>Авгу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99172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43040" y="15235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славлена благодаря истории любви к римскому полководцу Марку Антонию. В годы её правления Египет был покорён Римом, сама Клеопатра покончила жизнь самоубийством, чтобы не стать пленницей первого римского императора Октавиана Авгус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Файл:Cleopatra and Caesar by Jean-Leon-Gerome.jpg"/>
          <p:cNvPicPr/>
          <p:nvPr/>
        </p:nvPicPr>
        <p:blipFill>
          <a:blip r:embed="rId2"/>
          <a:stretch/>
        </p:blipFill>
        <p:spPr>
          <a:xfrm>
            <a:off x="380880" y="1447920"/>
            <a:ext cx="3919680" cy="5029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52280" y="6095880"/>
            <a:ext cx="4191120" cy="60984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и Цез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орьба Антония и Октавиана за единовласт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Файл:Cleopatra visits Antony.jpg"/>
          <p:cNvPicPr/>
          <p:nvPr/>
        </p:nvPicPr>
        <p:blipFill>
          <a:blip r:embed="rId2"/>
          <a:stretch/>
        </p:blipFill>
        <p:spPr>
          <a:xfrm>
            <a:off x="482760" y="1523880"/>
            <a:ext cx="8177040" cy="4903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57200" y="5943600"/>
            <a:ext cx="8305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леопатра плывёт к Анто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994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6ab94"/>
          </a:solidFill>
          <a:ln w="255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ражение у мыса Акциу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Файл:Castro Battle of Actium.jpg"/>
          <p:cNvPicPr/>
          <p:nvPr/>
        </p:nvPicPr>
        <p:blipFill>
          <a:blip r:embed="rId2"/>
          <a:stretch/>
        </p:blipFill>
        <p:spPr>
          <a:xfrm>
            <a:off x="152280" y="1658880"/>
            <a:ext cx="8991720" cy="51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4T14:19:11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