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2.jpeg" ContentType="image/jpeg"/>
  <Override PartName="/ppt/media/image21.wmf" ContentType="image/x-wmf"/>
  <Override PartName="/ppt/media/type.wav" ContentType="audio/x-wav"/>
  <Override PartName="/ppt/media/image20.png" ContentType="image/png"/>
  <Override PartName="/ppt/media/image18.gif" ContentType="image/gif"/>
  <Override PartName="/ppt/media/image14.wmf" ContentType="image/x-wmf"/>
  <Override PartName="/ppt/media/image17.gif" ContentType="image/gif"/>
  <Override PartName="/ppt/media/image13.wmf" ContentType="image/x-wmf"/>
  <Override PartName="/ppt/media/image19.png" ContentType="image/png"/>
  <Override PartName="/ppt/media/image16.gif" ContentType="image/gif"/>
  <Override PartName="/ppt/media/image12.wmf" ContentType="image/x-wmf"/>
  <Override PartName="/ppt/media/image15.png" ContentType="image/png"/>
  <Override PartName="/ppt/media/image11.wmf" ContentType="image/x-wmf"/>
  <Override PartName="/ppt/media/image23.gif" ContentType="image/gif"/>
  <Override PartName="/ppt/media/image4.png" ContentType="image/png"/>
  <Override PartName="/ppt/media/image3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27.png" ContentType="image/png"/>
  <Override PartName="/ppt/media/image34.gif" ContentType="image/gif"/>
  <Override PartName="/ppt/media/image30.wmf" ContentType="image/x-wmf"/>
  <Override PartName="/ppt/media/image28.gif" ContentType="image/gif"/>
  <Override PartName="/ppt/media/image29.wmf" ContentType="image/x-wmf"/>
  <Override PartName="/ppt/media/image40.jpeg" ContentType="image/jpeg"/>
  <Override PartName="/ppt/media/image41.jpeg" ContentType="image/jpeg"/>
  <Override PartName="/ppt/media/image6.wmf" ContentType="image/x-wmf"/>
  <Override PartName="/ppt/media/image36.wmf" ContentType="image/x-wmf"/>
  <Override PartName="/ppt/media/chimes.wav" ContentType="audio/x-wav"/>
  <Override PartName="/ppt/media/image3.gif" ContentType="image/gif"/>
  <Override PartName="/ppt/media/image37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39.gif" ContentType="image/gif"/>
  <Override PartName="/ppt/media/image35.wmf" ContentType="image/x-wmf"/>
  <Override PartName="/ppt/media/image42.jpeg" ContentType="image/jpeg"/>
  <Override PartName="/ppt/media/image32.gif" ContentType="image/gif"/>
  <Override PartName="/ppt/media/image2.gif" ContentType="image/gif"/>
  <Override PartName="/ppt/media/image31.wmf" ContentType="image/x-wmf"/>
  <Override PartName="/ppt/media/image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08C-4808-41AA-97FB-91F37E06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799-96C1-4B39-8EEB-F61150D5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09A-676C-422C-B55A-6CD958C0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219-E1F8-4C22-BD7E-08F60CF1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E562-5718-4722-BA1F-472D154F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DB52-18CF-45BD-A1E2-52C71217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F357-0A56-4B68-90DD-329FA150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0E49-6954-46C6-999D-D3B6E6E0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C667-2175-4E94-984D-A6C31DCD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5401-D387-44A8-BD8D-93AF21BE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B311-9269-48C0-BAFA-2275D962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072-BC9E-4448-B4AB-A2269777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CE91-3975-48A6-B25B-5CA97456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4405-7A33-442B-9A9F-470305BD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E1EC-DD19-4747-8798-38F67E4E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9E6E-0314-4829-A16A-97B7CAFF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4DED-CE0A-4045-9F12-BCA3E99A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4ED-F891-4222-9170-A81691C6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D99-8680-444B-926A-4224D9B0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B46-CA79-474E-8072-F0D1D9B9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637-A407-428C-B44C-8057A755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693-A130-4F38-9898-82B15D2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148-2A8E-4E8D-8C3D-E3842E62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504-FC6D-4BCB-AF1D-F5A247D0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8A1D-15D3-47DE-87AA-D629B5DB2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646B-797A-4E76-94F0-36E6A2EBB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.wmf"/><Relationship Id="rId4" Type="http://schemas.openxmlformats.org/officeDocument/2006/relationships/image" Target="../media/image21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wmf"/><Relationship Id="rId3" Type="http://schemas.openxmlformats.org/officeDocument/2006/relationships/image" Target="../media/image2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gif"/><Relationship Id="rId3" Type="http://schemas.openxmlformats.org/officeDocument/2006/relationships/image" Target="../media/image28.gif"/><Relationship Id="rId4" Type="http://schemas.openxmlformats.org/officeDocument/2006/relationships/image" Target="../media/image5.wmf"/><Relationship Id="rId5" Type="http://schemas.openxmlformats.org/officeDocument/2006/relationships/image" Target="../media/image1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32.gif"/><Relationship Id="rId4" Type="http://schemas.openxmlformats.org/officeDocument/2006/relationships/image" Target="../media/image3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wmf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8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55840" cy="2338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0749800">
            <a:off x="522360" y="2573280"/>
            <a:ext cx="82058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806fd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и многоугольников</a:t>
            </a:r>
            <a:endParaRPr b="0" lang="en-US" sz="1800" spc="1" strike="noStrike">
              <a:ln w="9360">
                <a:solidFill>
                  <a:srgbClr val="f806fd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3648240" cy="291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94440" y="614520"/>
            <a:ext cx="571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Природа говорит языком математ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буквы этого языка — математические фиг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Г.Гали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9040" y="5157720"/>
            <a:ext cx="545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учитель МБОУ Гимназия №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Ростова-на-Дону Самохвалова Ольга Тасо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5867280" y="5013360"/>
            <a:ext cx="3097440" cy="151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669440" y="5589720"/>
            <a:ext cx="1422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40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4039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1332000" y="189000"/>
            <a:ext cx="727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ямоугольника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812000" y="558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740720" y="6021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596360" y="5157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47640" y="3068640"/>
            <a:ext cx="3097440" cy="1511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258920" y="37162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728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148360" y="3645000"/>
                <a:ext cx="1525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635280" y="5373720"/>
                <a:ext cx="1652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2484360" y="692280"/>
            <a:ext cx="406728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знает каждый школьник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Брат квадрата – </a:t>
            </a:r>
            <a:r>
              <a:rPr b="1" i="1" lang="en-US" sz="1800" spc="-1" strike="noStrike" u="sng">
                <a:solidFill>
                  <a:srgbClr val="993300"/>
                </a:solidFill>
                <a:uFillTx/>
                <a:latin typeface="Arial"/>
              </a:rPr>
              <a:t>прямоугольник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используют везде: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И в учебе, и в тру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164360" y="126828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000"/>
                            </p:stCondLst>
                            <p:childTnLst>
                              <p:par>
                                <p:cTn id="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500"/>
                            </p:stCondLst>
                            <p:childTnLst>
                              <p:par>
                                <p:cTn id="7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80"/>
                            </p:stCondLst>
                            <p:childTnLst>
                              <p:par>
                                <p:cTn id="7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9580"/>
                            </p:stCondLst>
                            <p:childTnLst>
                              <p:par>
                                <p:cTn id="7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58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580"/>
                            </p:stCondLst>
                            <p:childTnLst>
                              <p:par>
                                <p:cTn id="7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233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3330"/>
                            </p:stCondLst>
                            <p:childTnLst>
                              <p:par>
                                <p:cTn id="7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408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4580"/>
                            </p:stCondLst>
                            <p:childTnLst>
                              <p:par>
                                <p:cTn id="7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8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1042920" y="115920"/>
            <a:ext cx="6337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ромба 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67280" y="5013360"/>
            <a:ext cx="3097440" cy="151128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54920" y="5589720"/>
            <a:ext cx="145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300720" y="504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300720" y="602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22764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7669800">
            <a:off x="580680" y="617400"/>
            <a:ext cx="2170080" cy="288144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93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40000" y="119700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050920" y="2647800"/>
            <a:ext cx="0" cy="27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050920" y="26478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6560" y="1855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979640" y="2000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627280" y="1711440"/>
                <a:ext cx="1152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11280" y="4024440"/>
            <a:ext cx="3168720" cy="259056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197000" y="4329000"/>
            <a:ext cx="1979640" cy="1979640"/>
          </a:xfrm>
          <a:prstGeom prst="flowChartOr">
            <a:avLst/>
          </a:prstGeom>
          <a:solidFill>
            <a:srgbClr val="916f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185920" y="4035600"/>
            <a:ext cx="0" cy="256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11280" y="531972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185920" y="4508280"/>
            <a:ext cx="585720" cy="81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41440" y="44593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08000" y="4316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08000" y="3645000"/>
                <a:ext cx="1368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140360" y="5987880"/>
                <a:ext cx="1757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6443640" y="1197000"/>
            <a:ext cx="1941480" cy="172728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415280" y="119700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43640" y="2060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767640" y="1700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343640" y="2270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7415280" y="2924280"/>
                <a:ext cx="1368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2287800" cy="24494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14600" cy="72072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7451640" y="260280"/>
            <a:ext cx="158436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1500"/>
                            </p:stCondLst>
                            <p:childTnLst>
                              <p:par>
                                <p:cTn id="8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1332000" y="115920"/>
            <a:ext cx="669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c33d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квадрата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c33d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71640" y="1341360"/>
            <a:ext cx="2016000" cy="208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516720" y="4437000"/>
            <a:ext cx="2016000" cy="2087640"/>
          </a:xfrm>
          <a:prstGeom prst="rect">
            <a:avLst/>
          </a:prstGeom>
          <a:gradFill rotWithShape="0">
            <a:gsLst>
              <a:gs pos="0">
                <a:srgbClr val="cc6c41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6720" y="4437000"/>
            <a:ext cx="201600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 rot="10800000">
            <a:off x="7092720" y="52995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2276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6364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53272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3059280" y="1844640"/>
                <a:ext cx="1366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03640" y="4869000"/>
                <a:ext cx="13226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4932360" y="981000"/>
            <a:ext cx="381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у, какой же он добряк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м он друг, а может брат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углы-то все прямые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 и стороны родны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ть положь или поставь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2160360" cy="188424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5940360" y="249228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78588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6040"/>
                            </p:stCondLst>
                            <p:childTnLst>
                              <p:par>
                                <p:cTn id="9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4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39"/>
                            </p:stCondLst>
                            <p:childTnLst>
                              <p:par>
                                <p:cTn id="9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9040"/>
                            </p:stCondLst>
                            <p:childTnLst>
                              <p:par>
                                <p:cTn id="9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40"/>
                            </p:stCondLst>
                            <p:childTnLst>
                              <p:par>
                                <p:cTn id="9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1040"/>
                            </p:stCondLst>
                            <p:childTnLst>
                              <p:par>
                                <p:cTn id="9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2040"/>
                            </p:stCondLst>
                            <p:childTnLst>
                              <p:par>
                                <p:cTn id="9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254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1042920" y="189000"/>
            <a:ext cx="67690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апеции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1" name=""/>
          <p:cNvSpPr/>
          <p:nvPr/>
        </p:nvSpPr>
        <p:spPr>
          <a:xfrm rot="10800000">
            <a:off x="323640" y="134064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9df7d"/>
              </a:gs>
              <a:gs pos="100000">
                <a:srgbClr val="d99475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5652720" y="285192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99475"/>
              </a:gs>
              <a:gs pos="100000">
                <a:srgbClr val="f9df7d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10800000">
            <a:off x="1186920" y="4868640"/>
            <a:ext cx="2737080" cy="1439640"/>
          </a:xfrm>
          <a:custGeom>
            <a:avLst/>
            <a:gdLst>
              <a:gd name="textAreaLeft" fmla="*/ 601920 w 2737080"/>
              <a:gd name="textAreaRight" fmla="*/ 2135160 w 273708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484360" y="1341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37236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565128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6949080" y="3286800"/>
            <a:ext cx="43164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47" y="20397"/>
                </a:moveTo>
                <a:arcTo wR="10800" hR="10800" stAng="7037828" swAng="5101968"/>
                <a:lnTo>
                  <a:pt x="10800" y="10800"/>
                </a:lnTo>
                <a:close/>
              </a:path>
              <a:path fill="none" w="21600" h="21600">
                <a:moveTo>
                  <a:pt x="5847" y="20397"/>
                </a:moveTo>
                <a:arcTo wR="10800" hR="10800" stAng="7037828" swAng="5101968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547640" y="558972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871640" y="4869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97164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124000" y="20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64000" y="529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08000" y="5294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84360" y="974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58436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164360" y="37162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72360" y="342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48836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916360" y="1405080"/>
                <a:ext cx="16556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24000" y="4498920"/>
                <a:ext cx="1454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1763640" y="45021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средняя ли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5867280" y="4653000"/>
                <a:ext cx="1944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3"/>
          <a:stretch/>
        </p:blipFill>
        <p:spPr>
          <a:xfrm>
            <a:off x="349236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712800" cy="7192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5"/>
          <a:stretch/>
        </p:blipFill>
        <p:spPr>
          <a:xfrm>
            <a:off x="7596360" y="5516640"/>
            <a:ext cx="107280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0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7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95280" y="115920"/>
            <a:ext cx="849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0d540"/>
                  </a:solidFill>
                  <a:miter/>
                </a:ln>
                <a:solidFill>
                  <a:srgbClr val="d4d28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оизвольного четырехугольника</a:t>
            </a:r>
            <a:endParaRPr b="0" lang="en-US" sz="1800" spc="1" strike="noStrike">
              <a:ln w="19080">
                <a:solidFill>
                  <a:srgbClr val="e0d540"/>
                </a:solidFill>
                <a:miter/>
              </a:ln>
              <a:solidFill>
                <a:srgbClr val="d4d28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826560" y="1125360"/>
            <a:ext cx="2016360" cy="1511640"/>
            <a:chOff x="826560" y="1125360"/>
            <a:chExt cx="2016360" cy="1511640"/>
          </a:xfrm>
        </p:grpSpPr>
        <p:grpSp>
          <p:nvGrpSpPr>
            <p:cNvPr id="1019" name=""/>
            <p:cNvGrpSpPr/>
            <p:nvPr/>
          </p:nvGrpSpPr>
          <p:grpSpPr>
            <a:xfrm>
              <a:off x="826560" y="1125360"/>
              <a:ext cx="2016360" cy="1511640"/>
              <a:chOff x="826560" y="1125360"/>
              <a:chExt cx="2016360" cy="1511640"/>
            </a:xfrm>
          </p:grpSpPr>
          <p:sp>
            <p:nvSpPr>
              <p:cNvPr id="1020" name=""/>
              <p:cNvSpPr/>
              <p:nvPr/>
            </p:nvSpPr>
            <p:spPr>
              <a:xfrm>
                <a:off x="826920" y="1125360"/>
                <a:ext cx="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26920" y="1125360"/>
                <a:ext cx="165564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482560" y="1557360"/>
                <a:ext cx="36036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6920" y="2637000"/>
                <a:ext cx="20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6920" y="1125360"/>
                <a:ext cx="201600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826560" y="1557360"/>
                <a:ext cx="165564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63440" y="1844640"/>
                <a:ext cx="174240" cy="49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955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955783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1187280" y="148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74560" y="2060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5892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059280" y="1268280"/>
                <a:ext cx="1439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826920" y="5373720"/>
                <a:ext cx="3672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2" name=""/>
          <p:cNvGrpSpPr/>
          <p:nvPr/>
        </p:nvGrpSpPr>
        <p:grpSpPr>
          <a:xfrm>
            <a:off x="6659640" y="887400"/>
            <a:ext cx="2484360" cy="2384280"/>
            <a:chOff x="6659640" y="887400"/>
            <a:chExt cx="2484360" cy="2384280"/>
          </a:xfrm>
        </p:grpSpPr>
        <p:sp>
          <p:nvSpPr>
            <p:cNvPr id="1033" name=""/>
            <p:cNvSpPr/>
            <p:nvPr/>
          </p:nvSpPr>
          <p:spPr>
            <a:xfrm>
              <a:off x="864072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10560" y="8874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6659640" y="1253880"/>
              <a:ext cx="2016000" cy="2017800"/>
              <a:chOff x="6659640" y="1253880"/>
              <a:chExt cx="2016000" cy="20178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020000" y="1254240"/>
                <a:ext cx="1655640" cy="1655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675640" y="1254240"/>
                <a:ext cx="0" cy="20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6875640" y="2622240"/>
                <a:ext cx="180000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875640" y="1253880"/>
                <a:ext cx="287280" cy="136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62920" y="1254240"/>
                <a:ext cx="151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41" name=""/>
                  <p:cNvSpPr txBox="1"/>
                  <p:nvPr/>
                </p:nvSpPr>
                <p:spPr>
                  <a:xfrm>
                    <a:off x="7655040" y="1936800"/>
                    <a:ext cx="31104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1042" name=""/>
              <p:cNvSpPr/>
              <p:nvPr/>
            </p:nvSpPr>
            <p:spPr>
              <a:xfrm flipH="1" flipV="1">
                <a:off x="7307280" y="1469880"/>
                <a:ext cx="503280" cy="64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59640" y="175104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307280" y="29034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58200" y="154152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020000" y="3429000"/>
                <a:ext cx="1701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3564000" y="2205000"/>
            <a:ext cx="2232720" cy="3168000"/>
            <a:chOff x="3564000" y="2205000"/>
            <a:chExt cx="2232720" cy="3168000"/>
          </a:xfrm>
        </p:grpSpPr>
        <p:grpSp>
          <p:nvGrpSpPr>
            <p:cNvPr id="1048" name=""/>
            <p:cNvGrpSpPr/>
            <p:nvPr/>
          </p:nvGrpSpPr>
          <p:grpSpPr>
            <a:xfrm>
              <a:off x="3564000" y="2205000"/>
              <a:ext cx="2232720" cy="3168000"/>
              <a:chOff x="3564000" y="2205000"/>
              <a:chExt cx="2232720" cy="3168000"/>
            </a:xfrm>
          </p:grpSpPr>
          <p:sp>
            <p:nvSpPr>
              <p:cNvPr id="1049" name=""/>
              <p:cNvSpPr/>
              <p:nvPr/>
            </p:nvSpPr>
            <p:spPr>
              <a:xfrm>
                <a:off x="3602520" y="2206800"/>
                <a:ext cx="2154960" cy="148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756400" y="22050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601080" y="220500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01080" y="22068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02520" y="369468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34200" y="2230920"/>
                <a:ext cx="2093400" cy="15116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726520" y="2229480"/>
                <a:ext cx="2880" cy="151344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30960" y="2229480"/>
                <a:ext cx="209664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30960" y="2230920"/>
                <a:ext cx="5040" cy="151560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634200" y="3741120"/>
                <a:ext cx="2095200" cy="540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69040" y="3696480"/>
                <a:ext cx="2222280" cy="781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784480" y="3689280"/>
                <a:ext cx="12240" cy="85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564000" y="3689280"/>
                <a:ext cx="2227680" cy="1476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564000" y="3696480"/>
                <a:ext cx="12240" cy="8604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569040" y="3769200"/>
                <a:ext cx="2227680" cy="1296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759560" y="2832840"/>
                <a:ext cx="270360" cy="42012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03640" y="2830680"/>
                <a:ext cx="28440" cy="3099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58120" y="2830680"/>
                <a:ext cx="24696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58120" y="2832840"/>
                <a:ext cx="5040" cy="30780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58120" y="3139560"/>
                <a:ext cx="250560" cy="1177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897440" y="5062680"/>
                <a:ext cx="370800" cy="30780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97440" y="5062680"/>
                <a:ext cx="37080" cy="781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897440" y="5139000"/>
                <a:ext cx="10800" cy="766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904640" y="5212080"/>
                <a:ext cx="58320" cy="3168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961160" y="524052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00040" y="5257080"/>
                <a:ext cx="73800" cy="766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0960" y="5329800"/>
                <a:ext cx="104040" cy="4320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175000" y="534312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254560" y="530028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213880" y="5264640"/>
                <a:ext cx="52560" cy="392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141520" y="5178600"/>
                <a:ext cx="75960" cy="8964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121720" y="5109480"/>
                <a:ext cx="23040" cy="6876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931280" y="506088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883400" y="3800880"/>
                <a:ext cx="310680" cy="1381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910040" y="503640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913640" y="4471920"/>
                <a:ext cx="24480" cy="56448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879800" y="3904200"/>
                <a:ext cx="58320" cy="56988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879800" y="3795480"/>
                <a:ext cx="20880" cy="11016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96000" y="3795480"/>
                <a:ext cx="302040" cy="2232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62760" y="381420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25320" y="4416120"/>
                <a:ext cx="45720" cy="64440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5320" y="5059080"/>
                <a:ext cx="14400" cy="9504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910040" y="5096520"/>
                <a:ext cx="227880" cy="8964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567320" y="5045760"/>
                <a:ext cx="368640" cy="30636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99600" y="5044320"/>
                <a:ext cx="38520" cy="781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925880" y="5120640"/>
                <a:ext cx="12240" cy="766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872960" y="519336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832280" y="522144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761720" y="5240520"/>
                <a:ext cx="72360" cy="745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660560" y="5311080"/>
                <a:ext cx="102240" cy="432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577760" y="532620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565520" y="528156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569120" y="5245920"/>
                <a:ext cx="52560" cy="370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620240" y="5159880"/>
                <a:ext cx="73800" cy="89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90800" y="5090760"/>
                <a:ext cx="23040" cy="7056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710240" y="504216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641480" y="3797280"/>
                <a:ext cx="279000" cy="136620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37880" y="379728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664160" y="4397400"/>
                <a:ext cx="44280" cy="64440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96200" y="5042160"/>
                <a:ext cx="12240" cy="936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98000" y="5077800"/>
                <a:ext cx="226080" cy="8964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911840" y="501804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96000" y="4455000"/>
                <a:ext cx="22680" cy="5626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96000" y="4010400"/>
                <a:ext cx="29880" cy="4446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137840" y="2967480"/>
                <a:ext cx="241920" cy="2750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55480" y="3150720"/>
                <a:ext cx="37080" cy="3492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89320" y="3178800"/>
                <a:ext cx="82800" cy="424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65280" y="321624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286520" y="3165840"/>
                <a:ext cx="101880" cy="781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349880" y="313560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328640" y="3014280"/>
                <a:ext cx="29880" cy="1231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343040" y="2988000"/>
                <a:ext cx="22680" cy="316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343040" y="296388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286520" y="2963880"/>
                <a:ext cx="57960" cy="8928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01560" y="2967480"/>
                <a:ext cx="90000" cy="820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83920" y="300276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80320" y="3020040"/>
                <a:ext cx="10080" cy="16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168080" y="302904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54040" y="303696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137840" y="3064680"/>
                <a:ext cx="20880" cy="24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134240" y="3083400"/>
                <a:ext cx="28440" cy="745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242240" y="3119040"/>
                <a:ext cx="53280" cy="201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242240" y="3115080"/>
                <a:ext cx="54720" cy="2412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254480" y="2985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53040" y="298440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848120" y="2827440"/>
                <a:ext cx="61560" cy="745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897440" y="2825280"/>
                <a:ext cx="14400" cy="766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846320" y="2825280"/>
                <a:ext cx="6336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846320" y="2825280"/>
                <a:ext cx="18000" cy="78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860720" y="2898360"/>
                <a:ext cx="40320" cy="54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977360" y="2524320"/>
                <a:ext cx="42120" cy="1083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971960" y="2578680"/>
                <a:ext cx="24120" cy="579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971960" y="2518920"/>
                <a:ext cx="27720" cy="5976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00040" y="2518920"/>
                <a:ext cx="22680" cy="59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96440" y="2578680"/>
                <a:ext cx="26280" cy="57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694400" y="2582640"/>
                <a:ext cx="61920" cy="9900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703040" y="264060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690800" y="2578680"/>
                <a:ext cx="19440" cy="6732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698000" y="2578680"/>
                <a:ext cx="49320" cy="4320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740480" y="2617920"/>
                <a:ext cx="20880" cy="6516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80800" y="2675880"/>
                <a:ext cx="199800" cy="1569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80800" y="2801160"/>
                <a:ext cx="98640" cy="352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775760" y="268488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779360" y="2672280"/>
                <a:ext cx="204480" cy="2232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5200" y="2675880"/>
                <a:ext cx="8640" cy="13068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878360" y="2799000"/>
                <a:ext cx="102240" cy="374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692600" y="2352600"/>
                <a:ext cx="302040" cy="4312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899600" y="2681640"/>
                <a:ext cx="96840" cy="10620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978800" y="2432880"/>
                <a:ext cx="20880" cy="25200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689000" y="2349000"/>
                <a:ext cx="296640" cy="13968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689000" y="2485440"/>
                <a:ext cx="77400" cy="23904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759560" y="2719080"/>
                <a:ext cx="143280" cy="7056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660560" y="2333520"/>
                <a:ext cx="358920" cy="2541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853520" y="233208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911840" y="2345040"/>
                <a:ext cx="41760" cy="2016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952520" y="2346840"/>
                <a:ext cx="63360" cy="57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008680" y="2403360"/>
                <a:ext cx="12240" cy="745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991040" y="2476080"/>
                <a:ext cx="22680" cy="91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75200" y="2466720"/>
                <a:ext cx="20880" cy="799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947120" y="2427480"/>
                <a:ext cx="27720" cy="424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925880" y="2427480"/>
                <a:ext cx="22680" cy="129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904640" y="242172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784400" y="2423520"/>
                <a:ext cx="123480" cy="781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708800" y="2487240"/>
                <a:ext cx="77400" cy="3168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708800" y="2517120"/>
                <a:ext cx="15480" cy="759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59120" y="252648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59120" y="2442240"/>
                <a:ext cx="22680" cy="842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80360" y="2378520"/>
                <a:ext cx="28440" cy="6732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705200" y="2332080"/>
                <a:ext cx="147960" cy="5040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906440" y="2502000"/>
                <a:ext cx="5688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906440" y="2507760"/>
                <a:ext cx="66960" cy="90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939920" y="2498400"/>
                <a:ext cx="24480" cy="126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892400" y="2498400"/>
                <a:ext cx="49320" cy="201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918680" y="254520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33080" y="25563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933080" y="254124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917240" y="254124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917240" y="25563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749120" y="2524320"/>
                <a:ext cx="5616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738680" y="2526480"/>
                <a:ext cx="66600" cy="162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747680" y="252072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772160" y="2520720"/>
                <a:ext cx="47520" cy="90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7560" y="256392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775760" y="25747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775760" y="25617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789800" y="25617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789800" y="2574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16440" y="2668680"/>
                <a:ext cx="125280" cy="5184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6440" y="2666520"/>
                <a:ext cx="126720" cy="2232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885560" y="2668680"/>
                <a:ext cx="56160" cy="5400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12840" y="2684880"/>
                <a:ext cx="72360" cy="3744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791600" y="2659320"/>
                <a:ext cx="15480" cy="5040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942080" y="2640600"/>
                <a:ext cx="15480" cy="482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43080" y="2631240"/>
                <a:ext cx="6480" cy="241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846320" y="2640600"/>
                <a:ext cx="61920" cy="1620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96000" y="2619720"/>
                <a:ext cx="1224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758120" y="2761920"/>
                <a:ext cx="127080" cy="14760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780800" y="2760120"/>
                <a:ext cx="109440" cy="7056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62160" y="282348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32280" y="284004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754520" y="280656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754520" y="2756160"/>
                <a:ext cx="29880" cy="54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74760" y="2763720"/>
                <a:ext cx="121680" cy="13968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65760" y="2761920"/>
                <a:ext cx="118080" cy="6732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74760" y="28234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99600" y="2842200"/>
                <a:ext cx="33480" cy="6732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929480" y="2805120"/>
                <a:ext cx="70200" cy="10080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980960" y="2760120"/>
                <a:ext cx="19080" cy="464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25440" y="2901960"/>
                <a:ext cx="119520" cy="4744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96000" y="3223440"/>
                <a:ext cx="51120" cy="1533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97440" y="2898360"/>
                <a:ext cx="49320" cy="3268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57120" y="2898360"/>
                <a:ext cx="42120" cy="54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23280" y="2900520"/>
                <a:ext cx="37080" cy="3193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3280" y="3217680"/>
                <a:ext cx="75960" cy="1641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524840" y="2802960"/>
                <a:ext cx="727920" cy="121104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752720" y="2801160"/>
                <a:ext cx="137520" cy="42948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883400" y="2801160"/>
                <a:ext cx="118440" cy="41472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996440" y="2801160"/>
                <a:ext cx="252720" cy="7056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7600" y="2868480"/>
                <a:ext cx="61560" cy="588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87600" y="3455280"/>
                <a:ext cx="68760" cy="53424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53960" y="3980160"/>
                <a:ext cx="298800" cy="3744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04640" y="3842280"/>
                <a:ext cx="58320" cy="16812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876200" y="3857040"/>
                <a:ext cx="37080" cy="1587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562280" y="3982320"/>
                <a:ext cx="319680" cy="3528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562280" y="3546720"/>
                <a:ext cx="57960" cy="44100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519800" y="2887200"/>
                <a:ext cx="100440" cy="65916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23400" y="2797200"/>
                <a:ext cx="238320" cy="990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883400" y="2696400"/>
                <a:ext cx="284400" cy="3999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883400" y="2694960"/>
                <a:ext cx="204840" cy="820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85000" y="2696400"/>
                <a:ext cx="86400" cy="3178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968360" y="3010680"/>
                <a:ext cx="200880" cy="8928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881960" y="2770920"/>
                <a:ext cx="91440" cy="3268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45320" y="2696400"/>
                <a:ext cx="229680" cy="40716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086440" y="26949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077800" y="2703960"/>
                <a:ext cx="24480" cy="612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991040" y="2761920"/>
                <a:ext cx="88200" cy="1512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942080" y="2770920"/>
                <a:ext cx="51120" cy="374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42080" y="2806560"/>
                <a:ext cx="65160" cy="30240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003640" y="3071880"/>
                <a:ext cx="52560" cy="338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054760" y="3021480"/>
                <a:ext cx="119880" cy="561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5097600" y="2704320"/>
              <a:ext cx="77400" cy="3193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09040" y="2818080"/>
              <a:ext cx="194040" cy="43704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67720" y="3116880"/>
              <a:ext cx="12240" cy="9144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09040" y="3008520"/>
              <a:ext cx="65160" cy="1137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005440" y="2812320"/>
              <a:ext cx="19440" cy="19836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25240" y="2812320"/>
              <a:ext cx="40320" cy="842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058720" y="2892960"/>
              <a:ext cx="43920" cy="8604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67720" y="2894400"/>
              <a:ext cx="22680" cy="468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53320" y="2825280"/>
              <a:ext cx="20880" cy="7092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60520" y="2827440"/>
              <a:ext cx="47520" cy="8748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00840" y="2911320"/>
              <a:ext cx="39240" cy="504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30720" y="2956320"/>
              <a:ext cx="20880" cy="27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149080" y="2928240"/>
              <a:ext cx="15480" cy="558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51960" y="2889000"/>
              <a:ext cx="37080" cy="432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80400" y="2898360"/>
              <a:ext cx="13680" cy="9684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1760" y="2995560"/>
              <a:ext cx="19080" cy="86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60960" y="3079800"/>
              <a:ext cx="19440" cy="464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63120" y="3122640"/>
              <a:ext cx="47520" cy="67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85360" y="3182400"/>
              <a:ext cx="121680" cy="802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071320" y="3206880"/>
              <a:ext cx="20520" cy="5040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64320" y="2694960"/>
              <a:ext cx="215280" cy="40176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64120" y="2692800"/>
              <a:ext cx="17280" cy="22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885560" y="2711520"/>
              <a:ext cx="179640" cy="766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885560" y="2784240"/>
              <a:ext cx="89640" cy="31788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943880" y="3078000"/>
              <a:ext cx="28440" cy="201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62520" y="2765520"/>
              <a:ext cx="86400" cy="3157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64320" y="2688840"/>
              <a:ext cx="222120" cy="820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76560" y="3096720"/>
              <a:ext cx="93600" cy="180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873320" y="3214080"/>
              <a:ext cx="15480" cy="748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874760" y="3096720"/>
              <a:ext cx="98640" cy="18072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5640" y="2825280"/>
              <a:ext cx="164160" cy="41472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4200" y="2825280"/>
              <a:ext cx="13680" cy="14760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24640" y="2967480"/>
              <a:ext cx="51120" cy="1296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40480" y="2976840"/>
              <a:ext cx="31320" cy="392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42280" y="3014640"/>
              <a:ext cx="139680" cy="2278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055120" y="2868480"/>
              <a:ext cx="277200" cy="68184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242320" y="2864880"/>
              <a:ext cx="68760" cy="32328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02440" y="3186000"/>
              <a:ext cx="34920" cy="21456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74360" y="3397680"/>
              <a:ext cx="61560" cy="11376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82200" y="3504240"/>
              <a:ext cx="97200" cy="504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51520" y="3154320"/>
              <a:ext cx="136080" cy="398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055120" y="3085200"/>
              <a:ext cx="133920" cy="766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182200" y="3090600"/>
              <a:ext cx="95040" cy="21672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198040" y="3120840"/>
              <a:ext cx="79200" cy="17748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98040" y="2862720"/>
              <a:ext cx="49680" cy="25812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63480" y="2892960"/>
              <a:ext cx="356760" cy="69336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465080" y="2889000"/>
              <a:ext cx="63360" cy="37908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392360" y="3154320"/>
              <a:ext cx="79560" cy="1008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258080" y="3154320"/>
              <a:ext cx="136080" cy="1231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58080" y="3274200"/>
              <a:ext cx="199440" cy="30816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452480" y="3530520"/>
              <a:ext cx="128880" cy="597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576320" y="3440520"/>
              <a:ext cx="47520" cy="9504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533840" y="2900520"/>
              <a:ext cx="90000" cy="54000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05160" y="2958120"/>
              <a:ext cx="86400" cy="673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68880" y="2975040"/>
              <a:ext cx="26280" cy="352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24600" y="2954160"/>
              <a:ext cx="51120" cy="2628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200120" y="2954160"/>
              <a:ext cx="26280" cy="39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06960" y="2988360"/>
              <a:ext cx="34920" cy="1692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36840" y="2997360"/>
              <a:ext cx="38520" cy="31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72120" y="3008520"/>
              <a:ext cx="2304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00120" y="3005280"/>
              <a:ext cx="79200" cy="759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00120" y="3003120"/>
              <a:ext cx="63000" cy="205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259880" y="3020040"/>
              <a:ext cx="20880" cy="446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261680" y="3065040"/>
              <a:ext cx="19080" cy="183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226400" y="3044160"/>
              <a:ext cx="36720" cy="392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200120" y="3044160"/>
              <a:ext cx="29880" cy="75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62680" y="3042360"/>
              <a:ext cx="96840" cy="1022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90760" y="3040200"/>
              <a:ext cx="39240" cy="75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28200" y="3046320"/>
              <a:ext cx="33480" cy="558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40440" y="3099960"/>
              <a:ext cx="19080" cy="223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210560" y="308160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217760" y="3087360"/>
              <a:ext cx="20880" cy="37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08760" y="3124800"/>
              <a:ext cx="29880" cy="223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87520" y="3113280"/>
              <a:ext cx="26280" cy="338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62680" y="3103920"/>
              <a:ext cx="27720" cy="129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176720" y="3072240"/>
              <a:ext cx="54720" cy="2988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176720" y="3070440"/>
              <a:ext cx="37080" cy="169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12000" y="3083400"/>
              <a:ext cx="20880" cy="20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475520" y="3257280"/>
              <a:ext cx="61920" cy="781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33840" y="3335760"/>
              <a:ext cx="10080" cy="727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77840" y="2547000"/>
              <a:ext cx="72000" cy="10296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2000" y="253764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6600" y="2604960"/>
              <a:ext cx="65520" cy="756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957840" y="2586240"/>
              <a:ext cx="10800" cy="540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41000" y="2532240"/>
              <a:ext cx="51120" cy="1155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72680" y="253584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54040" y="2586240"/>
              <a:ext cx="34920" cy="90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54040" y="2625480"/>
              <a:ext cx="36720" cy="900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235400" y="2561760"/>
              <a:ext cx="61560" cy="820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11000" y="253008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32800" y="2674080"/>
              <a:ext cx="206640" cy="392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41440" y="2670120"/>
              <a:ext cx="199440" cy="38844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31360" y="2672280"/>
              <a:ext cx="13680" cy="10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31360" y="2681640"/>
              <a:ext cx="195840" cy="38844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23600" y="3057120"/>
              <a:ext cx="17280" cy="10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784680" y="3526560"/>
              <a:ext cx="302040" cy="16812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044240" y="3651480"/>
              <a:ext cx="4428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0852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44240" y="3522600"/>
              <a:ext cx="4428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27160" y="3522600"/>
              <a:ext cx="21708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82880" y="352260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828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82880" y="365148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27160" y="3694680"/>
              <a:ext cx="21708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18160" y="3546720"/>
              <a:ext cx="240120" cy="1270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1472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55040" y="3590280"/>
              <a:ext cx="3600" cy="410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1472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58840" y="3543480"/>
              <a:ext cx="155520" cy="324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1456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14560" y="3590280"/>
              <a:ext cx="5040" cy="410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1456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58840" y="3672360"/>
              <a:ext cx="15552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27600" y="3545280"/>
              <a:ext cx="23040" cy="1306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938400" y="3664800"/>
              <a:ext cx="13680" cy="129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94884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938400" y="3541320"/>
              <a:ext cx="13680" cy="147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938400" y="3541320"/>
              <a:ext cx="1440" cy="54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26160" y="3541320"/>
              <a:ext cx="1224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2616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926160" y="366480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938400" y="36741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4040" y="3668400"/>
              <a:ext cx="105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5808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51880" y="3668400"/>
              <a:ext cx="10764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51880" y="3668400"/>
              <a:ext cx="5400" cy="27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54040" y="3694680"/>
              <a:ext cx="1076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16760" y="3668400"/>
              <a:ext cx="1854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50036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314600" y="3668400"/>
              <a:ext cx="18720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4600" y="3668400"/>
              <a:ext cx="3600" cy="277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16760" y="3694680"/>
              <a:ext cx="18684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14440" y="2836800"/>
              <a:ext cx="38520" cy="12852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09040" y="2834640"/>
              <a:ext cx="26280" cy="7272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26680" y="2903760"/>
              <a:ext cx="32040" cy="63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09040" y="2924640"/>
              <a:ext cx="10800" cy="518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004000" y="2922840"/>
              <a:ext cx="20880" cy="558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5992920" y="44370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о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826920" y="6381720"/>
            <a:ext cx="33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в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603440" cy="165600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2"/>
          <a:stretch/>
        </p:blipFill>
        <p:spPr>
          <a:xfrm>
            <a:off x="5435640" y="55897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394" name=""/>
          <p:cNvGrpSpPr/>
          <p:nvPr/>
        </p:nvGrpSpPr>
        <p:grpSpPr>
          <a:xfrm>
            <a:off x="512640" y="3175920"/>
            <a:ext cx="2356920" cy="2293200"/>
            <a:chOff x="512640" y="3175920"/>
            <a:chExt cx="2356920" cy="2293200"/>
          </a:xfrm>
        </p:grpSpPr>
        <p:sp>
          <p:nvSpPr>
            <p:cNvPr id="1395" name=""/>
            <p:cNvSpPr/>
            <p:nvPr/>
          </p:nvSpPr>
          <p:spPr>
            <a:xfrm rot="342600">
              <a:off x="610920" y="3278160"/>
              <a:ext cx="2160000" cy="20887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718200" y="3668760"/>
              <a:ext cx="2036520" cy="1472040"/>
              <a:chOff x="718200" y="3668760"/>
              <a:chExt cx="2036520" cy="147204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718200" y="3730680"/>
                <a:ext cx="100080" cy="1000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818280" y="3668760"/>
                <a:ext cx="1712160" cy="6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530440" y="3668760"/>
                <a:ext cx="30960" cy="124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8200" y="4731480"/>
                <a:ext cx="184320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342600">
                <a:off x="758880" y="413748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342600">
                <a:off x="1398960" y="474624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342600">
                <a:off x="2198520" y="408240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 rot="342600">
              <a:off x="1389240" y="326880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6280"/>
                            </p:stCondLst>
                            <p:childTnLst>
                              <p:par>
                                <p:cTn id="1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280"/>
                            </p:stCondLst>
                            <p:childTnLst>
                              <p:par>
                                <p:cTn id="1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8560"/>
                            </p:stCondLst>
                            <p:childTnLst>
                              <p:par>
                                <p:cTn id="1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614600" cy="16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6" name=""/>
          <p:cNvGraphicFramePr/>
          <p:nvPr/>
        </p:nvGraphicFramePr>
        <p:xfrm>
          <a:off x="250920" y="1413000"/>
          <a:ext cx="8724960" cy="50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872496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8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4"/>
          <a:stretch/>
        </p:blipFill>
        <p:spPr>
          <a:xfrm>
            <a:off x="755640" y="907920"/>
            <a:ext cx="761220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3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0" name=""/>
          <p:cNvGraphicFramePr/>
          <p:nvPr/>
        </p:nvGraphicFramePr>
        <p:xfrm>
          <a:off x="755640" y="1341360"/>
          <a:ext cx="601992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60199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2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3"/>
          <a:stretch/>
        </p:blipFill>
        <p:spPr>
          <a:xfrm>
            <a:off x="755640" y="836640"/>
            <a:ext cx="7612200" cy="60948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4"/>
          <a:stretch/>
        </p:blipFill>
        <p:spPr>
          <a:xfrm>
            <a:off x="6300720" y="5373720"/>
            <a:ext cx="2103480" cy="12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470844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5270040" y="57992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3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775280" cy="544500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5414400" y="342252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0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1476360" y="189000"/>
            <a:ext cx="5781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050920" y="1700280"/>
            <a:ext cx="4967280" cy="3803040"/>
            <a:chOff x="2050920" y="1700280"/>
            <a:chExt cx="4967280" cy="3803040"/>
          </a:xfrm>
        </p:grpSpPr>
        <p:pic>
          <p:nvPicPr>
            <p:cNvPr id="1428" name="" descr=""/>
            <p:cNvPicPr/>
            <p:nvPr/>
          </p:nvPicPr>
          <p:blipFill>
            <a:blip r:embed="rId1"/>
            <a:stretch/>
          </p:blipFill>
          <p:spPr>
            <a:xfrm>
              <a:off x="2255040" y="1700280"/>
              <a:ext cx="4763160" cy="32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2050920" y="4860720"/>
              <a:ext cx="413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му равна площадь всей фигуры? Если а = 3,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= 4, с =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30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690920" cy="156060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3"/>
          <a:stretch/>
        </p:blipFill>
        <p:spPr>
          <a:xfrm rot="718800">
            <a:off x="7451280" y="189000"/>
            <a:ext cx="2049480" cy="148248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2532960" y="61596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5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050920" y="18900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: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12536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1. Виды много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9280" y="1700280"/>
            <a:ext cx="541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2. Свойства  измерения площа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349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3. Основные  формулы для вычисления площадей         геометрических фигу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ямо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ом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апе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оизвольный четырех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60000" y="573408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Проверь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3800" y="6165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Это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интере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353440" cy="534492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1835280" y="2997360"/>
            <a:ext cx="43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211640" y="2924280"/>
            <a:ext cx="420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510680" y="280044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677960" y="5824440"/>
            <a:ext cx="380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88928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02600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99040" y="5753160"/>
            <a:ext cx="412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934320" y="568152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1187280" y="189000"/>
            <a:ext cx="669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дите S данной фигуры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а также неизвестные элементы)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9436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187280" y="1916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835280" y="692280"/>
            <a:ext cx="438120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ь себя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90920" y="19890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2; В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,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240560" y="24145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816920" y="24145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260000" y="2898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816920" y="29192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312200" y="335124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836000" y="3357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9640" y="386064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906560" y="3860640"/>
            <a:ext cx="18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АВ=12;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3440" y="443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720" y="4365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=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8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2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6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0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9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3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1763640" y="189000"/>
            <a:ext cx="6070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то интересно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425840" y="1341360"/>
            <a:ext cx="47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ель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менитый ковер из живых цветов на центральной площади Брюсселя - Гран Пляс. Площадь ковра - около двух тысяч квадратных метров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0" name="" descr="Bild 616.jpg (93.47 KB)"/>
          <p:cNvPicPr/>
          <p:nvPr/>
        </p:nvPicPr>
        <p:blipFill>
          <a:blip r:embed="rId1"/>
          <a:stretch/>
        </p:blipFill>
        <p:spPr>
          <a:xfrm>
            <a:off x="108000" y="1125360"/>
            <a:ext cx="4176720" cy="268452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5435640" y="3571920"/>
            <a:ext cx="3600360" cy="30924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0" y="4005720"/>
            <a:ext cx="5329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ния - самая маленькая страна Северной Европы, расположенная между Северным и Балтийским морями на полуострове Ютландия, кроме того, в состав Дании входят 406 островов, многие из которых необита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лощадь страны - 43 093 кв.км, не включая Гренландию и Фарерские остр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0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755640" y="1700280"/>
            <a:ext cx="7777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0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Автор презентации учитель МБОУ Гимназия №19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г. Ростова-на Дону Самохвалова Ольга Тасоевна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5" name=""/>
          <p:cNvSpPr/>
          <p:nvPr/>
        </p:nvSpPr>
        <p:spPr>
          <a:xfrm>
            <a:off x="900000" y="2133720"/>
            <a:ext cx="626436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Материал при создании презент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Справочный материал по геометрии;(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www.bymath.n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Исторические сведения о происхождении математики; картинки (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www.coolreferat.c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Дидактический материал за курс 8 класса к учебнику Л.С.Атанася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2084000">
            <a:off x="2843280" y="2780640"/>
            <a:ext cx="1025280" cy="755640"/>
          </a:xfrm>
          <a:custGeom>
            <a:avLst/>
            <a:gdLst>
              <a:gd name="textAreaLeft" fmla="*/ 225360 w 1025280"/>
              <a:gd name="textAreaRight" fmla="*/ 799920 w 1025280"/>
              <a:gd name="textAreaTop" fmla="*/ 165960 h 755640"/>
              <a:gd name="textAreaBottom" fmla="*/ 589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49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484280"/>
            <a:ext cx="1900440" cy="804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1413000"/>
            <a:ext cx="1779840" cy="79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не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84360" y="836640"/>
            <a:ext cx="1441440" cy="57636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836640"/>
            <a:ext cx="1511280" cy="50472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77000" y="0"/>
            <a:ext cx="1467000" cy="177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932360" y="2637000"/>
            <a:ext cx="961920" cy="914400"/>
          </a:xfrm>
          <a:prstGeom prst="star5">
            <a:avLst/>
          </a:pr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149720"/>
            <a:ext cx="2160720" cy="1871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781360"/>
            <a:ext cx="914400" cy="799920"/>
          </a:xfrm>
          <a:prstGeom prst="flowChartPunchedCar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72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445000"/>
            <a:ext cx="2592720" cy="936720"/>
          </a:xfrm>
          <a:prstGeom prst="flowChartCollate">
            <a:avLst/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2637000"/>
            <a:ext cx="914400" cy="914400"/>
          </a:xfrm>
          <a:prstGeom prst="plus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3860640"/>
            <a:ext cx="1297080" cy="702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7162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14240" cy="72072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118728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ногоугольники бывают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5640" y="4797360"/>
            <a:ext cx="4680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е многоугольники</a:t>
            </a:r>
            <a:endParaRPr b="0" lang="en-US" sz="32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6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6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6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7600"/>
                            </p:stCondLst>
                            <p:childTnLst>
                              <p:par>
                                <p:cTn id="1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9600"/>
                            </p:stCondLst>
                            <p:childTnLst>
                              <p:par>
                                <p:cTn id="1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6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3600"/>
                            </p:stCondLst>
                            <p:childTnLst>
                              <p:par>
                                <p:cTn id="1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03280" y="1484280"/>
            <a:ext cx="58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Площадь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называется величина, характеризующая размер геометрической фигуры. Определение площадей геометрических фигур – одна из древнейших практических задач. Правильный подход к их решению был найден не сразу. Древние греки умели правильно находить площади многоугольников. Когда каменщики определяют площадь прямоугольной стены дома они перемножают высоту и ширину стены. Долгий был путь к нахождению формул, позволяющим найти площади любых фигур. В настоящее время существуют и механические приборы для вычисления площадей плоских фигур – так называемые планимет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434960" cy="1220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4076640"/>
            <a:ext cx="1293840" cy="2581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908000" cy="1776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4508640"/>
            <a:ext cx="135396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54560" y="4616280"/>
            <a:ext cx="2989440" cy="224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2263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8200" y="0"/>
            <a:ext cx="3025800" cy="223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4672080"/>
            <a:ext cx="295272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1341360"/>
            <a:ext cx="1366560" cy="10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2421000"/>
            <a:ext cx="2160720" cy="1584360"/>
          </a:xfrm>
          <a:prstGeom prst="wedgeRoundRectCallout">
            <a:avLst>
              <a:gd name="adj1" fmla="val -73069"/>
              <a:gd name="adj2" fmla="val -4407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ая плоская геометрическая фигура имеет площа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084360" y="4149360"/>
            <a:ext cx="158436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258920" y="4149720"/>
            <a:ext cx="172872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643280" y="1268280"/>
            <a:ext cx="1440000" cy="11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32000" y="2492280"/>
            <a:ext cx="2808360" cy="3816360"/>
            <a:chOff x="3132000" y="2492280"/>
            <a:chExt cx="2808360" cy="3816360"/>
          </a:xfrm>
        </p:grpSpPr>
        <p:sp>
          <p:nvSpPr>
            <p:cNvPr id="142" name=""/>
            <p:cNvSpPr/>
            <p:nvPr/>
          </p:nvSpPr>
          <p:spPr>
            <a:xfrm>
              <a:off x="4809960" y="5935680"/>
              <a:ext cx="466920" cy="37152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20" y="0"/>
                  </a:moveTo>
                  <a:lnTo>
                    <a:pt x="0" y="4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3" y="86"/>
                  </a:lnTo>
                  <a:lnTo>
                    <a:pt x="15" y="87"/>
                  </a:lnTo>
                  <a:lnTo>
                    <a:pt x="18" y="89"/>
                  </a:lnTo>
                  <a:lnTo>
                    <a:pt x="20" y="90"/>
                  </a:lnTo>
                  <a:lnTo>
                    <a:pt x="23" y="91"/>
                  </a:lnTo>
                  <a:lnTo>
                    <a:pt x="25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45" y="98"/>
                  </a:lnTo>
                  <a:lnTo>
                    <a:pt x="46" y="98"/>
                  </a:lnTo>
                  <a:lnTo>
                    <a:pt x="48" y="99"/>
                  </a:lnTo>
                  <a:lnTo>
                    <a:pt x="50" y="101"/>
                  </a:lnTo>
                  <a:lnTo>
                    <a:pt x="53" y="102"/>
                  </a:lnTo>
                  <a:lnTo>
                    <a:pt x="59" y="106"/>
                  </a:lnTo>
                  <a:lnTo>
                    <a:pt x="62" y="107"/>
                  </a:lnTo>
                  <a:lnTo>
                    <a:pt x="65" y="110"/>
                  </a:lnTo>
                  <a:lnTo>
                    <a:pt x="68" y="112"/>
                  </a:lnTo>
                  <a:lnTo>
                    <a:pt x="71" y="114"/>
                  </a:lnTo>
                  <a:lnTo>
                    <a:pt x="74" y="117"/>
                  </a:lnTo>
                  <a:lnTo>
                    <a:pt x="77" y="120"/>
                  </a:lnTo>
                  <a:lnTo>
                    <a:pt x="79" y="122"/>
                  </a:lnTo>
                  <a:lnTo>
                    <a:pt x="82" y="125"/>
                  </a:lnTo>
                  <a:lnTo>
                    <a:pt x="85" y="128"/>
                  </a:lnTo>
                  <a:lnTo>
                    <a:pt x="87" y="130"/>
                  </a:lnTo>
                  <a:lnTo>
                    <a:pt x="89" y="133"/>
                  </a:lnTo>
                  <a:lnTo>
                    <a:pt x="91" y="135"/>
                  </a:lnTo>
                  <a:lnTo>
                    <a:pt x="94" y="138"/>
                  </a:lnTo>
                  <a:lnTo>
                    <a:pt x="95" y="140"/>
                  </a:lnTo>
                  <a:lnTo>
                    <a:pt x="97" y="142"/>
                  </a:lnTo>
                  <a:lnTo>
                    <a:pt x="99" y="144"/>
                  </a:lnTo>
                  <a:lnTo>
                    <a:pt x="100" y="145"/>
                  </a:lnTo>
                  <a:lnTo>
                    <a:pt x="103" y="147"/>
                  </a:lnTo>
                  <a:lnTo>
                    <a:pt x="106" y="149"/>
                  </a:lnTo>
                  <a:lnTo>
                    <a:pt x="109" y="150"/>
                  </a:lnTo>
                  <a:lnTo>
                    <a:pt x="113" y="152"/>
                  </a:lnTo>
                  <a:lnTo>
                    <a:pt x="116" y="153"/>
                  </a:lnTo>
                  <a:lnTo>
                    <a:pt x="120" y="155"/>
                  </a:lnTo>
                  <a:lnTo>
                    <a:pt x="124" y="156"/>
                  </a:lnTo>
                  <a:lnTo>
                    <a:pt x="129" y="158"/>
                  </a:lnTo>
                  <a:lnTo>
                    <a:pt x="133" y="159"/>
                  </a:lnTo>
                  <a:lnTo>
                    <a:pt x="137" y="160"/>
                  </a:lnTo>
                  <a:lnTo>
                    <a:pt x="141" y="161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3" y="164"/>
                  </a:lnTo>
                  <a:lnTo>
                    <a:pt x="157" y="165"/>
                  </a:lnTo>
                  <a:lnTo>
                    <a:pt x="160" y="165"/>
                  </a:lnTo>
                  <a:lnTo>
                    <a:pt x="164" y="165"/>
                  </a:lnTo>
                  <a:lnTo>
                    <a:pt x="168" y="165"/>
                  </a:lnTo>
                  <a:lnTo>
                    <a:pt x="172" y="164"/>
                  </a:lnTo>
                  <a:lnTo>
                    <a:pt x="176" y="163"/>
                  </a:lnTo>
                  <a:lnTo>
                    <a:pt x="180" y="162"/>
                  </a:lnTo>
                  <a:lnTo>
                    <a:pt x="183" y="160"/>
                  </a:lnTo>
                  <a:lnTo>
                    <a:pt x="187" y="159"/>
                  </a:lnTo>
                  <a:lnTo>
                    <a:pt x="190" y="158"/>
                  </a:lnTo>
                  <a:lnTo>
                    <a:pt x="194" y="156"/>
                  </a:lnTo>
                  <a:lnTo>
                    <a:pt x="196" y="155"/>
                  </a:lnTo>
                  <a:lnTo>
                    <a:pt x="199" y="154"/>
                  </a:lnTo>
                  <a:lnTo>
                    <a:pt x="201" y="153"/>
                  </a:lnTo>
                  <a:lnTo>
                    <a:pt x="202" y="152"/>
                  </a:lnTo>
                  <a:lnTo>
                    <a:pt x="203" y="152"/>
                  </a:lnTo>
                  <a:lnTo>
                    <a:pt x="203" y="151"/>
                  </a:lnTo>
                  <a:lnTo>
                    <a:pt x="204" y="151"/>
                  </a:lnTo>
                  <a:lnTo>
                    <a:pt x="205" y="149"/>
                  </a:lnTo>
                  <a:lnTo>
                    <a:pt x="207" y="146"/>
                  </a:lnTo>
                  <a:lnTo>
                    <a:pt x="208" y="143"/>
                  </a:lnTo>
                  <a:lnTo>
                    <a:pt x="209" y="140"/>
                  </a:lnTo>
                  <a:lnTo>
                    <a:pt x="210" y="136"/>
                  </a:lnTo>
                  <a:lnTo>
                    <a:pt x="209" y="132"/>
                  </a:lnTo>
                  <a:lnTo>
                    <a:pt x="207" y="128"/>
                  </a:lnTo>
                  <a:lnTo>
                    <a:pt x="206" y="126"/>
                  </a:lnTo>
                  <a:lnTo>
                    <a:pt x="204" y="124"/>
                  </a:lnTo>
                  <a:lnTo>
                    <a:pt x="203" y="122"/>
                  </a:lnTo>
                  <a:lnTo>
                    <a:pt x="201" y="120"/>
                  </a:lnTo>
                  <a:lnTo>
                    <a:pt x="198" y="119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1" y="114"/>
                  </a:lnTo>
                  <a:lnTo>
                    <a:pt x="189" y="113"/>
                  </a:lnTo>
                  <a:lnTo>
                    <a:pt x="187" y="112"/>
                  </a:lnTo>
                  <a:lnTo>
                    <a:pt x="185" y="111"/>
                  </a:lnTo>
                  <a:lnTo>
                    <a:pt x="183" y="110"/>
                  </a:lnTo>
                  <a:lnTo>
                    <a:pt x="182" y="110"/>
                  </a:lnTo>
                  <a:lnTo>
                    <a:pt x="181" y="109"/>
                  </a:lnTo>
                  <a:lnTo>
                    <a:pt x="180" y="109"/>
                  </a:lnTo>
                  <a:lnTo>
                    <a:pt x="180" y="109"/>
                  </a:lnTo>
                  <a:lnTo>
                    <a:pt x="179" y="108"/>
                  </a:lnTo>
                  <a:lnTo>
                    <a:pt x="178" y="107"/>
                  </a:lnTo>
                  <a:lnTo>
                    <a:pt x="176" y="105"/>
                  </a:lnTo>
                  <a:lnTo>
                    <a:pt x="174" y="103"/>
                  </a:lnTo>
                  <a:lnTo>
                    <a:pt x="171" y="100"/>
                  </a:lnTo>
                  <a:lnTo>
                    <a:pt x="168" y="96"/>
                  </a:lnTo>
                  <a:lnTo>
                    <a:pt x="164" y="93"/>
                  </a:lnTo>
                  <a:lnTo>
                    <a:pt x="161" y="89"/>
                  </a:lnTo>
                  <a:lnTo>
                    <a:pt x="157" y="85"/>
                  </a:lnTo>
                  <a:lnTo>
                    <a:pt x="154" y="81"/>
                  </a:lnTo>
                  <a:lnTo>
                    <a:pt x="150" y="77"/>
                  </a:lnTo>
                  <a:lnTo>
                    <a:pt x="147" y="73"/>
                  </a:lnTo>
                  <a:lnTo>
                    <a:pt x="144" y="70"/>
                  </a:lnTo>
                  <a:lnTo>
                    <a:pt x="141" y="67"/>
                  </a:lnTo>
                  <a:lnTo>
                    <a:pt x="140" y="64"/>
                  </a:lnTo>
                  <a:lnTo>
                    <a:pt x="138" y="62"/>
                  </a:lnTo>
                  <a:lnTo>
                    <a:pt x="138" y="60"/>
                  </a:lnTo>
                  <a:lnTo>
                    <a:pt x="137" y="58"/>
                  </a:lnTo>
                  <a:lnTo>
                    <a:pt x="136" y="55"/>
                  </a:lnTo>
                  <a:lnTo>
                    <a:pt x="135" y="52"/>
                  </a:lnTo>
                  <a:lnTo>
                    <a:pt x="134" y="49"/>
                  </a:lnTo>
                  <a:lnTo>
                    <a:pt x="133" y="46"/>
                  </a:lnTo>
                  <a:lnTo>
                    <a:pt x="132" y="43"/>
                  </a:lnTo>
                  <a:lnTo>
                    <a:pt x="132" y="40"/>
                  </a:lnTo>
                  <a:lnTo>
                    <a:pt x="131" y="38"/>
                  </a:lnTo>
                  <a:lnTo>
                    <a:pt x="130" y="35"/>
                  </a:lnTo>
                  <a:lnTo>
                    <a:pt x="129" y="33"/>
                  </a:lnTo>
                  <a:lnTo>
                    <a:pt x="129" y="30"/>
                  </a:lnTo>
                  <a:lnTo>
                    <a:pt x="129" y="28"/>
                  </a:lnTo>
                  <a:lnTo>
                    <a:pt x="128" y="27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9960" y="5935680"/>
              <a:ext cx="46080" cy="936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" y="41"/>
                  </a:moveTo>
                  <a:lnTo>
                    <a:pt x="2" y="4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9960" y="602784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9"/>
                  </a:moveTo>
                  <a:lnTo>
                    <a:pt x="6" y="4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18240" y="6114960"/>
              <a:ext cx="72720" cy="381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5"/>
                  </a:moveTo>
                  <a:lnTo>
                    <a:pt x="33" y="15"/>
                  </a:lnTo>
                  <a:lnTo>
                    <a:pt x="30" y="14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9520" y="614844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9"/>
                  </a:moveTo>
                  <a:lnTo>
                    <a:pt x="23" y="9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9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8840" y="6168960"/>
              <a:ext cx="93600" cy="92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39"/>
                  </a:moveTo>
                  <a:lnTo>
                    <a:pt x="42" y="39"/>
                  </a:lnTo>
                  <a:lnTo>
                    <a:pt x="40" y="37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7" y="23"/>
                  </a:lnTo>
                  <a:lnTo>
                    <a:pt x="25" y="20"/>
                  </a:lnTo>
                  <a:lnTo>
                    <a:pt x="22" y="17"/>
                  </a:lnTo>
                  <a:lnTo>
                    <a:pt x="20" y="15"/>
                  </a:lnTo>
                  <a:lnTo>
                    <a:pt x="17" y="12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5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3"/>
                  </a:lnTo>
                  <a:lnTo>
                    <a:pt x="4" y="4"/>
                  </a:lnTo>
                  <a:lnTo>
                    <a:pt x="7" y="7"/>
                  </a:lnTo>
                  <a:lnTo>
                    <a:pt x="10" y="8"/>
                  </a:lnTo>
                  <a:lnTo>
                    <a:pt x="12" y="11"/>
                  </a:lnTo>
                  <a:lnTo>
                    <a:pt x="15" y="14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26" y="25"/>
                  </a:lnTo>
                  <a:lnTo>
                    <a:pt x="28" y="27"/>
                  </a:lnTo>
                  <a:lnTo>
                    <a:pt x="30" y="30"/>
                  </a:lnTo>
                  <a:lnTo>
                    <a:pt x="33" y="32"/>
                  </a:lnTo>
                  <a:lnTo>
                    <a:pt x="35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7760" y="6256440"/>
              <a:ext cx="129960" cy="522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59" y="20"/>
                  </a:moveTo>
                  <a:lnTo>
                    <a:pt x="59" y="20"/>
                  </a:lnTo>
                  <a:lnTo>
                    <a:pt x="56" y="20"/>
                  </a:lnTo>
                  <a:lnTo>
                    <a:pt x="52" y="19"/>
                  </a:lnTo>
                  <a:lnTo>
                    <a:pt x="48" y="18"/>
                  </a:lnTo>
                  <a:lnTo>
                    <a:pt x="44" y="17"/>
                  </a:lnTo>
                  <a:lnTo>
                    <a:pt x="40" y="16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2"/>
                  </a:lnTo>
                  <a:lnTo>
                    <a:pt x="22" y="11"/>
                  </a:lnTo>
                  <a:lnTo>
                    <a:pt x="19" y="9"/>
                  </a:lnTo>
                  <a:lnTo>
                    <a:pt x="15" y="8"/>
                  </a:lnTo>
                  <a:lnTo>
                    <a:pt x="12" y="6"/>
                  </a:lnTo>
                  <a:lnTo>
                    <a:pt x="9" y="4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6" y="15"/>
                  </a:lnTo>
                  <a:lnTo>
                    <a:pt x="30" y="16"/>
                  </a:lnTo>
                  <a:lnTo>
                    <a:pt x="34" y="17"/>
                  </a:lnTo>
                  <a:lnTo>
                    <a:pt x="39" y="18"/>
                  </a:lnTo>
                  <a:lnTo>
                    <a:pt x="43" y="20"/>
                  </a:lnTo>
                  <a:lnTo>
                    <a:pt x="47" y="20"/>
                  </a:lnTo>
                  <a:lnTo>
                    <a:pt x="51" y="21"/>
                  </a:lnTo>
                  <a:lnTo>
                    <a:pt x="55" y="22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57720" y="6272280"/>
              <a:ext cx="104760" cy="363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45" y="1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4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31" y="10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57800" y="6221520"/>
              <a:ext cx="2052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5" y="2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9"/>
                  </a:lnTo>
                  <a:lnTo>
                    <a:pt x="8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7040" y="6178680"/>
              <a:ext cx="66600" cy="475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5" y="13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6680" y="6073920"/>
              <a:ext cx="95040" cy="1094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2"/>
                  </a:lnTo>
                  <a:lnTo>
                    <a:pt x="11" y="16"/>
                  </a:lnTo>
                  <a:lnTo>
                    <a:pt x="15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5" y="32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38" y="44"/>
                  </a:lnTo>
                  <a:lnTo>
                    <a:pt x="39" y="46"/>
                  </a:lnTo>
                  <a:lnTo>
                    <a:pt x="41" y="47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7" y="40"/>
                  </a:lnTo>
                  <a:lnTo>
                    <a:pt x="34" y="37"/>
                  </a:lnTo>
                  <a:lnTo>
                    <a:pt x="31" y="34"/>
                  </a:lnTo>
                  <a:lnTo>
                    <a:pt x="27" y="30"/>
                  </a:lnTo>
                  <a:lnTo>
                    <a:pt x="24" y="26"/>
                  </a:lnTo>
                  <a:lnTo>
                    <a:pt x="20" y="22"/>
                  </a:lnTo>
                  <a:lnTo>
                    <a:pt x="16" y="18"/>
                  </a:lnTo>
                  <a:lnTo>
                    <a:pt x="13" y="14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91120" y="5991120"/>
              <a:ext cx="30240" cy="8280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" y="2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2"/>
                  </a:lnTo>
                  <a:lnTo>
                    <a:pt x="6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1" y="37"/>
                  </a:lnTo>
                  <a:lnTo>
                    <a:pt x="13" y="37"/>
                  </a:lnTo>
                  <a:lnTo>
                    <a:pt x="12" y="35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27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5" y="12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51360" y="593244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2" y="2"/>
                  </a:moveTo>
                  <a:lnTo>
                    <a:pt x="1" y="3"/>
                  </a:lnTo>
                  <a:lnTo>
                    <a:pt x="109" y="28"/>
                  </a:lnTo>
                  <a:lnTo>
                    <a:pt x="109" y="26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91240" y="4414680"/>
              <a:ext cx="392040" cy="1663920"/>
            </a:xfrm>
            <a:custGeom>
              <a:avLst/>
              <a:gdLst/>
              <a:ahLst/>
              <a:rect l="l" t="t" r="r" b="b"/>
              <a:pathLst>
                <a:path w="176" h="739">
                  <a:moveTo>
                    <a:pt x="17" y="695"/>
                  </a:moveTo>
                  <a:lnTo>
                    <a:pt x="20" y="661"/>
                  </a:lnTo>
                  <a:lnTo>
                    <a:pt x="29" y="360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6" y="7"/>
                  </a:lnTo>
                  <a:lnTo>
                    <a:pt x="161" y="329"/>
                  </a:lnTo>
                  <a:lnTo>
                    <a:pt x="161" y="330"/>
                  </a:lnTo>
                  <a:lnTo>
                    <a:pt x="160" y="331"/>
                  </a:lnTo>
                  <a:lnTo>
                    <a:pt x="160" y="334"/>
                  </a:lnTo>
                  <a:lnTo>
                    <a:pt x="160" y="337"/>
                  </a:lnTo>
                  <a:lnTo>
                    <a:pt x="160" y="341"/>
                  </a:lnTo>
                  <a:lnTo>
                    <a:pt x="159" y="346"/>
                  </a:lnTo>
                  <a:lnTo>
                    <a:pt x="159" y="352"/>
                  </a:lnTo>
                  <a:lnTo>
                    <a:pt x="159" y="359"/>
                  </a:lnTo>
                  <a:lnTo>
                    <a:pt x="158" y="366"/>
                  </a:lnTo>
                  <a:lnTo>
                    <a:pt x="158" y="375"/>
                  </a:lnTo>
                  <a:lnTo>
                    <a:pt x="157" y="383"/>
                  </a:lnTo>
                  <a:lnTo>
                    <a:pt x="156" y="393"/>
                  </a:lnTo>
                  <a:lnTo>
                    <a:pt x="155" y="403"/>
                  </a:lnTo>
                  <a:lnTo>
                    <a:pt x="155" y="414"/>
                  </a:lnTo>
                  <a:lnTo>
                    <a:pt x="154" y="425"/>
                  </a:lnTo>
                  <a:lnTo>
                    <a:pt x="153" y="437"/>
                  </a:lnTo>
                  <a:lnTo>
                    <a:pt x="152" y="450"/>
                  </a:lnTo>
                  <a:lnTo>
                    <a:pt x="152" y="462"/>
                  </a:lnTo>
                  <a:lnTo>
                    <a:pt x="151" y="476"/>
                  </a:lnTo>
                  <a:lnTo>
                    <a:pt x="150" y="489"/>
                  </a:lnTo>
                  <a:lnTo>
                    <a:pt x="149" y="503"/>
                  </a:lnTo>
                  <a:lnTo>
                    <a:pt x="148" y="518"/>
                  </a:lnTo>
                  <a:lnTo>
                    <a:pt x="147" y="532"/>
                  </a:lnTo>
                  <a:lnTo>
                    <a:pt x="146" y="548"/>
                  </a:lnTo>
                  <a:lnTo>
                    <a:pt x="145" y="563"/>
                  </a:lnTo>
                  <a:lnTo>
                    <a:pt x="144" y="578"/>
                  </a:lnTo>
                  <a:lnTo>
                    <a:pt x="143" y="594"/>
                  </a:lnTo>
                  <a:lnTo>
                    <a:pt x="143" y="610"/>
                  </a:lnTo>
                  <a:lnTo>
                    <a:pt x="142" y="625"/>
                  </a:lnTo>
                  <a:lnTo>
                    <a:pt x="140" y="641"/>
                  </a:lnTo>
                  <a:lnTo>
                    <a:pt x="140" y="658"/>
                  </a:lnTo>
                  <a:lnTo>
                    <a:pt x="139" y="674"/>
                  </a:lnTo>
                  <a:lnTo>
                    <a:pt x="139" y="676"/>
                  </a:lnTo>
                  <a:lnTo>
                    <a:pt x="139" y="678"/>
                  </a:lnTo>
                  <a:lnTo>
                    <a:pt x="139" y="681"/>
                  </a:lnTo>
                  <a:lnTo>
                    <a:pt x="139" y="684"/>
                  </a:lnTo>
                  <a:lnTo>
                    <a:pt x="140" y="687"/>
                  </a:lnTo>
                  <a:lnTo>
                    <a:pt x="140" y="691"/>
                  </a:lnTo>
                  <a:lnTo>
                    <a:pt x="140" y="694"/>
                  </a:lnTo>
                  <a:lnTo>
                    <a:pt x="140" y="697"/>
                  </a:lnTo>
                  <a:lnTo>
                    <a:pt x="141" y="701"/>
                  </a:lnTo>
                  <a:lnTo>
                    <a:pt x="141" y="705"/>
                  </a:lnTo>
                  <a:lnTo>
                    <a:pt x="142" y="708"/>
                  </a:lnTo>
                  <a:lnTo>
                    <a:pt x="142" y="711"/>
                  </a:lnTo>
                  <a:lnTo>
                    <a:pt x="142" y="714"/>
                  </a:lnTo>
                  <a:lnTo>
                    <a:pt x="142" y="717"/>
                  </a:lnTo>
                  <a:lnTo>
                    <a:pt x="142" y="720"/>
                  </a:lnTo>
                  <a:lnTo>
                    <a:pt x="142" y="722"/>
                  </a:lnTo>
                  <a:lnTo>
                    <a:pt x="136" y="726"/>
                  </a:lnTo>
                  <a:lnTo>
                    <a:pt x="130" y="730"/>
                  </a:lnTo>
                  <a:lnTo>
                    <a:pt x="124" y="733"/>
                  </a:lnTo>
                  <a:lnTo>
                    <a:pt x="118" y="735"/>
                  </a:lnTo>
                  <a:lnTo>
                    <a:pt x="111" y="737"/>
                  </a:lnTo>
                  <a:lnTo>
                    <a:pt x="105" y="738"/>
                  </a:lnTo>
                  <a:lnTo>
                    <a:pt x="100" y="739"/>
                  </a:lnTo>
                  <a:lnTo>
                    <a:pt x="94" y="739"/>
                  </a:lnTo>
                  <a:lnTo>
                    <a:pt x="89" y="738"/>
                  </a:lnTo>
                  <a:lnTo>
                    <a:pt x="83" y="738"/>
                  </a:lnTo>
                  <a:lnTo>
                    <a:pt x="78" y="737"/>
                  </a:lnTo>
                  <a:lnTo>
                    <a:pt x="73" y="735"/>
                  </a:lnTo>
                  <a:lnTo>
                    <a:pt x="68" y="734"/>
                  </a:lnTo>
                  <a:lnTo>
                    <a:pt x="63" y="731"/>
                  </a:lnTo>
                  <a:lnTo>
                    <a:pt x="58" y="729"/>
                  </a:lnTo>
                  <a:lnTo>
                    <a:pt x="54" y="727"/>
                  </a:lnTo>
                  <a:lnTo>
                    <a:pt x="50" y="725"/>
                  </a:lnTo>
                  <a:lnTo>
                    <a:pt x="46" y="722"/>
                  </a:lnTo>
                  <a:lnTo>
                    <a:pt x="42" y="719"/>
                  </a:lnTo>
                  <a:lnTo>
                    <a:pt x="39" y="717"/>
                  </a:lnTo>
                  <a:lnTo>
                    <a:pt x="36" y="714"/>
                  </a:lnTo>
                  <a:lnTo>
                    <a:pt x="33" y="711"/>
                  </a:lnTo>
                  <a:lnTo>
                    <a:pt x="30" y="709"/>
                  </a:lnTo>
                  <a:lnTo>
                    <a:pt x="27" y="706"/>
                  </a:lnTo>
                  <a:lnTo>
                    <a:pt x="25" y="704"/>
                  </a:lnTo>
                  <a:lnTo>
                    <a:pt x="23" y="702"/>
                  </a:lnTo>
                  <a:lnTo>
                    <a:pt x="21" y="700"/>
                  </a:lnTo>
                  <a:lnTo>
                    <a:pt x="20" y="698"/>
                  </a:lnTo>
                  <a:lnTo>
                    <a:pt x="19" y="697"/>
                  </a:lnTo>
                  <a:lnTo>
                    <a:pt x="18" y="696"/>
                  </a:lnTo>
                  <a:lnTo>
                    <a:pt x="17" y="695"/>
                  </a:lnTo>
                  <a:lnTo>
                    <a:pt x="17" y="695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24360" y="5904000"/>
              <a:ext cx="15840" cy="7596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2" y="0"/>
                  </a:moveTo>
                  <a:lnTo>
                    <a:pt x="2" y="0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95800" y="5156280"/>
              <a:ext cx="58680" cy="776160"/>
            </a:xfrm>
            <a:custGeom>
              <a:avLst/>
              <a:gdLst/>
              <a:ahLst/>
              <a:rect l="l" t="t" r="r" b="b"/>
              <a:pathLst>
                <a:path w="26" h="345">
                  <a:moveTo>
                    <a:pt x="4" y="345"/>
                  </a:moveTo>
                  <a:lnTo>
                    <a:pt x="4" y="345"/>
                  </a:lnTo>
                  <a:lnTo>
                    <a:pt x="5" y="329"/>
                  </a:lnTo>
                  <a:lnTo>
                    <a:pt x="6" y="312"/>
                  </a:lnTo>
                  <a:lnTo>
                    <a:pt x="7" y="297"/>
                  </a:lnTo>
                  <a:lnTo>
                    <a:pt x="8" y="281"/>
                  </a:lnTo>
                  <a:lnTo>
                    <a:pt x="9" y="265"/>
                  </a:lnTo>
                  <a:lnTo>
                    <a:pt x="10" y="250"/>
                  </a:lnTo>
                  <a:lnTo>
                    <a:pt x="11" y="234"/>
                  </a:lnTo>
                  <a:lnTo>
                    <a:pt x="12" y="219"/>
                  </a:lnTo>
                  <a:lnTo>
                    <a:pt x="12" y="204"/>
                  </a:lnTo>
                  <a:lnTo>
                    <a:pt x="13" y="189"/>
                  </a:lnTo>
                  <a:lnTo>
                    <a:pt x="14" y="174"/>
                  </a:lnTo>
                  <a:lnTo>
                    <a:pt x="15" y="160"/>
                  </a:lnTo>
                  <a:lnTo>
                    <a:pt x="16" y="147"/>
                  </a:lnTo>
                  <a:lnTo>
                    <a:pt x="17" y="134"/>
                  </a:lnTo>
                  <a:lnTo>
                    <a:pt x="18" y="121"/>
                  </a:lnTo>
                  <a:lnTo>
                    <a:pt x="18" y="108"/>
                  </a:lnTo>
                  <a:lnTo>
                    <a:pt x="19" y="96"/>
                  </a:lnTo>
                  <a:lnTo>
                    <a:pt x="20" y="85"/>
                  </a:lnTo>
                  <a:lnTo>
                    <a:pt x="21" y="74"/>
                  </a:lnTo>
                  <a:lnTo>
                    <a:pt x="22" y="64"/>
                  </a:lnTo>
                  <a:lnTo>
                    <a:pt x="22" y="55"/>
                  </a:lnTo>
                  <a:lnTo>
                    <a:pt x="23" y="46"/>
                  </a:lnTo>
                  <a:lnTo>
                    <a:pt x="23" y="38"/>
                  </a:lnTo>
                  <a:lnTo>
                    <a:pt x="24" y="30"/>
                  </a:lnTo>
                  <a:lnTo>
                    <a:pt x="25" y="24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0" y="12"/>
                  </a:lnTo>
                  <a:lnTo>
                    <a:pt x="20" y="17"/>
                  </a:lnTo>
                  <a:lnTo>
                    <a:pt x="20" y="23"/>
                  </a:lnTo>
                  <a:lnTo>
                    <a:pt x="19" y="30"/>
                  </a:lnTo>
                  <a:lnTo>
                    <a:pt x="18" y="37"/>
                  </a:lnTo>
                  <a:lnTo>
                    <a:pt x="18" y="45"/>
                  </a:lnTo>
                  <a:lnTo>
                    <a:pt x="17" y="54"/>
                  </a:lnTo>
                  <a:lnTo>
                    <a:pt x="17" y="64"/>
                  </a:lnTo>
                  <a:lnTo>
                    <a:pt x="16" y="74"/>
                  </a:lnTo>
                  <a:lnTo>
                    <a:pt x="15" y="85"/>
                  </a:lnTo>
                  <a:lnTo>
                    <a:pt x="15" y="96"/>
                  </a:lnTo>
                  <a:lnTo>
                    <a:pt x="14" y="108"/>
                  </a:lnTo>
                  <a:lnTo>
                    <a:pt x="13" y="121"/>
                  </a:lnTo>
                  <a:lnTo>
                    <a:pt x="12" y="133"/>
                  </a:lnTo>
                  <a:lnTo>
                    <a:pt x="11" y="146"/>
                  </a:lnTo>
                  <a:lnTo>
                    <a:pt x="10" y="160"/>
                  </a:lnTo>
                  <a:lnTo>
                    <a:pt x="9" y="174"/>
                  </a:lnTo>
                  <a:lnTo>
                    <a:pt x="9" y="188"/>
                  </a:lnTo>
                  <a:lnTo>
                    <a:pt x="8" y="203"/>
                  </a:lnTo>
                  <a:lnTo>
                    <a:pt x="7" y="218"/>
                  </a:lnTo>
                  <a:lnTo>
                    <a:pt x="6" y="233"/>
                  </a:lnTo>
                  <a:lnTo>
                    <a:pt x="5" y="249"/>
                  </a:lnTo>
                  <a:lnTo>
                    <a:pt x="4" y="265"/>
                  </a:lnTo>
                  <a:lnTo>
                    <a:pt x="3" y="280"/>
                  </a:lnTo>
                  <a:lnTo>
                    <a:pt x="2" y="296"/>
                  </a:lnTo>
                  <a:lnTo>
                    <a:pt x="1" y="312"/>
                  </a:lnTo>
                  <a:lnTo>
                    <a:pt x="0" y="328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4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5800" y="5931000"/>
              <a:ext cx="17640" cy="114120"/>
            </a:xfrm>
            <a:custGeom>
              <a:avLst/>
              <a:gdLst/>
              <a:ahLst/>
              <a:rect l="l" t="t" r="r" b="b"/>
              <a:pathLst>
                <a:path w="8" h="51">
                  <a:moveTo>
                    <a:pt x="7" y="51"/>
                  </a:moveTo>
                  <a:lnTo>
                    <a:pt x="8" y="49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6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24360" y="5975280"/>
              <a:ext cx="287280" cy="10800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0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2" y="25"/>
                  </a:lnTo>
                  <a:lnTo>
                    <a:pt x="26" y="28"/>
                  </a:lnTo>
                  <a:lnTo>
                    <a:pt x="30" y="31"/>
                  </a:lnTo>
                  <a:lnTo>
                    <a:pt x="34" y="33"/>
                  </a:lnTo>
                  <a:lnTo>
                    <a:pt x="38" y="36"/>
                  </a:lnTo>
                  <a:lnTo>
                    <a:pt x="43" y="38"/>
                  </a:lnTo>
                  <a:lnTo>
                    <a:pt x="47" y="41"/>
                  </a:lnTo>
                  <a:lnTo>
                    <a:pt x="52" y="43"/>
                  </a:lnTo>
                  <a:lnTo>
                    <a:pt x="57" y="44"/>
                  </a:lnTo>
                  <a:lnTo>
                    <a:pt x="62" y="46"/>
                  </a:lnTo>
                  <a:lnTo>
                    <a:pt x="68" y="47"/>
                  </a:lnTo>
                  <a:lnTo>
                    <a:pt x="73" y="48"/>
                  </a:lnTo>
                  <a:lnTo>
                    <a:pt x="79" y="48"/>
                  </a:lnTo>
                  <a:lnTo>
                    <a:pt x="85" y="48"/>
                  </a:lnTo>
                  <a:lnTo>
                    <a:pt x="91" y="47"/>
                  </a:lnTo>
                  <a:lnTo>
                    <a:pt x="97" y="46"/>
                  </a:lnTo>
                  <a:lnTo>
                    <a:pt x="103" y="44"/>
                  </a:lnTo>
                  <a:lnTo>
                    <a:pt x="109" y="42"/>
                  </a:lnTo>
                  <a:lnTo>
                    <a:pt x="116" y="39"/>
                  </a:lnTo>
                  <a:lnTo>
                    <a:pt x="122" y="35"/>
                  </a:lnTo>
                  <a:lnTo>
                    <a:pt x="129" y="31"/>
                  </a:lnTo>
                  <a:lnTo>
                    <a:pt x="126" y="27"/>
                  </a:lnTo>
                  <a:lnTo>
                    <a:pt x="120" y="31"/>
                  </a:lnTo>
                  <a:lnTo>
                    <a:pt x="113" y="35"/>
                  </a:lnTo>
                  <a:lnTo>
                    <a:pt x="107" y="38"/>
                  </a:lnTo>
                  <a:lnTo>
                    <a:pt x="102" y="40"/>
                  </a:lnTo>
                  <a:lnTo>
                    <a:pt x="96" y="41"/>
                  </a:lnTo>
                  <a:lnTo>
                    <a:pt x="90" y="43"/>
                  </a:lnTo>
                  <a:lnTo>
                    <a:pt x="84" y="43"/>
                  </a:lnTo>
                  <a:lnTo>
                    <a:pt x="79" y="44"/>
                  </a:lnTo>
                  <a:lnTo>
                    <a:pt x="74" y="43"/>
                  </a:lnTo>
                  <a:lnTo>
                    <a:pt x="68" y="42"/>
                  </a:lnTo>
                  <a:lnTo>
                    <a:pt x="63" y="41"/>
                  </a:lnTo>
                  <a:lnTo>
                    <a:pt x="59" y="40"/>
                  </a:lnTo>
                  <a:lnTo>
                    <a:pt x="54" y="38"/>
                  </a:lnTo>
                  <a:lnTo>
                    <a:pt x="49" y="36"/>
                  </a:lnTo>
                  <a:lnTo>
                    <a:pt x="45" y="34"/>
                  </a:lnTo>
                  <a:lnTo>
                    <a:pt x="40" y="32"/>
                  </a:lnTo>
                  <a:lnTo>
                    <a:pt x="37" y="30"/>
                  </a:lnTo>
                  <a:lnTo>
                    <a:pt x="33" y="27"/>
                  </a:lnTo>
                  <a:lnTo>
                    <a:pt x="29" y="24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94160" y="5915160"/>
              <a:ext cx="463680" cy="36828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189" y="0"/>
                  </a:moveTo>
                  <a:lnTo>
                    <a:pt x="209" y="40"/>
                  </a:lnTo>
                  <a:lnTo>
                    <a:pt x="204" y="80"/>
                  </a:lnTo>
                  <a:lnTo>
                    <a:pt x="204" y="80"/>
                  </a:lnTo>
                  <a:lnTo>
                    <a:pt x="203" y="81"/>
                  </a:lnTo>
                  <a:lnTo>
                    <a:pt x="202" y="81"/>
                  </a:lnTo>
                  <a:lnTo>
                    <a:pt x="201" y="82"/>
                  </a:lnTo>
                  <a:lnTo>
                    <a:pt x="199" y="83"/>
                  </a:lnTo>
                  <a:lnTo>
                    <a:pt x="198" y="84"/>
                  </a:lnTo>
                  <a:lnTo>
                    <a:pt x="196" y="85"/>
                  </a:lnTo>
                  <a:lnTo>
                    <a:pt x="194" y="87"/>
                  </a:lnTo>
                  <a:lnTo>
                    <a:pt x="191" y="88"/>
                  </a:lnTo>
                  <a:lnTo>
                    <a:pt x="189" y="89"/>
                  </a:lnTo>
                  <a:lnTo>
                    <a:pt x="187" y="90"/>
                  </a:lnTo>
                  <a:lnTo>
                    <a:pt x="184" y="91"/>
                  </a:lnTo>
                  <a:lnTo>
                    <a:pt x="181" y="93"/>
                  </a:lnTo>
                  <a:lnTo>
                    <a:pt x="178" y="93"/>
                  </a:lnTo>
                  <a:lnTo>
                    <a:pt x="175" y="94"/>
                  </a:lnTo>
                  <a:lnTo>
                    <a:pt x="173" y="95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64" y="97"/>
                  </a:lnTo>
                  <a:lnTo>
                    <a:pt x="163" y="98"/>
                  </a:lnTo>
                  <a:lnTo>
                    <a:pt x="162" y="98"/>
                  </a:lnTo>
                  <a:lnTo>
                    <a:pt x="159" y="99"/>
                  </a:lnTo>
                  <a:lnTo>
                    <a:pt x="155" y="102"/>
                  </a:lnTo>
                  <a:lnTo>
                    <a:pt x="150" y="105"/>
                  </a:lnTo>
                  <a:lnTo>
                    <a:pt x="147" y="107"/>
                  </a:lnTo>
                  <a:lnTo>
                    <a:pt x="144" y="109"/>
                  </a:lnTo>
                  <a:lnTo>
                    <a:pt x="141" y="111"/>
                  </a:lnTo>
                  <a:lnTo>
                    <a:pt x="138" y="113"/>
                  </a:lnTo>
                  <a:lnTo>
                    <a:pt x="135" y="116"/>
                  </a:lnTo>
                  <a:lnTo>
                    <a:pt x="132" y="119"/>
                  </a:lnTo>
                  <a:lnTo>
                    <a:pt x="130" y="121"/>
                  </a:lnTo>
                  <a:lnTo>
                    <a:pt x="127" y="124"/>
                  </a:lnTo>
                  <a:lnTo>
                    <a:pt x="124" y="127"/>
                  </a:lnTo>
                  <a:lnTo>
                    <a:pt x="122" y="130"/>
                  </a:lnTo>
                  <a:lnTo>
                    <a:pt x="120" y="132"/>
                  </a:lnTo>
                  <a:lnTo>
                    <a:pt x="118" y="135"/>
                  </a:lnTo>
                  <a:lnTo>
                    <a:pt x="116" y="137"/>
                  </a:lnTo>
                  <a:lnTo>
                    <a:pt x="114" y="139"/>
                  </a:lnTo>
                  <a:lnTo>
                    <a:pt x="112" y="141"/>
                  </a:lnTo>
                  <a:lnTo>
                    <a:pt x="111" y="143"/>
                  </a:lnTo>
                  <a:lnTo>
                    <a:pt x="108" y="144"/>
                  </a:lnTo>
                  <a:lnTo>
                    <a:pt x="106" y="146"/>
                  </a:lnTo>
                  <a:lnTo>
                    <a:pt x="104" y="148"/>
                  </a:lnTo>
                  <a:lnTo>
                    <a:pt x="100" y="150"/>
                  </a:lnTo>
                  <a:lnTo>
                    <a:pt x="97" y="151"/>
                  </a:lnTo>
                  <a:lnTo>
                    <a:pt x="93" y="152"/>
                  </a:lnTo>
                  <a:lnTo>
                    <a:pt x="89" y="154"/>
                  </a:lnTo>
                  <a:lnTo>
                    <a:pt x="85" y="155"/>
                  </a:lnTo>
                  <a:lnTo>
                    <a:pt x="81" y="157"/>
                  </a:lnTo>
                  <a:lnTo>
                    <a:pt x="77" y="158"/>
                  </a:lnTo>
                  <a:lnTo>
                    <a:pt x="72" y="160"/>
                  </a:lnTo>
                  <a:lnTo>
                    <a:pt x="68" y="161"/>
                  </a:lnTo>
                  <a:lnTo>
                    <a:pt x="64" y="162"/>
                  </a:lnTo>
                  <a:lnTo>
                    <a:pt x="61" y="163"/>
                  </a:lnTo>
                  <a:lnTo>
                    <a:pt x="57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4"/>
                  </a:lnTo>
                  <a:lnTo>
                    <a:pt x="42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30" y="161"/>
                  </a:lnTo>
                  <a:lnTo>
                    <a:pt x="26" y="160"/>
                  </a:lnTo>
                  <a:lnTo>
                    <a:pt x="23" y="158"/>
                  </a:lnTo>
                  <a:lnTo>
                    <a:pt x="20" y="157"/>
                  </a:lnTo>
                  <a:lnTo>
                    <a:pt x="17" y="155"/>
                  </a:lnTo>
                  <a:lnTo>
                    <a:pt x="14" y="154"/>
                  </a:lnTo>
                  <a:lnTo>
                    <a:pt x="11" y="153"/>
                  </a:lnTo>
                  <a:lnTo>
                    <a:pt x="9" y="152"/>
                  </a:lnTo>
                  <a:lnTo>
                    <a:pt x="8" y="151"/>
                  </a:lnTo>
                  <a:lnTo>
                    <a:pt x="7" y="150"/>
                  </a:lnTo>
                  <a:lnTo>
                    <a:pt x="7" y="150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4" y="146"/>
                  </a:lnTo>
                  <a:lnTo>
                    <a:pt x="2" y="143"/>
                  </a:lnTo>
                  <a:lnTo>
                    <a:pt x="1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7"/>
                  </a:lnTo>
                  <a:lnTo>
                    <a:pt x="4" y="125"/>
                  </a:lnTo>
                  <a:lnTo>
                    <a:pt x="5" y="123"/>
                  </a:lnTo>
                  <a:lnTo>
                    <a:pt x="7" y="121"/>
                  </a:lnTo>
                  <a:lnTo>
                    <a:pt x="10" y="119"/>
                  </a:lnTo>
                  <a:lnTo>
                    <a:pt x="12" y="118"/>
                  </a:lnTo>
                  <a:lnTo>
                    <a:pt x="14" y="116"/>
                  </a:lnTo>
                  <a:lnTo>
                    <a:pt x="17" y="115"/>
                  </a:lnTo>
                  <a:lnTo>
                    <a:pt x="19" y="113"/>
                  </a:lnTo>
                  <a:lnTo>
                    <a:pt x="21" y="112"/>
                  </a:lnTo>
                  <a:lnTo>
                    <a:pt x="23" y="111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28" y="109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1" y="107"/>
                  </a:lnTo>
                  <a:lnTo>
                    <a:pt x="32" y="106"/>
                  </a:lnTo>
                  <a:lnTo>
                    <a:pt x="34" y="105"/>
                  </a:lnTo>
                  <a:lnTo>
                    <a:pt x="36" y="102"/>
                  </a:lnTo>
                  <a:lnTo>
                    <a:pt x="39" y="99"/>
                  </a:lnTo>
                  <a:lnTo>
                    <a:pt x="42" y="96"/>
                  </a:lnTo>
                  <a:lnTo>
                    <a:pt x="45" y="92"/>
                  </a:lnTo>
                  <a:lnTo>
                    <a:pt x="49" y="88"/>
                  </a:lnTo>
                  <a:lnTo>
                    <a:pt x="53" y="84"/>
                  </a:lnTo>
                  <a:lnTo>
                    <a:pt x="56" y="80"/>
                  </a:lnTo>
                  <a:lnTo>
                    <a:pt x="60" y="76"/>
                  </a:lnTo>
                  <a:lnTo>
                    <a:pt x="63" y="73"/>
                  </a:lnTo>
                  <a:lnTo>
                    <a:pt x="66" y="69"/>
                  </a:lnTo>
                  <a:lnTo>
                    <a:pt x="68" y="66"/>
                  </a:lnTo>
                  <a:lnTo>
                    <a:pt x="70" y="63"/>
                  </a:lnTo>
                  <a:lnTo>
                    <a:pt x="71" y="61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4" y="54"/>
                  </a:lnTo>
                  <a:lnTo>
                    <a:pt x="74" y="52"/>
                  </a:lnTo>
                  <a:lnTo>
                    <a:pt x="75" y="48"/>
                  </a:lnTo>
                  <a:lnTo>
                    <a:pt x="76" y="46"/>
                  </a:lnTo>
                  <a:lnTo>
                    <a:pt x="77" y="43"/>
                  </a:lnTo>
                  <a:lnTo>
                    <a:pt x="78" y="40"/>
                  </a:lnTo>
                  <a:lnTo>
                    <a:pt x="78" y="37"/>
                  </a:lnTo>
                  <a:lnTo>
                    <a:pt x="79" y="34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11760" y="5911920"/>
              <a:ext cx="49320" cy="9504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41"/>
                  </a:moveTo>
                  <a:lnTo>
                    <a:pt x="21" y="4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4880" y="6005520"/>
              <a:ext cx="16200" cy="9216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2" y="41"/>
                  </a:moveTo>
                  <a:lnTo>
                    <a:pt x="3" y="4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78280" y="6093000"/>
              <a:ext cx="71640" cy="378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7520" y="612612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" y="12"/>
                  </a:moveTo>
                  <a:lnTo>
                    <a:pt x="1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38600" y="6148440"/>
              <a:ext cx="90720" cy="90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" y="40"/>
                  </a:moveTo>
                  <a:lnTo>
                    <a:pt x="1" y="40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29"/>
                  </a:lnTo>
                  <a:lnTo>
                    <a:pt x="13" y="26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0" y="18"/>
                  </a:lnTo>
                  <a:lnTo>
                    <a:pt x="23" y="16"/>
                  </a:lnTo>
                  <a:lnTo>
                    <a:pt x="26" y="13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11520" y="6234120"/>
              <a:ext cx="128880" cy="5256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23"/>
                  </a:moveTo>
                  <a:lnTo>
                    <a:pt x="0" y="23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4" y="17"/>
                  </a:lnTo>
                  <a:lnTo>
                    <a:pt x="28" y="16"/>
                  </a:lnTo>
                  <a:lnTo>
                    <a:pt x="33" y="15"/>
                  </a:lnTo>
                  <a:lnTo>
                    <a:pt x="36" y="13"/>
                  </a:lnTo>
                  <a:lnTo>
                    <a:pt x="41" y="12"/>
                  </a:lnTo>
                  <a:lnTo>
                    <a:pt x="44" y="10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4" y="5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50" y="5"/>
                  </a:lnTo>
                  <a:lnTo>
                    <a:pt x="47" y="6"/>
                  </a:lnTo>
                  <a:lnTo>
                    <a:pt x="43" y="8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7" y="13"/>
                  </a:lnTo>
                  <a:lnTo>
                    <a:pt x="23" y="15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06760" y="6253200"/>
              <a:ext cx="104760" cy="349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7" y="10"/>
                  </a:lnTo>
                  <a:lnTo>
                    <a:pt x="20" y="11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2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3" y="16"/>
                  </a:lnTo>
                  <a:lnTo>
                    <a:pt x="47" y="15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4" y="10"/>
                  </a:lnTo>
                  <a:lnTo>
                    <a:pt x="21" y="9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720" y="6199200"/>
              <a:ext cx="1908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95960" y="6156360"/>
              <a:ext cx="66600" cy="442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0"/>
                  </a:move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60760" y="6051600"/>
              <a:ext cx="93600" cy="1080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0" y="0"/>
                  </a:moveTo>
                  <a:lnTo>
                    <a:pt x="40" y="0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5" y="7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2" y="47"/>
                  </a:lnTo>
                  <a:lnTo>
                    <a:pt x="3" y="46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10" y="39"/>
                  </a:lnTo>
                  <a:lnTo>
                    <a:pt x="13" y="35"/>
                  </a:lnTo>
                  <a:lnTo>
                    <a:pt x="16" y="32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1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9" y="6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49680" y="5969160"/>
              <a:ext cx="28800" cy="8568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11" y="0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3440" y="591012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109" y="1"/>
                  </a:moveTo>
                  <a:lnTo>
                    <a:pt x="108" y="0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09" y="3"/>
                  </a:lnTo>
                  <a:lnTo>
                    <a:pt x="107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87760" y="4410000"/>
              <a:ext cx="351000" cy="1646280"/>
            </a:xfrm>
            <a:custGeom>
              <a:avLst/>
              <a:gdLst/>
              <a:ahLst/>
              <a:rect l="l" t="t" r="r" b="b"/>
              <a:pathLst>
                <a:path w="158" h="731">
                  <a:moveTo>
                    <a:pt x="0" y="0"/>
                  </a:moveTo>
                  <a:lnTo>
                    <a:pt x="15" y="322"/>
                  </a:lnTo>
                  <a:lnTo>
                    <a:pt x="15" y="322"/>
                  </a:lnTo>
                  <a:lnTo>
                    <a:pt x="16" y="323"/>
                  </a:lnTo>
                  <a:lnTo>
                    <a:pt x="16" y="326"/>
                  </a:lnTo>
                  <a:lnTo>
                    <a:pt x="16" y="329"/>
                  </a:lnTo>
                  <a:lnTo>
                    <a:pt x="16" y="333"/>
                  </a:lnTo>
                  <a:lnTo>
                    <a:pt x="16" y="339"/>
                  </a:lnTo>
                  <a:lnTo>
                    <a:pt x="17" y="345"/>
                  </a:lnTo>
                  <a:lnTo>
                    <a:pt x="17" y="351"/>
                  </a:lnTo>
                  <a:lnTo>
                    <a:pt x="18" y="359"/>
                  </a:lnTo>
                  <a:lnTo>
                    <a:pt x="19" y="367"/>
                  </a:lnTo>
                  <a:lnTo>
                    <a:pt x="19" y="376"/>
                  </a:lnTo>
                  <a:lnTo>
                    <a:pt x="20" y="385"/>
                  </a:lnTo>
                  <a:lnTo>
                    <a:pt x="20" y="395"/>
                  </a:lnTo>
                  <a:lnTo>
                    <a:pt x="21" y="406"/>
                  </a:lnTo>
                  <a:lnTo>
                    <a:pt x="22" y="418"/>
                  </a:lnTo>
                  <a:lnTo>
                    <a:pt x="23" y="429"/>
                  </a:lnTo>
                  <a:lnTo>
                    <a:pt x="23" y="442"/>
                  </a:lnTo>
                  <a:lnTo>
                    <a:pt x="24" y="454"/>
                  </a:lnTo>
                  <a:lnTo>
                    <a:pt x="25" y="468"/>
                  </a:lnTo>
                  <a:lnTo>
                    <a:pt x="26" y="482"/>
                  </a:lnTo>
                  <a:lnTo>
                    <a:pt x="27" y="496"/>
                  </a:lnTo>
                  <a:lnTo>
                    <a:pt x="28" y="510"/>
                  </a:lnTo>
                  <a:lnTo>
                    <a:pt x="28" y="525"/>
                  </a:lnTo>
                  <a:lnTo>
                    <a:pt x="29" y="540"/>
                  </a:lnTo>
                  <a:lnTo>
                    <a:pt x="30" y="555"/>
                  </a:lnTo>
                  <a:lnTo>
                    <a:pt x="31" y="570"/>
                  </a:lnTo>
                  <a:lnTo>
                    <a:pt x="32" y="586"/>
                  </a:lnTo>
                  <a:lnTo>
                    <a:pt x="33" y="602"/>
                  </a:lnTo>
                  <a:lnTo>
                    <a:pt x="34" y="618"/>
                  </a:lnTo>
                  <a:lnTo>
                    <a:pt x="35" y="634"/>
                  </a:lnTo>
                  <a:lnTo>
                    <a:pt x="35" y="649"/>
                  </a:lnTo>
                  <a:lnTo>
                    <a:pt x="36" y="666"/>
                  </a:lnTo>
                  <a:lnTo>
                    <a:pt x="36" y="668"/>
                  </a:lnTo>
                  <a:lnTo>
                    <a:pt x="36" y="671"/>
                  </a:lnTo>
                  <a:lnTo>
                    <a:pt x="36" y="673"/>
                  </a:lnTo>
                  <a:lnTo>
                    <a:pt x="36" y="676"/>
                  </a:lnTo>
                  <a:lnTo>
                    <a:pt x="36" y="680"/>
                  </a:lnTo>
                  <a:lnTo>
                    <a:pt x="35" y="683"/>
                  </a:lnTo>
                  <a:lnTo>
                    <a:pt x="35" y="686"/>
                  </a:lnTo>
                  <a:lnTo>
                    <a:pt x="35" y="690"/>
                  </a:lnTo>
                  <a:lnTo>
                    <a:pt x="34" y="693"/>
                  </a:lnTo>
                  <a:lnTo>
                    <a:pt x="34" y="697"/>
                  </a:lnTo>
                  <a:lnTo>
                    <a:pt x="33" y="700"/>
                  </a:lnTo>
                  <a:lnTo>
                    <a:pt x="33" y="703"/>
                  </a:lnTo>
                  <a:lnTo>
                    <a:pt x="33" y="706"/>
                  </a:lnTo>
                  <a:lnTo>
                    <a:pt x="33" y="709"/>
                  </a:lnTo>
                  <a:lnTo>
                    <a:pt x="33" y="712"/>
                  </a:lnTo>
                  <a:lnTo>
                    <a:pt x="33" y="714"/>
                  </a:lnTo>
                  <a:lnTo>
                    <a:pt x="39" y="719"/>
                  </a:lnTo>
                  <a:lnTo>
                    <a:pt x="45" y="722"/>
                  </a:lnTo>
                  <a:lnTo>
                    <a:pt x="52" y="725"/>
                  </a:lnTo>
                  <a:lnTo>
                    <a:pt x="58" y="728"/>
                  </a:lnTo>
                  <a:lnTo>
                    <a:pt x="64" y="729"/>
                  </a:lnTo>
                  <a:lnTo>
                    <a:pt x="69" y="730"/>
                  </a:lnTo>
                  <a:lnTo>
                    <a:pt x="76" y="731"/>
                  </a:lnTo>
                  <a:lnTo>
                    <a:pt x="81" y="731"/>
                  </a:lnTo>
                  <a:lnTo>
                    <a:pt x="87" y="730"/>
                  </a:lnTo>
                  <a:lnTo>
                    <a:pt x="92" y="730"/>
                  </a:lnTo>
                  <a:lnTo>
                    <a:pt x="97" y="729"/>
                  </a:lnTo>
                  <a:lnTo>
                    <a:pt x="102" y="728"/>
                  </a:lnTo>
                  <a:lnTo>
                    <a:pt x="107" y="726"/>
                  </a:lnTo>
                  <a:lnTo>
                    <a:pt x="112" y="724"/>
                  </a:lnTo>
                  <a:lnTo>
                    <a:pt x="116" y="722"/>
                  </a:lnTo>
                  <a:lnTo>
                    <a:pt x="121" y="719"/>
                  </a:lnTo>
                  <a:lnTo>
                    <a:pt x="125" y="717"/>
                  </a:lnTo>
                  <a:lnTo>
                    <a:pt x="129" y="714"/>
                  </a:lnTo>
                  <a:lnTo>
                    <a:pt x="132" y="711"/>
                  </a:lnTo>
                  <a:lnTo>
                    <a:pt x="136" y="709"/>
                  </a:lnTo>
                  <a:lnTo>
                    <a:pt x="139" y="706"/>
                  </a:lnTo>
                  <a:lnTo>
                    <a:pt x="142" y="703"/>
                  </a:lnTo>
                  <a:lnTo>
                    <a:pt x="145" y="701"/>
                  </a:lnTo>
                  <a:lnTo>
                    <a:pt x="148" y="698"/>
                  </a:lnTo>
                  <a:lnTo>
                    <a:pt x="150" y="696"/>
                  </a:lnTo>
                  <a:lnTo>
                    <a:pt x="152" y="694"/>
                  </a:lnTo>
                  <a:lnTo>
                    <a:pt x="154" y="692"/>
                  </a:lnTo>
                  <a:lnTo>
                    <a:pt x="155" y="690"/>
                  </a:lnTo>
                  <a:lnTo>
                    <a:pt x="156" y="689"/>
                  </a:lnTo>
                  <a:lnTo>
                    <a:pt x="157" y="688"/>
                  </a:lnTo>
                  <a:lnTo>
                    <a:pt x="157" y="687"/>
                  </a:lnTo>
                  <a:lnTo>
                    <a:pt x="158" y="687"/>
                  </a:lnTo>
                  <a:lnTo>
                    <a:pt x="155" y="653"/>
                  </a:lnTo>
                  <a:lnTo>
                    <a:pt x="146" y="352"/>
                  </a:lnTo>
                  <a:lnTo>
                    <a:pt x="158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16560" y="5133960"/>
              <a:ext cx="55440" cy="77616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25" y="345"/>
                  </a:moveTo>
                  <a:lnTo>
                    <a:pt x="25" y="345"/>
                  </a:lnTo>
                  <a:lnTo>
                    <a:pt x="25" y="328"/>
                  </a:lnTo>
                  <a:lnTo>
                    <a:pt x="24" y="312"/>
                  </a:lnTo>
                  <a:lnTo>
                    <a:pt x="23" y="297"/>
                  </a:lnTo>
                  <a:lnTo>
                    <a:pt x="22" y="281"/>
                  </a:lnTo>
                  <a:lnTo>
                    <a:pt x="21" y="265"/>
                  </a:lnTo>
                  <a:lnTo>
                    <a:pt x="20" y="249"/>
                  </a:lnTo>
                  <a:lnTo>
                    <a:pt x="19" y="234"/>
                  </a:lnTo>
                  <a:lnTo>
                    <a:pt x="19" y="218"/>
                  </a:lnTo>
                  <a:lnTo>
                    <a:pt x="18" y="204"/>
                  </a:lnTo>
                  <a:lnTo>
                    <a:pt x="17" y="189"/>
                  </a:lnTo>
                  <a:lnTo>
                    <a:pt x="16" y="175"/>
                  </a:lnTo>
                  <a:lnTo>
                    <a:pt x="15" y="160"/>
                  </a:lnTo>
                  <a:lnTo>
                    <a:pt x="15" y="147"/>
                  </a:lnTo>
                  <a:lnTo>
                    <a:pt x="14" y="133"/>
                  </a:lnTo>
                  <a:lnTo>
                    <a:pt x="13" y="120"/>
                  </a:lnTo>
                  <a:lnTo>
                    <a:pt x="12" y="108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0" y="74"/>
                  </a:lnTo>
                  <a:lnTo>
                    <a:pt x="9" y="64"/>
                  </a:lnTo>
                  <a:lnTo>
                    <a:pt x="9" y="55"/>
                  </a:lnTo>
                  <a:lnTo>
                    <a:pt x="8" y="46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3" y="38"/>
                  </a:lnTo>
                  <a:lnTo>
                    <a:pt x="3" y="46"/>
                  </a:lnTo>
                  <a:lnTo>
                    <a:pt x="4" y="55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6" y="85"/>
                  </a:lnTo>
                  <a:lnTo>
                    <a:pt x="6" y="97"/>
                  </a:lnTo>
                  <a:lnTo>
                    <a:pt x="7" y="108"/>
                  </a:lnTo>
                  <a:lnTo>
                    <a:pt x="8" y="121"/>
                  </a:lnTo>
                  <a:lnTo>
                    <a:pt x="9" y="134"/>
                  </a:lnTo>
                  <a:lnTo>
                    <a:pt x="10" y="147"/>
                  </a:lnTo>
                  <a:lnTo>
                    <a:pt x="11" y="161"/>
                  </a:lnTo>
                  <a:lnTo>
                    <a:pt x="12" y="175"/>
                  </a:lnTo>
                  <a:lnTo>
                    <a:pt x="12" y="189"/>
                  </a:lnTo>
                  <a:lnTo>
                    <a:pt x="13" y="204"/>
                  </a:lnTo>
                  <a:lnTo>
                    <a:pt x="14" y="219"/>
                  </a:lnTo>
                  <a:lnTo>
                    <a:pt x="15" y="234"/>
                  </a:lnTo>
                  <a:lnTo>
                    <a:pt x="16" y="249"/>
                  </a:lnTo>
                  <a:lnTo>
                    <a:pt x="16" y="265"/>
                  </a:lnTo>
                  <a:lnTo>
                    <a:pt x="17" y="281"/>
                  </a:lnTo>
                  <a:lnTo>
                    <a:pt x="18" y="297"/>
                  </a:lnTo>
                  <a:lnTo>
                    <a:pt x="19" y="313"/>
                  </a:lnTo>
                  <a:lnTo>
                    <a:pt x="20" y="329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5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6160" y="5910120"/>
              <a:ext cx="15840" cy="11268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3" y="47"/>
                  </a:moveTo>
                  <a:lnTo>
                    <a:pt x="4" y="48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7" y="11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57600" y="5952960"/>
              <a:ext cx="285840" cy="108000"/>
            </a:xfrm>
            <a:custGeom>
              <a:avLst/>
              <a:gdLst/>
              <a:ahLst/>
              <a:rect l="l" t="t" r="r" b="b"/>
              <a:pathLst>
                <a:path w="128" h="48">
                  <a:moveTo>
                    <a:pt x="123" y="2"/>
                  </a:moveTo>
                  <a:lnTo>
                    <a:pt x="124" y="0"/>
                  </a:lnTo>
                  <a:lnTo>
                    <a:pt x="124" y="0"/>
                  </a:lnTo>
                  <a:lnTo>
                    <a:pt x="123" y="1"/>
                  </a:lnTo>
                  <a:lnTo>
                    <a:pt x="122" y="2"/>
                  </a:lnTo>
                  <a:lnTo>
                    <a:pt x="121" y="3"/>
                  </a:lnTo>
                  <a:lnTo>
                    <a:pt x="120" y="5"/>
                  </a:lnTo>
                  <a:lnTo>
                    <a:pt x="119" y="7"/>
                  </a:lnTo>
                  <a:lnTo>
                    <a:pt x="116" y="9"/>
                  </a:lnTo>
                  <a:lnTo>
                    <a:pt x="114" y="12"/>
                  </a:lnTo>
                  <a:lnTo>
                    <a:pt x="112" y="14"/>
                  </a:lnTo>
                  <a:lnTo>
                    <a:pt x="109" y="17"/>
                  </a:lnTo>
                  <a:lnTo>
                    <a:pt x="106" y="19"/>
                  </a:lnTo>
                  <a:lnTo>
                    <a:pt x="103" y="22"/>
                  </a:lnTo>
                  <a:lnTo>
                    <a:pt x="99" y="25"/>
                  </a:lnTo>
                  <a:lnTo>
                    <a:pt x="95" y="27"/>
                  </a:lnTo>
                  <a:lnTo>
                    <a:pt x="92" y="30"/>
                  </a:lnTo>
                  <a:lnTo>
                    <a:pt x="88" y="32"/>
                  </a:lnTo>
                  <a:lnTo>
                    <a:pt x="83" y="35"/>
                  </a:lnTo>
                  <a:lnTo>
                    <a:pt x="79" y="37"/>
                  </a:lnTo>
                  <a:lnTo>
                    <a:pt x="74" y="38"/>
                  </a:lnTo>
                  <a:lnTo>
                    <a:pt x="69" y="40"/>
                  </a:lnTo>
                  <a:lnTo>
                    <a:pt x="65" y="42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3"/>
                  </a:lnTo>
                  <a:lnTo>
                    <a:pt x="44" y="43"/>
                  </a:lnTo>
                  <a:lnTo>
                    <a:pt x="38" y="43"/>
                  </a:lnTo>
                  <a:lnTo>
                    <a:pt x="32" y="42"/>
                  </a:lnTo>
                  <a:lnTo>
                    <a:pt x="26" y="40"/>
                  </a:lnTo>
                  <a:lnTo>
                    <a:pt x="21" y="38"/>
                  </a:lnTo>
                  <a:lnTo>
                    <a:pt x="15" y="35"/>
                  </a:lnTo>
                  <a:lnTo>
                    <a:pt x="9" y="31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6" y="36"/>
                  </a:lnTo>
                  <a:lnTo>
                    <a:pt x="12" y="39"/>
                  </a:lnTo>
                  <a:lnTo>
                    <a:pt x="18" y="43"/>
                  </a:lnTo>
                  <a:lnTo>
                    <a:pt x="25" y="45"/>
                  </a:lnTo>
                  <a:lnTo>
                    <a:pt x="31" y="46"/>
                  </a:lnTo>
                  <a:lnTo>
                    <a:pt x="37" y="48"/>
                  </a:lnTo>
                  <a:lnTo>
                    <a:pt x="43" y="48"/>
                  </a:lnTo>
                  <a:lnTo>
                    <a:pt x="49" y="48"/>
                  </a:lnTo>
                  <a:lnTo>
                    <a:pt x="55" y="48"/>
                  </a:lnTo>
                  <a:lnTo>
                    <a:pt x="60" y="47"/>
                  </a:lnTo>
                  <a:lnTo>
                    <a:pt x="66" y="46"/>
                  </a:lnTo>
                  <a:lnTo>
                    <a:pt x="71" y="45"/>
                  </a:lnTo>
                  <a:lnTo>
                    <a:pt x="76" y="43"/>
                  </a:lnTo>
                  <a:lnTo>
                    <a:pt x="81" y="41"/>
                  </a:lnTo>
                  <a:lnTo>
                    <a:pt x="86" y="39"/>
                  </a:lnTo>
                  <a:lnTo>
                    <a:pt x="90" y="36"/>
                  </a:lnTo>
                  <a:lnTo>
                    <a:pt x="94" y="34"/>
                  </a:lnTo>
                  <a:lnTo>
                    <a:pt x="98" y="31"/>
                  </a:lnTo>
                  <a:lnTo>
                    <a:pt x="102" y="28"/>
                  </a:lnTo>
                  <a:lnTo>
                    <a:pt x="106" y="26"/>
                  </a:lnTo>
                  <a:lnTo>
                    <a:pt x="109" y="23"/>
                  </a:lnTo>
                  <a:lnTo>
                    <a:pt x="112" y="20"/>
                  </a:lnTo>
                  <a:lnTo>
                    <a:pt x="115" y="17"/>
                  </a:lnTo>
                  <a:lnTo>
                    <a:pt x="118" y="15"/>
                  </a:lnTo>
                  <a:lnTo>
                    <a:pt x="120" y="12"/>
                  </a:lnTo>
                  <a:lnTo>
                    <a:pt x="122" y="10"/>
                  </a:lnTo>
                  <a:lnTo>
                    <a:pt x="124" y="9"/>
                  </a:lnTo>
                  <a:lnTo>
                    <a:pt x="125" y="7"/>
                  </a:lnTo>
                  <a:lnTo>
                    <a:pt x="126" y="5"/>
                  </a:lnTo>
                  <a:lnTo>
                    <a:pt x="127" y="4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27600" y="5881680"/>
              <a:ext cx="15840" cy="76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0" y="0"/>
                  </a:moveTo>
                  <a:lnTo>
                    <a:pt x="0" y="0"/>
                  </a:lnTo>
                  <a:lnTo>
                    <a:pt x="2" y="34"/>
                  </a:lnTo>
                  <a:lnTo>
                    <a:pt x="7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132000" y="2492280"/>
              <a:ext cx="2808360" cy="3411720"/>
              <a:chOff x="3132000" y="2492280"/>
              <a:chExt cx="2808360" cy="3411720"/>
            </a:xfrm>
          </p:grpSpPr>
          <p:sp>
            <p:nvSpPr>
              <p:cNvPr id="179" name=""/>
              <p:cNvSpPr/>
              <p:nvPr/>
            </p:nvSpPr>
            <p:spPr>
              <a:xfrm>
                <a:off x="3181320" y="2494080"/>
                <a:ext cx="2709720" cy="179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89600" y="2492280"/>
                <a:ext cx="4680" cy="179712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78080" y="249228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78080" y="2494080"/>
                <a:ext cx="4680" cy="179676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81320" y="428616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20920" y="2523960"/>
                <a:ext cx="2632320" cy="1820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51440" y="2521080"/>
                <a:ext cx="4680" cy="182376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16240" y="2521080"/>
                <a:ext cx="2637000" cy="288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16240" y="2523960"/>
                <a:ext cx="6480" cy="182592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20920" y="4343400"/>
                <a:ext cx="2635200" cy="648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38480" y="4289400"/>
                <a:ext cx="2795760" cy="9360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4520" y="4280040"/>
                <a:ext cx="15840" cy="1029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32000" y="4280040"/>
                <a:ext cx="2802240" cy="1728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32000" y="42894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38480" y="4376880"/>
                <a:ext cx="2801880" cy="158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35360" y="3249720"/>
                <a:ext cx="341280" cy="50616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43520" y="3246480"/>
                <a:ext cx="34920" cy="3747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33920" y="3246480"/>
                <a:ext cx="311040" cy="468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33920" y="3249720"/>
                <a:ext cx="6480" cy="37152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33920" y="3618000"/>
                <a:ext cx="316080" cy="1411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29040" y="5222880"/>
                <a:ext cx="32040" cy="68112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88000" y="4538520"/>
                <a:ext cx="73080" cy="68760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88000" y="4408560"/>
                <a:ext cx="25200" cy="1332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07080" y="4408560"/>
                <a:ext cx="380880" cy="2700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43680" y="4430880"/>
                <a:ext cx="4428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83080" y="4410000"/>
                <a:ext cx="4464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07080" y="5203800"/>
                <a:ext cx="28440" cy="6778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7080" y="4667400"/>
                <a:ext cx="37800" cy="5364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54520" y="3411360"/>
                <a:ext cx="304560" cy="33048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76840" y="363204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7880" y="3665520"/>
                <a:ext cx="104760" cy="525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14720" y="3710160"/>
                <a:ext cx="33480" cy="378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40280" y="3649680"/>
                <a:ext cx="129960" cy="9540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21280" y="361332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94280" y="3467160"/>
                <a:ext cx="38160" cy="14904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11560" y="343548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11560" y="34066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40280" y="340668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3720" y="3411360"/>
                <a:ext cx="114480" cy="9864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11760" y="34545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06720" y="347328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92680" y="348444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73600" y="349416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54520" y="35272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49840" y="3551400"/>
                <a:ext cx="34920" cy="8856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84480" y="359424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84480" y="358920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00680" y="34336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98880" y="3430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46600" y="3241800"/>
                <a:ext cx="77760" cy="9036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09960" y="3240000"/>
                <a:ext cx="17640" cy="9216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45160" y="3240000"/>
                <a:ext cx="79200" cy="468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45160" y="3240000"/>
                <a:ext cx="21960" cy="9360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62440" y="332748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0040" y="2878200"/>
                <a:ext cx="52560" cy="1299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2120" y="294336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02120" y="287028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8840" y="287028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33800" y="294336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54360" y="2946240"/>
                <a:ext cx="78120" cy="12096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65520" y="3016080"/>
                <a:ext cx="61920" cy="558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49680" y="2943360"/>
                <a:ext cx="23760" cy="8100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57600" y="294336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11600" y="298944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62360" y="3059280"/>
                <a:ext cx="250920" cy="19044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62360" y="3209760"/>
                <a:ext cx="125640" cy="4320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6240" y="3071880"/>
                <a:ext cx="17280" cy="14616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60920" y="3056040"/>
                <a:ext cx="257040" cy="2700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06800" y="3059280"/>
                <a:ext cx="11160" cy="15876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4760" y="32083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51480" y="2670120"/>
                <a:ext cx="380880" cy="52092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11760" y="306720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11840" y="2766960"/>
                <a:ext cx="27000" cy="30492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46440" y="2665440"/>
                <a:ext cx="374760" cy="16992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46440" y="2830680"/>
                <a:ext cx="98640" cy="2872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35360" y="3111480"/>
                <a:ext cx="181080" cy="8568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11520" y="2647800"/>
                <a:ext cx="451080" cy="3063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54520" y="2644920"/>
                <a:ext cx="79560" cy="4752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27600" y="266076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78360" y="2664000"/>
                <a:ext cx="79560" cy="6984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0000" y="273060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7680" y="281952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06800" y="280836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71880" y="276084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44880" y="27608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8240" y="27543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67400" y="275580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832120"/>
                <a:ext cx="96840" cy="3816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2868480"/>
                <a:ext cx="19080" cy="921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10080" y="28796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10080" y="2778120"/>
                <a:ext cx="28440" cy="10152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37080" y="2701800"/>
                <a:ext cx="34920" cy="8100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67320" y="2644920"/>
                <a:ext cx="187200" cy="6192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21120" y="285120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21120" y="2857680"/>
                <a:ext cx="84240" cy="108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62520" y="284652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2040" y="2846520"/>
                <a:ext cx="63720" cy="237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35520" y="2901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4600" y="29163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4600" y="2897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34080" y="2897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4080" y="29163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22760" y="287820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10160" y="2879640"/>
                <a:ext cx="84240" cy="208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21320" y="287352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51200" y="2873520"/>
                <a:ext cx="60480" cy="108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57680" y="292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6240" y="29383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56240" y="2922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73520" y="29224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3520" y="29383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07000" y="3051000"/>
                <a:ext cx="158760" cy="6192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07000" y="3048120"/>
                <a:ext cx="160200" cy="2700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94120" y="305100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02320" y="3071880"/>
                <a:ext cx="91800" cy="4428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76760" y="3040200"/>
                <a:ext cx="19080" cy="6012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65760" y="3016080"/>
                <a:ext cx="19080" cy="590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40120" y="3005280"/>
                <a:ext cx="9720" cy="298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45160" y="3016080"/>
                <a:ext cx="77760" cy="208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07080" y="29923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33920" y="3164040"/>
                <a:ext cx="160200" cy="17748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62360" y="316080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65680" y="3236760"/>
                <a:ext cx="30240" cy="24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7520" y="325764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29240" y="3218040"/>
                <a:ext cx="102960" cy="123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29240" y="31561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0080" y="3165480"/>
                <a:ext cx="153720" cy="16812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68920" y="3164040"/>
                <a:ext cx="149040" cy="8064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80080" y="323676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11760" y="3260880"/>
                <a:ext cx="42840" cy="8064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49920" y="3214800"/>
                <a:ext cx="88920" cy="1220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13280" y="3160800"/>
                <a:ext cx="25560" cy="572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18160" y="3332160"/>
                <a:ext cx="150840" cy="5716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07080" y="3719520"/>
                <a:ext cx="64800" cy="18432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09960" y="3327480"/>
                <a:ext cx="61920" cy="3934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57760" y="332748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16360" y="3330720"/>
                <a:ext cx="46080" cy="3841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16360" y="3713040"/>
                <a:ext cx="95400" cy="1987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40160" y="3213000"/>
                <a:ext cx="916200" cy="145908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27440" y="3209760"/>
                <a:ext cx="173160" cy="51912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91240" y="3209760"/>
                <a:ext cx="149040" cy="5004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33800" y="3209760"/>
                <a:ext cx="317520" cy="8604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3560" y="3290760"/>
                <a:ext cx="77760" cy="70992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73560" y="3998880"/>
                <a:ext cx="87480" cy="64296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79800" y="4630680"/>
                <a:ext cx="376560" cy="4608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18240" y="4464000"/>
                <a:ext cx="72720" cy="20340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82960" y="4483080"/>
                <a:ext cx="46080" cy="19044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87680" y="4633920"/>
                <a:ext cx="401760" cy="42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87680" y="4108320"/>
                <a:ext cx="73080" cy="53208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34040" y="3314880"/>
                <a:ext cx="126720" cy="79344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38720" y="3206880"/>
                <a:ext cx="299880" cy="1188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91240" y="3084480"/>
                <a:ext cx="358560" cy="4827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91240" y="3083040"/>
                <a:ext cx="258480" cy="982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45040" y="3084480"/>
                <a:ext cx="109440" cy="3826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98880" y="3462480"/>
                <a:ext cx="252720" cy="10764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89440" y="3174840"/>
                <a:ext cx="115920" cy="39384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69000" y="3084480"/>
                <a:ext cx="288720" cy="49068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46840" y="30830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35680" y="3094200"/>
                <a:ext cx="31680" cy="727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7680" y="3164040"/>
                <a:ext cx="110880" cy="1728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65760" y="3174840"/>
                <a:ext cx="63360" cy="446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65760" y="3218040"/>
                <a:ext cx="81000" cy="36324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43520" y="353700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006880" y="3476520"/>
                <a:ext cx="150840" cy="669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60880" y="3094200"/>
                <a:ext cx="96840" cy="38412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0" y="1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3" y="12"/>
                    </a:lnTo>
                    <a:lnTo>
                      <a:pt x="4" y="16"/>
                    </a:lnTo>
                    <a:lnTo>
                      <a:pt x="6" y="20"/>
                    </a:lnTo>
                    <a:lnTo>
                      <a:pt x="7" y="26"/>
                    </a:lnTo>
                    <a:lnTo>
                      <a:pt x="9" y="32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4" y="51"/>
                    </a:lnTo>
                    <a:lnTo>
                      <a:pt x="16" y="59"/>
                    </a:lnTo>
                    <a:lnTo>
                      <a:pt x="18" y="66"/>
                    </a:lnTo>
                    <a:lnTo>
                      <a:pt x="20" y="73"/>
                    </a:lnTo>
                    <a:lnTo>
                      <a:pt x="22" y="81"/>
                    </a:lnTo>
                    <a:lnTo>
                      <a:pt x="24" y="89"/>
                    </a:lnTo>
                    <a:lnTo>
                      <a:pt x="26" y="96"/>
                    </a:lnTo>
                    <a:lnTo>
                      <a:pt x="28" y="104"/>
                    </a:lnTo>
                    <a:lnTo>
                      <a:pt x="30" y="112"/>
                    </a:lnTo>
                    <a:lnTo>
                      <a:pt x="31" y="119"/>
                    </a:lnTo>
                    <a:lnTo>
                      <a:pt x="33" y="126"/>
                    </a:lnTo>
                    <a:lnTo>
                      <a:pt x="35" y="133"/>
                    </a:lnTo>
                    <a:lnTo>
                      <a:pt x="36" y="139"/>
                    </a:lnTo>
                    <a:lnTo>
                      <a:pt x="38" y="145"/>
                    </a:lnTo>
                    <a:lnTo>
                      <a:pt x="39" y="150"/>
                    </a:lnTo>
                    <a:lnTo>
                      <a:pt x="40" y="155"/>
                    </a:lnTo>
                    <a:lnTo>
                      <a:pt x="41" y="160"/>
                    </a:lnTo>
                    <a:lnTo>
                      <a:pt x="41" y="164"/>
                    </a:lnTo>
                    <a:lnTo>
                      <a:pt x="42" y="167"/>
                    </a:lnTo>
                    <a:lnTo>
                      <a:pt x="42" y="169"/>
                    </a:lnTo>
                    <a:lnTo>
                      <a:pt x="42" y="171"/>
                    </a:lnTo>
                    <a:lnTo>
                      <a:pt x="44" y="171"/>
                    </a:lnTo>
                    <a:lnTo>
                      <a:pt x="44" y="169"/>
                    </a:lnTo>
                    <a:lnTo>
                      <a:pt x="44" y="166"/>
                    </a:lnTo>
                    <a:lnTo>
                      <a:pt x="44" y="164"/>
                    </a:lnTo>
                    <a:lnTo>
                      <a:pt x="43" y="160"/>
                    </a:lnTo>
                    <a:lnTo>
                      <a:pt x="42" y="155"/>
                    </a:lnTo>
                    <a:lnTo>
                      <a:pt x="41" y="150"/>
                    </a:lnTo>
                    <a:lnTo>
                      <a:pt x="40" y="144"/>
                    </a:lnTo>
                    <a:lnTo>
                      <a:pt x="39" y="138"/>
                    </a:lnTo>
                    <a:lnTo>
                      <a:pt x="37" y="132"/>
                    </a:lnTo>
                    <a:lnTo>
                      <a:pt x="35" y="125"/>
                    </a:lnTo>
                    <a:lnTo>
                      <a:pt x="34" y="118"/>
                    </a:lnTo>
                    <a:lnTo>
                      <a:pt x="32" y="111"/>
                    </a:lnTo>
                    <a:lnTo>
                      <a:pt x="30" y="103"/>
                    </a:lnTo>
                    <a:lnTo>
                      <a:pt x="28" y="96"/>
                    </a:lnTo>
                    <a:lnTo>
                      <a:pt x="26" y="88"/>
                    </a:lnTo>
                    <a:lnTo>
                      <a:pt x="24" y="80"/>
                    </a:lnTo>
                    <a:lnTo>
                      <a:pt x="22" y="73"/>
                    </a:lnTo>
                    <a:lnTo>
                      <a:pt x="20" y="65"/>
                    </a:lnTo>
                    <a:lnTo>
                      <a:pt x="19" y="58"/>
                    </a:lnTo>
                    <a:lnTo>
                      <a:pt x="16" y="51"/>
                    </a:lnTo>
                    <a:lnTo>
                      <a:pt x="15" y="44"/>
                    </a:lnTo>
                    <a:lnTo>
                      <a:pt x="13" y="37"/>
                    </a:lnTo>
                    <a:lnTo>
                      <a:pt x="11" y="31"/>
                    </a:lnTo>
                    <a:lnTo>
                      <a:pt x="9" y="25"/>
                    </a:lnTo>
                    <a:lnTo>
                      <a:pt x="8" y="20"/>
                    </a:lnTo>
                    <a:lnTo>
                      <a:pt x="7" y="15"/>
                    </a:lnTo>
                    <a:lnTo>
                      <a:pt x="6" y="11"/>
                    </a:lnTo>
                    <a:lnTo>
                      <a:pt x="5" y="7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50000" y="3230640"/>
                <a:ext cx="244440" cy="527040"/>
              </a:xfrm>
              <a:custGeom>
                <a:avLst/>
                <a:gdLst/>
                <a:ahLst/>
                <a:rect l="l" t="t" r="r" b="b"/>
                <a:pathLst>
                  <a:path w="110" h="234">
                    <a:moveTo>
                      <a:pt x="37" y="208"/>
                    </a:moveTo>
                    <a:lnTo>
                      <a:pt x="35" y="162"/>
                    </a:lnTo>
                    <a:lnTo>
                      <a:pt x="2" y="103"/>
                    </a:lnTo>
                    <a:lnTo>
                      <a:pt x="2" y="102"/>
                    </a:lnTo>
                    <a:lnTo>
                      <a:pt x="1" y="98"/>
                    </a:lnTo>
                    <a:lnTo>
                      <a:pt x="1" y="93"/>
                    </a:lnTo>
                    <a:lnTo>
                      <a:pt x="1" y="87"/>
                    </a:lnTo>
                    <a:lnTo>
                      <a:pt x="0" y="79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0" y="51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1" y="24"/>
                    </a:lnTo>
                    <a:lnTo>
                      <a:pt x="2" y="16"/>
                    </a:lnTo>
                    <a:lnTo>
                      <a:pt x="3" y="9"/>
                    </a:lnTo>
                    <a:lnTo>
                      <a:pt x="5" y="4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4"/>
                    </a:lnTo>
                    <a:lnTo>
                      <a:pt x="18" y="6"/>
                    </a:lnTo>
                    <a:lnTo>
                      <a:pt x="20" y="9"/>
                    </a:lnTo>
                    <a:lnTo>
                      <a:pt x="22" y="12"/>
                    </a:lnTo>
                    <a:lnTo>
                      <a:pt x="23" y="16"/>
                    </a:lnTo>
                    <a:lnTo>
                      <a:pt x="25" y="20"/>
                    </a:lnTo>
                    <a:lnTo>
                      <a:pt x="26" y="24"/>
                    </a:lnTo>
                    <a:lnTo>
                      <a:pt x="27" y="28"/>
                    </a:lnTo>
                    <a:lnTo>
                      <a:pt x="28" y="31"/>
                    </a:lnTo>
                    <a:lnTo>
                      <a:pt x="28" y="34"/>
                    </a:lnTo>
                    <a:lnTo>
                      <a:pt x="29" y="37"/>
                    </a:lnTo>
                    <a:lnTo>
                      <a:pt x="29" y="39"/>
                    </a:lnTo>
                    <a:lnTo>
                      <a:pt x="30" y="40"/>
                    </a:lnTo>
                    <a:lnTo>
                      <a:pt x="30" y="41"/>
                    </a:lnTo>
                    <a:lnTo>
                      <a:pt x="44" y="65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4" y="40"/>
                    </a:lnTo>
                    <a:lnTo>
                      <a:pt x="34" y="38"/>
                    </a:lnTo>
                    <a:lnTo>
                      <a:pt x="33" y="35"/>
                    </a:lnTo>
                    <a:lnTo>
                      <a:pt x="32" y="32"/>
                    </a:lnTo>
                    <a:lnTo>
                      <a:pt x="31" y="29"/>
                    </a:lnTo>
                    <a:lnTo>
                      <a:pt x="30" y="25"/>
                    </a:lnTo>
                    <a:lnTo>
                      <a:pt x="29" y="22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7" y="13"/>
                    </a:lnTo>
                    <a:lnTo>
                      <a:pt x="38" y="16"/>
                    </a:lnTo>
                    <a:lnTo>
                      <a:pt x="39" y="18"/>
                    </a:lnTo>
                    <a:lnTo>
                      <a:pt x="40" y="21"/>
                    </a:lnTo>
                    <a:lnTo>
                      <a:pt x="42" y="24"/>
                    </a:lnTo>
                    <a:lnTo>
                      <a:pt x="43" y="27"/>
                    </a:lnTo>
                    <a:lnTo>
                      <a:pt x="44" y="30"/>
                    </a:lnTo>
                    <a:lnTo>
                      <a:pt x="46" y="34"/>
                    </a:lnTo>
                    <a:lnTo>
                      <a:pt x="47" y="37"/>
                    </a:lnTo>
                    <a:lnTo>
                      <a:pt x="49" y="41"/>
                    </a:lnTo>
                    <a:lnTo>
                      <a:pt x="50" y="44"/>
                    </a:lnTo>
                    <a:lnTo>
                      <a:pt x="52" y="48"/>
                    </a:lnTo>
                    <a:lnTo>
                      <a:pt x="54" y="51"/>
                    </a:lnTo>
                    <a:lnTo>
                      <a:pt x="58" y="58"/>
                    </a:lnTo>
                    <a:lnTo>
                      <a:pt x="62" y="63"/>
                    </a:lnTo>
                    <a:lnTo>
                      <a:pt x="65" y="67"/>
                    </a:lnTo>
                    <a:lnTo>
                      <a:pt x="67" y="70"/>
                    </a:lnTo>
                    <a:lnTo>
                      <a:pt x="69" y="72"/>
                    </a:lnTo>
                    <a:lnTo>
                      <a:pt x="70" y="74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1" y="75"/>
                    </a:lnTo>
                    <a:lnTo>
                      <a:pt x="71" y="76"/>
                    </a:lnTo>
                    <a:lnTo>
                      <a:pt x="71" y="77"/>
                    </a:lnTo>
                    <a:lnTo>
                      <a:pt x="72" y="79"/>
                    </a:lnTo>
                    <a:lnTo>
                      <a:pt x="73" y="80"/>
                    </a:lnTo>
                    <a:lnTo>
                      <a:pt x="75" y="83"/>
                    </a:lnTo>
                    <a:lnTo>
                      <a:pt x="77" y="85"/>
                    </a:lnTo>
                    <a:lnTo>
                      <a:pt x="81" y="86"/>
                    </a:lnTo>
                    <a:lnTo>
                      <a:pt x="82" y="87"/>
                    </a:lnTo>
                    <a:lnTo>
                      <a:pt x="84" y="87"/>
                    </a:lnTo>
                    <a:lnTo>
                      <a:pt x="84" y="86"/>
                    </a:lnTo>
                    <a:lnTo>
                      <a:pt x="85" y="85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6" y="78"/>
                    </a:lnTo>
                    <a:lnTo>
                      <a:pt x="86" y="75"/>
                    </a:lnTo>
                    <a:lnTo>
                      <a:pt x="85" y="72"/>
                    </a:lnTo>
                    <a:lnTo>
                      <a:pt x="85" y="70"/>
                    </a:lnTo>
                    <a:lnTo>
                      <a:pt x="85" y="67"/>
                    </a:lnTo>
                    <a:lnTo>
                      <a:pt x="84" y="65"/>
                    </a:lnTo>
                    <a:lnTo>
                      <a:pt x="84" y="63"/>
                    </a:lnTo>
                    <a:lnTo>
                      <a:pt x="84" y="61"/>
                    </a:lnTo>
                    <a:lnTo>
                      <a:pt x="83" y="60"/>
                    </a:lnTo>
                    <a:lnTo>
                      <a:pt x="83" y="60"/>
                    </a:lnTo>
                    <a:lnTo>
                      <a:pt x="84" y="60"/>
                    </a:lnTo>
                    <a:lnTo>
                      <a:pt x="84" y="59"/>
                    </a:lnTo>
                    <a:lnTo>
                      <a:pt x="84" y="58"/>
                    </a:lnTo>
                    <a:lnTo>
                      <a:pt x="85" y="56"/>
                    </a:lnTo>
                    <a:lnTo>
                      <a:pt x="86" y="54"/>
                    </a:lnTo>
                    <a:lnTo>
                      <a:pt x="87" y="52"/>
                    </a:lnTo>
                    <a:lnTo>
                      <a:pt x="88" y="49"/>
                    </a:lnTo>
                    <a:lnTo>
                      <a:pt x="89" y="47"/>
                    </a:lnTo>
                    <a:lnTo>
                      <a:pt x="90" y="45"/>
                    </a:lnTo>
                    <a:lnTo>
                      <a:pt x="91" y="43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5" y="41"/>
                    </a:lnTo>
                    <a:lnTo>
                      <a:pt x="97" y="41"/>
                    </a:lnTo>
                    <a:lnTo>
                      <a:pt x="98" y="42"/>
                    </a:lnTo>
                    <a:lnTo>
                      <a:pt x="100" y="44"/>
                    </a:lnTo>
                    <a:lnTo>
                      <a:pt x="101" y="47"/>
                    </a:lnTo>
                    <a:lnTo>
                      <a:pt x="102" y="50"/>
                    </a:lnTo>
                    <a:lnTo>
                      <a:pt x="102" y="52"/>
                    </a:lnTo>
                    <a:lnTo>
                      <a:pt x="103" y="55"/>
                    </a:lnTo>
                    <a:lnTo>
                      <a:pt x="103" y="58"/>
                    </a:lnTo>
                    <a:lnTo>
                      <a:pt x="103" y="60"/>
                    </a:lnTo>
                    <a:lnTo>
                      <a:pt x="102" y="63"/>
                    </a:lnTo>
                    <a:lnTo>
                      <a:pt x="102" y="65"/>
                    </a:lnTo>
                    <a:lnTo>
                      <a:pt x="101" y="68"/>
                    </a:lnTo>
                    <a:lnTo>
                      <a:pt x="100" y="71"/>
                    </a:lnTo>
                    <a:lnTo>
                      <a:pt x="100" y="74"/>
                    </a:lnTo>
                    <a:lnTo>
                      <a:pt x="100" y="77"/>
                    </a:lnTo>
                    <a:lnTo>
                      <a:pt x="100" y="81"/>
                    </a:lnTo>
                    <a:lnTo>
                      <a:pt x="99" y="86"/>
                    </a:lnTo>
                    <a:lnTo>
                      <a:pt x="99" y="90"/>
                    </a:lnTo>
                    <a:lnTo>
                      <a:pt x="100" y="95"/>
                    </a:lnTo>
                    <a:lnTo>
                      <a:pt x="100" y="100"/>
                    </a:lnTo>
                    <a:lnTo>
                      <a:pt x="100" y="105"/>
                    </a:lnTo>
                    <a:lnTo>
                      <a:pt x="100" y="110"/>
                    </a:lnTo>
                    <a:lnTo>
                      <a:pt x="100" y="114"/>
                    </a:lnTo>
                    <a:lnTo>
                      <a:pt x="100" y="118"/>
                    </a:lnTo>
                    <a:lnTo>
                      <a:pt x="99" y="122"/>
                    </a:lnTo>
                    <a:lnTo>
                      <a:pt x="99" y="125"/>
                    </a:lnTo>
                    <a:lnTo>
                      <a:pt x="98" y="128"/>
                    </a:lnTo>
                    <a:lnTo>
                      <a:pt x="97" y="131"/>
                    </a:lnTo>
                    <a:lnTo>
                      <a:pt x="97" y="134"/>
                    </a:lnTo>
                    <a:lnTo>
                      <a:pt x="96" y="136"/>
                    </a:lnTo>
                    <a:lnTo>
                      <a:pt x="96" y="137"/>
                    </a:lnTo>
                    <a:lnTo>
                      <a:pt x="95" y="139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5" y="140"/>
                    </a:lnTo>
                    <a:lnTo>
                      <a:pt x="89" y="164"/>
                    </a:lnTo>
                    <a:lnTo>
                      <a:pt x="110" y="197"/>
                    </a:lnTo>
                    <a:lnTo>
                      <a:pt x="45" y="234"/>
                    </a:lnTo>
                    <a:lnTo>
                      <a:pt x="37" y="20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22720" y="3591000"/>
                <a:ext cx="15840" cy="11088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0" y="3"/>
                    </a:moveTo>
                    <a:lnTo>
                      <a:pt x="0" y="2"/>
                    </a:lnTo>
                    <a:lnTo>
                      <a:pt x="2" y="49"/>
                    </a:lnTo>
                    <a:lnTo>
                      <a:pt x="7" y="48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50000" y="34606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"/>
                    </a:moveTo>
                    <a:lnTo>
                      <a:pt x="0" y="2"/>
                    </a:lnTo>
                    <a:lnTo>
                      <a:pt x="33" y="61"/>
                    </a:lnTo>
                    <a:lnTo>
                      <a:pt x="37" y="58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44960" y="3224160"/>
                <a:ext cx="23760" cy="238320"/>
              </a:xfrm>
              <a:custGeom>
                <a:avLst/>
                <a:gdLst/>
                <a:ahLst/>
                <a:rect l="l" t="t" r="r" b="b"/>
                <a:pathLst>
                  <a:path w="11" h="106">
                    <a:moveTo>
                      <a:pt x="11" y="0"/>
                    </a:moveTo>
                    <a:lnTo>
                      <a:pt x="11" y="0"/>
                    </a:lnTo>
                    <a:lnTo>
                      <a:pt x="7" y="2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2" y="18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1" y="90"/>
                    </a:lnTo>
                    <a:lnTo>
                      <a:pt x="1" y="97"/>
                    </a:lnTo>
                    <a:lnTo>
                      <a:pt x="1" y="102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5" y="89"/>
                    </a:lnTo>
                    <a:lnTo>
                      <a:pt x="5" y="82"/>
                    </a:lnTo>
                    <a:lnTo>
                      <a:pt x="5" y="73"/>
                    </a:lnTo>
                    <a:lnTo>
                      <a:pt x="5" y="64"/>
                    </a:lnTo>
                    <a:lnTo>
                      <a:pt x="5" y="54"/>
                    </a:lnTo>
                    <a:lnTo>
                      <a:pt x="5" y="44"/>
                    </a:lnTo>
                    <a:lnTo>
                      <a:pt x="5" y="35"/>
                    </a:lnTo>
                    <a:lnTo>
                      <a:pt x="5" y="27"/>
                    </a:lnTo>
                    <a:lnTo>
                      <a:pt x="6" y="19"/>
                    </a:lnTo>
                    <a:lnTo>
                      <a:pt x="8" y="13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68720" y="3224160"/>
                <a:ext cx="52560" cy="10152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43"/>
                    </a:moveTo>
                    <a:lnTo>
                      <a:pt x="23" y="44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1" y="34"/>
                    </a:lnTo>
                    <a:lnTo>
                      <a:pt x="20" y="30"/>
                    </a:lnTo>
                    <a:lnTo>
                      <a:pt x="19" y="27"/>
                    </a:lnTo>
                    <a:lnTo>
                      <a:pt x="18" y="22"/>
                    </a:lnTo>
                    <a:lnTo>
                      <a:pt x="16" y="18"/>
                    </a:lnTo>
                    <a:lnTo>
                      <a:pt x="15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7" y="10"/>
                    </a:lnTo>
                    <a:lnTo>
                      <a:pt x="9" y="13"/>
                    </a:lnTo>
                    <a:lnTo>
                      <a:pt x="10" y="17"/>
                    </a:lnTo>
                    <a:lnTo>
                      <a:pt x="12" y="20"/>
                    </a:lnTo>
                    <a:lnTo>
                      <a:pt x="13" y="24"/>
                    </a:lnTo>
                    <a:lnTo>
                      <a:pt x="15" y="28"/>
                    </a:lnTo>
                    <a:lnTo>
                      <a:pt x="16" y="31"/>
                    </a:lnTo>
                    <a:lnTo>
                      <a:pt x="16" y="35"/>
                    </a:lnTo>
                    <a:lnTo>
                      <a:pt x="17" y="38"/>
                    </a:lnTo>
                    <a:lnTo>
                      <a:pt x="18" y="40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9" y="45"/>
                    </a:lnTo>
                    <a:lnTo>
                      <a:pt x="18" y="44"/>
                    </a:lnTo>
                    <a:lnTo>
                      <a:pt x="19" y="44"/>
                    </a:lnTo>
                    <a:lnTo>
                      <a:pt x="19" y="45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11560" y="332100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26"/>
                    </a:moveTo>
                    <a:lnTo>
                      <a:pt x="18" y="2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4" y="26"/>
                    </a:lnTo>
                    <a:lnTo>
                      <a:pt x="18" y="24"/>
                    </a:lnTo>
                    <a:lnTo>
                      <a:pt x="14" y="26"/>
                    </a:lnTo>
                    <a:lnTo>
                      <a:pt x="25" y="46"/>
                    </a:lnTo>
                    <a:lnTo>
                      <a:pt x="18" y="24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22720" y="3322800"/>
                <a:ext cx="28800" cy="5688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1"/>
                    </a:moveTo>
                    <a:lnTo>
                      <a:pt x="0" y="1"/>
                    </a:lnTo>
                    <a:lnTo>
                      <a:pt x="9" y="25"/>
                    </a:lnTo>
                    <a:lnTo>
                      <a:pt x="13" y="2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05440" y="324000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6" y="1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5" y="29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7" y="37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4"/>
                    </a:lnTo>
                    <a:lnTo>
                      <a:pt x="7" y="21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13360" y="3241800"/>
                <a:ext cx="60120" cy="10620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7" y="45"/>
                    </a:moveTo>
                    <a:lnTo>
                      <a:pt x="27" y="45"/>
                    </a:lnTo>
                    <a:lnTo>
                      <a:pt x="25" y="41"/>
                    </a:lnTo>
                    <a:lnTo>
                      <a:pt x="24" y="38"/>
                    </a:lnTo>
                    <a:lnTo>
                      <a:pt x="22" y="34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8" y="24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5"/>
                    </a:lnTo>
                    <a:lnTo>
                      <a:pt x="13" y="12"/>
                    </a:lnTo>
                    <a:lnTo>
                      <a:pt x="11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8" y="14"/>
                    </a:lnTo>
                    <a:lnTo>
                      <a:pt x="9" y="17"/>
                    </a:lnTo>
                    <a:lnTo>
                      <a:pt x="11" y="20"/>
                    </a:lnTo>
                    <a:lnTo>
                      <a:pt x="12" y="23"/>
                    </a:lnTo>
                    <a:lnTo>
                      <a:pt x="13" y="26"/>
                    </a:lnTo>
                    <a:lnTo>
                      <a:pt x="15" y="30"/>
                    </a:lnTo>
                    <a:lnTo>
                      <a:pt x="16" y="33"/>
                    </a:lnTo>
                    <a:lnTo>
                      <a:pt x="18" y="36"/>
                    </a:lnTo>
                    <a:lnTo>
                      <a:pt x="19" y="40"/>
                    </a:lnTo>
                    <a:lnTo>
                      <a:pt x="21" y="44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65560" y="3343320"/>
                <a:ext cx="47880" cy="6012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25"/>
                    </a:moveTo>
                    <a:lnTo>
                      <a:pt x="20" y="23"/>
                    </a:lnTo>
                    <a:lnTo>
                      <a:pt x="20" y="23"/>
                    </a:lnTo>
                    <a:lnTo>
                      <a:pt x="20" y="22"/>
                    </a:lnTo>
                    <a:lnTo>
                      <a:pt x="18" y="21"/>
                    </a:lnTo>
                    <a:lnTo>
                      <a:pt x="17" y="19"/>
                    </a:lnTo>
                    <a:lnTo>
                      <a:pt x="14" y="16"/>
                    </a:lnTo>
                    <a:lnTo>
                      <a:pt x="12" y="12"/>
                    </a:lnTo>
                    <a:lnTo>
                      <a:pt x="8" y="7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7" y="14"/>
                    </a:lnTo>
                    <a:lnTo>
                      <a:pt x="10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0" y="23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02280" y="3397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1"/>
                    </a:moveTo>
                    <a:lnTo>
                      <a:pt x="12" y="11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7" y="12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24600" y="3363840"/>
                <a:ext cx="20520" cy="6660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9" y="10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29280" y="331632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21" y="5"/>
                    </a:moveTo>
                    <a:lnTo>
                      <a:pt x="21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65640" y="3327480"/>
                <a:ext cx="17640" cy="117360"/>
              </a:xfrm>
              <a:custGeom>
                <a:avLst/>
                <a:gdLst/>
                <a:ahLst/>
                <a:rect l="l" t="t" r="r" b="b"/>
                <a:pathLst>
                  <a:path w="8" h="52">
                    <a:moveTo>
                      <a:pt x="5" y="52"/>
                    </a:moveTo>
                    <a:lnTo>
                      <a:pt x="5" y="52"/>
                    </a:lnTo>
                    <a:lnTo>
                      <a:pt x="5" y="47"/>
                    </a:lnTo>
                    <a:lnTo>
                      <a:pt x="5" y="43"/>
                    </a:lnTo>
                    <a:lnTo>
                      <a:pt x="5" y="39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54480" y="3444840"/>
                <a:ext cx="24120" cy="10332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5" y="46"/>
                    </a:moveTo>
                    <a:lnTo>
                      <a:pt x="5" y="46"/>
                    </a:lnTo>
                    <a:lnTo>
                      <a:pt x="5" y="46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7" y="41"/>
                    </a:lnTo>
                    <a:lnTo>
                      <a:pt x="8" y="39"/>
                    </a:lnTo>
                    <a:lnTo>
                      <a:pt x="8" y="36"/>
                    </a:lnTo>
                    <a:lnTo>
                      <a:pt x="8" y="33"/>
                    </a:lnTo>
                    <a:lnTo>
                      <a:pt x="9" y="30"/>
                    </a:lnTo>
                    <a:lnTo>
                      <a:pt x="9" y="27"/>
                    </a:lnTo>
                    <a:lnTo>
                      <a:pt x="10" y="24"/>
                    </a:lnTo>
                    <a:lnTo>
                      <a:pt x="10" y="19"/>
                    </a:lnTo>
                    <a:lnTo>
                      <a:pt x="11" y="15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6" y="10"/>
                    </a:lnTo>
                    <a:lnTo>
                      <a:pt x="6" y="15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3" y="36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40440" y="3546360"/>
                <a:ext cx="25200" cy="558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5" y="23"/>
                    </a:moveTo>
                    <a:lnTo>
                      <a:pt x="5" y="25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43680" y="3597120"/>
                <a:ext cx="58680" cy="810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5" y="36"/>
                    </a:moveTo>
                    <a:lnTo>
                      <a:pt x="26" y="3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1" y="35"/>
                    </a:lnTo>
                    <a:lnTo>
                      <a:pt x="22" y="32"/>
                    </a:lnTo>
                    <a:lnTo>
                      <a:pt x="25" y="36"/>
                    </a:lnTo>
                    <a:lnTo>
                      <a:pt x="27" y="35"/>
                    </a:lnTo>
                    <a:lnTo>
                      <a:pt x="26" y="33"/>
                    </a:lnTo>
                    <a:lnTo>
                      <a:pt x="2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45040" y="3670200"/>
                <a:ext cx="154080" cy="96840"/>
              </a:xfrm>
              <a:custGeom>
                <a:avLst/>
                <a:gdLst/>
                <a:ahLst/>
                <a:rect l="l" t="t" r="r" b="b"/>
                <a:pathLst>
                  <a:path w="69" h="43">
                    <a:moveTo>
                      <a:pt x="0" y="40"/>
                    </a:moveTo>
                    <a:lnTo>
                      <a:pt x="3" y="41"/>
                    </a:lnTo>
                    <a:lnTo>
                      <a:pt x="69" y="4"/>
                    </a:lnTo>
                    <a:lnTo>
                      <a:pt x="66" y="0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7760" y="3699000"/>
                <a:ext cx="27000" cy="6012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1"/>
                    </a:moveTo>
                    <a:lnTo>
                      <a:pt x="0" y="1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67120" y="3083040"/>
                <a:ext cx="271440" cy="484200"/>
              </a:xfrm>
              <a:custGeom>
                <a:avLst/>
                <a:gdLst/>
                <a:ahLst/>
                <a:rect l="l" t="t" r="r" b="b"/>
                <a:pathLst>
                  <a:path w="122" h="215">
                    <a:moveTo>
                      <a:pt x="122" y="0"/>
                    </a:moveTo>
                    <a:lnTo>
                      <a:pt x="113" y="10"/>
                    </a:lnTo>
                    <a:lnTo>
                      <a:pt x="14" y="48"/>
                    </a:lnTo>
                    <a:lnTo>
                      <a:pt x="60" y="215"/>
                    </a:lnTo>
                    <a:lnTo>
                      <a:pt x="47" y="206"/>
                    </a:lnTo>
                    <a:lnTo>
                      <a:pt x="0" y="39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1804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12"/>
                    </a:moveTo>
                    <a:lnTo>
                      <a:pt x="1" y="12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94120" y="3102120"/>
                <a:ext cx="227160" cy="93600"/>
              </a:xfrm>
              <a:custGeom>
                <a:avLst/>
                <a:gdLst/>
                <a:ahLst/>
                <a:rect l="l" t="t" r="r" b="b"/>
                <a:pathLst>
                  <a:path w="102" h="41">
                    <a:moveTo>
                      <a:pt x="3" y="39"/>
                    </a:moveTo>
                    <a:lnTo>
                      <a:pt x="2" y="41"/>
                    </a:lnTo>
                    <a:lnTo>
                      <a:pt x="102" y="2"/>
                    </a:lnTo>
                    <a:lnTo>
                      <a:pt x="101" y="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94120" y="3191040"/>
                <a:ext cx="112680" cy="382320"/>
              </a:xfrm>
              <a:custGeom>
                <a:avLst/>
                <a:gdLst/>
                <a:ahLst/>
                <a:rect l="l" t="t" r="r" b="b"/>
                <a:pathLst>
                  <a:path w="51" h="170">
                    <a:moveTo>
                      <a:pt x="48" y="168"/>
                    </a:moveTo>
                    <a:lnTo>
                      <a:pt x="50" y="167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47" y="168"/>
                    </a:lnTo>
                    <a:lnTo>
                      <a:pt x="49" y="166"/>
                    </a:lnTo>
                    <a:lnTo>
                      <a:pt x="48" y="168"/>
                    </a:lnTo>
                    <a:lnTo>
                      <a:pt x="51" y="170"/>
                    </a:lnTo>
                    <a:lnTo>
                      <a:pt x="50" y="167"/>
                    </a:lnTo>
                    <a:lnTo>
                      <a:pt x="48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67200" y="3543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2"/>
                    </a:moveTo>
                    <a:lnTo>
                      <a:pt x="1" y="3"/>
                    </a:lnTo>
                    <a:lnTo>
                      <a:pt x="15" y="11"/>
                    </a:lnTo>
                    <a:lnTo>
                      <a:pt x="16" y="9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65680" y="3166920"/>
                <a:ext cx="108000" cy="381240"/>
              </a:xfrm>
              <a:custGeom>
                <a:avLst/>
                <a:gdLst/>
                <a:ahLst/>
                <a:rect l="l" t="t" r="r" b="b"/>
                <a:pathLst>
                  <a:path w="49" h="169">
                    <a:moveTo>
                      <a:pt x="1" y="0"/>
                    </a:moveTo>
                    <a:lnTo>
                      <a:pt x="0" y="2"/>
                    </a:lnTo>
                    <a:lnTo>
                      <a:pt x="46" y="169"/>
                    </a:lnTo>
                    <a:lnTo>
                      <a:pt x="49" y="168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67120" y="3075120"/>
                <a:ext cx="279720" cy="997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3" y="4"/>
                    </a:moveTo>
                    <a:lnTo>
                      <a:pt x="122" y="2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23" y="4"/>
                    </a:lnTo>
                    <a:lnTo>
                      <a:pt x="122" y="2"/>
                    </a:lnTo>
                    <a:lnTo>
                      <a:pt x="123" y="4"/>
                    </a:lnTo>
                    <a:lnTo>
                      <a:pt x="126" y="0"/>
                    </a:lnTo>
                    <a:lnTo>
                      <a:pt x="122" y="2"/>
                    </a:lnTo>
                    <a:lnTo>
                      <a:pt x="1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82960" y="3567240"/>
                <a:ext cx="117720" cy="217440"/>
              </a:xfrm>
              <a:custGeom>
                <a:avLst/>
                <a:gdLst/>
                <a:ahLst/>
                <a:rect l="l" t="t" r="r" b="b"/>
                <a:pathLst>
                  <a:path w="53" h="97">
                    <a:moveTo>
                      <a:pt x="6" y="64"/>
                    </a:moveTo>
                    <a:lnTo>
                      <a:pt x="0" y="97"/>
                    </a:lnTo>
                    <a:lnTo>
                      <a:pt x="53" y="0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78280" y="3708360"/>
                <a:ext cx="20880" cy="90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1" y="33"/>
                    </a:moveTo>
                    <a:lnTo>
                      <a:pt x="3" y="34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40"/>
                    </a:lnTo>
                    <a:lnTo>
                      <a:pt x="3" y="34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80080" y="3567240"/>
                <a:ext cx="125280" cy="21744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4" y="0"/>
                    </a:moveTo>
                    <a:lnTo>
                      <a:pt x="54" y="0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56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79920" y="3240000"/>
                <a:ext cx="208080" cy="500040"/>
              </a:xfrm>
              <a:custGeom>
                <a:avLst/>
                <a:gdLst/>
                <a:ahLst/>
                <a:rect l="l" t="t" r="r" b="b"/>
                <a:pathLst>
                  <a:path w="93" h="222">
                    <a:moveTo>
                      <a:pt x="0" y="0"/>
                    </a:moveTo>
                    <a:lnTo>
                      <a:pt x="5" y="78"/>
                    </a:lnTo>
                    <a:lnTo>
                      <a:pt x="31" y="82"/>
                    </a:lnTo>
                    <a:lnTo>
                      <a:pt x="15" y="101"/>
                    </a:lnTo>
                    <a:lnTo>
                      <a:pt x="93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78480" y="3240000"/>
                <a:ext cx="17280" cy="177840"/>
              </a:xfrm>
              <a:custGeom>
                <a:avLst/>
                <a:gdLst/>
                <a:ahLst/>
                <a:rect l="l" t="t" r="r" b="b"/>
                <a:pathLst>
                  <a:path w="8" h="79">
                    <a:moveTo>
                      <a:pt x="7" y="76"/>
                    </a:moveTo>
                    <a:lnTo>
                      <a:pt x="8" y="7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78"/>
                    </a:lnTo>
                    <a:lnTo>
                      <a:pt x="6" y="79"/>
                    </a:lnTo>
                    <a:lnTo>
                      <a:pt x="5" y="78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91080" y="3411360"/>
                <a:ext cx="65160" cy="1620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7" y="6"/>
                    </a:moveTo>
                    <a:lnTo>
                      <a:pt x="27" y="5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11600" y="3422520"/>
                <a:ext cx="39600" cy="478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3" y="20"/>
                    </a:moveTo>
                    <a:lnTo>
                      <a:pt x="2" y="21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13400" y="3467160"/>
                <a:ext cx="176040" cy="274680"/>
              </a:xfrm>
              <a:custGeom>
                <a:avLst/>
                <a:gdLst/>
                <a:ahLst/>
                <a:rect l="l" t="t" r="r" b="b"/>
                <a:pathLst>
                  <a:path w="79" h="122">
                    <a:moveTo>
                      <a:pt x="78" y="121"/>
                    </a:moveTo>
                    <a:lnTo>
                      <a:pt x="79" y="12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7" y="122"/>
                    </a:lnTo>
                    <a:lnTo>
                      <a:pt x="78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06880" y="3290760"/>
                <a:ext cx="349200" cy="822600"/>
              </a:xfrm>
              <a:custGeom>
                <a:avLst/>
                <a:gdLst/>
                <a:ahLst/>
                <a:rect l="l" t="t" r="r" b="b"/>
                <a:pathLst>
                  <a:path w="157" h="365">
                    <a:moveTo>
                      <a:pt x="108" y="0"/>
                    </a:moveTo>
                    <a:lnTo>
                      <a:pt x="109" y="1"/>
                    </a:lnTo>
                    <a:lnTo>
                      <a:pt x="110" y="3"/>
                    </a:lnTo>
                    <a:lnTo>
                      <a:pt x="111" y="6"/>
                    </a:lnTo>
                    <a:lnTo>
                      <a:pt x="112" y="10"/>
                    </a:lnTo>
                    <a:lnTo>
                      <a:pt x="113" y="14"/>
                    </a:lnTo>
                    <a:lnTo>
                      <a:pt x="115" y="19"/>
                    </a:lnTo>
                    <a:lnTo>
                      <a:pt x="116" y="25"/>
                    </a:lnTo>
                    <a:lnTo>
                      <a:pt x="118" y="31"/>
                    </a:lnTo>
                    <a:lnTo>
                      <a:pt x="119" y="37"/>
                    </a:lnTo>
                    <a:lnTo>
                      <a:pt x="120" y="44"/>
                    </a:lnTo>
                    <a:lnTo>
                      <a:pt x="122" y="51"/>
                    </a:lnTo>
                    <a:lnTo>
                      <a:pt x="123" y="58"/>
                    </a:lnTo>
                    <a:lnTo>
                      <a:pt x="124" y="66"/>
                    </a:lnTo>
                    <a:lnTo>
                      <a:pt x="126" y="73"/>
                    </a:lnTo>
                    <a:lnTo>
                      <a:pt x="128" y="81"/>
                    </a:lnTo>
                    <a:lnTo>
                      <a:pt x="129" y="89"/>
                    </a:lnTo>
                    <a:lnTo>
                      <a:pt x="130" y="96"/>
                    </a:lnTo>
                    <a:lnTo>
                      <a:pt x="131" y="104"/>
                    </a:lnTo>
                    <a:lnTo>
                      <a:pt x="133" y="112"/>
                    </a:lnTo>
                    <a:lnTo>
                      <a:pt x="134" y="119"/>
                    </a:lnTo>
                    <a:lnTo>
                      <a:pt x="135" y="126"/>
                    </a:lnTo>
                    <a:lnTo>
                      <a:pt x="137" y="133"/>
                    </a:lnTo>
                    <a:lnTo>
                      <a:pt x="137" y="139"/>
                    </a:lnTo>
                    <a:lnTo>
                      <a:pt x="138" y="145"/>
                    </a:lnTo>
                    <a:lnTo>
                      <a:pt x="139" y="151"/>
                    </a:lnTo>
                    <a:lnTo>
                      <a:pt x="140" y="156"/>
                    </a:lnTo>
                    <a:lnTo>
                      <a:pt x="141" y="160"/>
                    </a:lnTo>
                    <a:lnTo>
                      <a:pt x="141" y="164"/>
                    </a:lnTo>
                    <a:lnTo>
                      <a:pt x="142" y="166"/>
                    </a:lnTo>
                    <a:lnTo>
                      <a:pt x="142" y="169"/>
                    </a:lnTo>
                    <a:lnTo>
                      <a:pt x="142" y="170"/>
                    </a:lnTo>
                    <a:lnTo>
                      <a:pt x="142" y="171"/>
                    </a:lnTo>
                    <a:lnTo>
                      <a:pt x="157" y="284"/>
                    </a:lnTo>
                    <a:lnTo>
                      <a:pt x="126" y="342"/>
                    </a:lnTo>
                    <a:lnTo>
                      <a:pt x="125" y="343"/>
                    </a:lnTo>
                    <a:lnTo>
                      <a:pt x="124" y="343"/>
                    </a:lnTo>
                    <a:lnTo>
                      <a:pt x="122" y="345"/>
                    </a:lnTo>
                    <a:lnTo>
                      <a:pt x="119" y="346"/>
                    </a:lnTo>
                    <a:lnTo>
                      <a:pt x="116" y="349"/>
                    </a:lnTo>
                    <a:lnTo>
                      <a:pt x="112" y="351"/>
                    </a:lnTo>
                    <a:lnTo>
                      <a:pt x="108" y="353"/>
                    </a:lnTo>
                    <a:lnTo>
                      <a:pt x="104" y="355"/>
                    </a:lnTo>
                    <a:lnTo>
                      <a:pt x="99" y="357"/>
                    </a:lnTo>
                    <a:lnTo>
                      <a:pt x="95" y="360"/>
                    </a:lnTo>
                    <a:lnTo>
                      <a:pt x="90" y="362"/>
                    </a:lnTo>
                    <a:lnTo>
                      <a:pt x="86" y="363"/>
                    </a:lnTo>
                    <a:lnTo>
                      <a:pt x="82" y="364"/>
                    </a:lnTo>
                    <a:lnTo>
                      <a:pt x="79" y="365"/>
                    </a:lnTo>
                    <a:lnTo>
                      <a:pt x="76" y="365"/>
                    </a:lnTo>
                    <a:lnTo>
                      <a:pt x="74" y="364"/>
                    </a:lnTo>
                    <a:lnTo>
                      <a:pt x="69" y="360"/>
                    </a:lnTo>
                    <a:lnTo>
                      <a:pt x="65" y="354"/>
                    </a:lnTo>
                    <a:lnTo>
                      <a:pt x="61" y="349"/>
                    </a:lnTo>
                    <a:lnTo>
                      <a:pt x="57" y="343"/>
                    </a:lnTo>
                    <a:lnTo>
                      <a:pt x="53" y="336"/>
                    </a:lnTo>
                    <a:lnTo>
                      <a:pt x="49" y="329"/>
                    </a:lnTo>
                    <a:lnTo>
                      <a:pt x="46" y="321"/>
                    </a:lnTo>
                    <a:lnTo>
                      <a:pt x="43" y="313"/>
                    </a:lnTo>
                    <a:lnTo>
                      <a:pt x="39" y="305"/>
                    </a:lnTo>
                    <a:lnTo>
                      <a:pt x="36" y="297"/>
                    </a:lnTo>
                    <a:lnTo>
                      <a:pt x="33" y="288"/>
                    </a:lnTo>
                    <a:lnTo>
                      <a:pt x="30" y="279"/>
                    </a:lnTo>
                    <a:lnTo>
                      <a:pt x="27" y="270"/>
                    </a:lnTo>
                    <a:lnTo>
                      <a:pt x="24" y="261"/>
                    </a:lnTo>
                    <a:lnTo>
                      <a:pt x="22" y="252"/>
                    </a:lnTo>
                    <a:lnTo>
                      <a:pt x="19" y="244"/>
                    </a:lnTo>
                    <a:lnTo>
                      <a:pt x="17" y="235"/>
                    </a:lnTo>
                    <a:lnTo>
                      <a:pt x="15" y="226"/>
                    </a:lnTo>
                    <a:lnTo>
                      <a:pt x="13" y="218"/>
                    </a:lnTo>
                    <a:lnTo>
                      <a:pt x="11" y="210"/>
                    </a:lnTo>
                    <a:lnTo>
                      <a:pt x="9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5" y="182"/>
                    </a:lnTo>
                    <a:lnTo>
                      <a:pt x="4" y="176"/>
                    </a:lnTo>
                    <a:lnTo>
                      <a:pt x="3" y="171"/>
                    </a:lnTo>
                    <a:lnTo>
                      <a:pt x="2" y="166"/>
                    </a:lnTo>
                    <a:lnTo>
                      <a:pt x="2" y="163"/>
                    </a:lnTo>
                    <a:lnTo>
                      <a:pt x="1" y="160"/>
                    </a:lnTo>
                    <a:lnTo>
                      <a:pt x="1" y="157"/>
                    </a:lnTo>
                    <a:lnTo>
                      <a:pt x="0" y="156"/>
                    </a:lnTo>
                    <a:lnTo>
                      <a:pt x="0" y="155"/>
                    </a:lnTo>
                    <a:lnTo>
                      <a:pt x="1" y="155"/>
                    </a:lnTo>
                    <a:lnTo>
                      <a:pt x="3" y="154"/>
                    </a:lnTo>
                    <a:lnTo>
                      <a:pt x="6" y="154"/>
                    </a:lnTo>
                    <a:lnTo>
                      <a:pt x="10" y="152"/>
                    </a:lnTo>
                    <a:lnTo>
                      <a:pt x="14" y="151"/>
                    </a:lnTo>
                    <a:lnTo>
                      <a:pt x="20" y="149"/>
                    </a:lnTo>
                    <a:lnTo>
                      <a:pt x="25" y="147"/>
                    </a:lnTo>
                    <a:lnTo>
                      <a:pt x="31" y="144"/>
                    </a:lnTo>
                    <a:lnTo>
                      <a:pt x="38" y="142"/>
                    </a:lnTo>
                    <a:lnTo>
                      <a:pt x="44" y="139"/>
                    </a:lnTo>
                    <a:lnTo>
                      <a:pt x="50" y="136"/>
                    </a:lnTo>
                    <a:lnTo>
                      <a:pt x="56" y="133"/>
                    </a:lnTo>
                    <a:lnTo>
                      <a:pt x="62" y="130"/>
                    </a:lnTo>
                    <a:lnTo>
                      <a:pt x="66" y="127"/>
                    </a:lnTo>
                    <a:lnTo>
                      <a:pt x="71" y="123"/>
                    </a:lnTo>
                    <a:lnTo>
                      <a:pt x="74" y="120"/>
                    </a:lnTo>
                    <a:lnTo>
                      <a:pt x="124" y="229"/>
                    </a:lnTo>
                    <a:lnTo>
                      <a:pt x="84" y="135"/>
                    </a:lnTo>
                    <a:lnTo>
                      <a:pt x="84" y="135"/>
                    </a:lnTo>
                    <a:lnTo>
                      <a:pt x="84" y="134"/>
                    </a:lnTo>
                    <a:lnTo>
                      <a:pt x="84" y="132"/>
                    </a:lnTo>
                    <a:lnTo>
                      <a:pt x="84" y="129"/>
                    </a:lnTo>
                    <a:lnTo>
                      <a:pt x="84" y="126"/>
                    </a:lnTo>
                    <a:lnTo>
                      <a:pt x="85" y="122"/>
                    </a:lnTo>
                    <a:lnTo>
                      <a:pt x="85" y="118"/>
                    </a:lnTo>
                    <a:lnTo>
                      <a:pt x="86" y="113"/>
                    </a:lnTo>
                    <a:lnTo>
                      <a:pt x="87" y="108"/>
                    </a:lnTo>
                    <a:lnTo>
                      <a:pt x="87" y="102"/>
                    </a:lnTo>
                    <a:lnTo>
                      <a:pt x="88" y="96"/>
                    </a:lnTo>
                    <a:lnTo>
                      <a:pt x="88" y="90"/>
                    </a:lnTo>
                    <a:lnTo>
                      <a:pt x="89" y="84"/>
                    </a:lnTo>
                    <a:lnTo>
                      <a:pt x="90" y="77"/>
                    </a:lnTo>
                    <a:lnTo>
                      <a:pt x="91" y="71"/>
                    </a:lnTo>
                    <a:lnTo>
                      <a:pt x="92" y="64"/>
                    </a:lnTo>
                    <a:lnTo>
                      <a:pt x="93" y="58"/>
                    </a:lnTo>
                    <a:lnTo>
                      <a:pt x="93" y="51"/>
                    </a:lnTo>
                    <a:lnTo>
                      <a:pt x="95" y="45"/>
                    </a:lnTo>
                    <a:lnTo>
                      <a:pt x="96" y="39"/>
                    </a:lnTo>
                    <a:lnTo>
                      <a:pt x="96" y="33"/>
                    </a:lnTo>
                    <a:lnTo>
                      <a:pt x="98" y="27"/>
                    </a:lnTo>
                    <a:lnTo>
                      <a:pt x="99" y="22"/>
                    </a:lnTo>
                    <a:lnTo>
                      <a:pt x="99" y="17"/>
                    </a:lnTo>
                    <a:lnTo>
                      <a:pt x="101" y="13"/>
                    </a:lnTo>
                    <a:lnTo>
                      <a:pt x="102" y="9"/>
                    </a:lnTo>
                    <a:lnTo>
                      <a:pt x="103" y="6"/>
                    </a:lnTo>
                    <a:lnTo>
                      <a:pt x="104" y="3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43400" y="3287880"/>
                <a:ext cx="85680" cy="38880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39" y="172"/>
                    </a:moveTo>
                    <a:lnTo>
                      <a:pt x="39" y="172"/>
                    </a:lnTo>
                    <a:lnTo>
                      <a:pt x="39" y="172"/>
                    </a:lnTo>
                    <a:lnTo>
                      <a:pt x="38" y="170"/>
                    </a:lnTo>
                    <a:lnTo>
                      <a:pt x="38" y="168"/>
                    </a:lnTo>
                    <a:lnTo>
                      <a:pt x="37" y="165"/>
                    </a:lnTo>
                    <a:lnTo>
                      <a:pt x="37" y="162"/>
                    </a:lnTo>
                    <a:lnTo>
                      <a:pt x="37" y="157"/>
                    </a:lnTo>
                    <a:lnTo>
                      <a:pt x="36" y="152"/>
                    </a:lnTo>
                    <a:lnTo>
                      <a:pt x="35" y="147"/>
                    </a:lnTo>
                    <a:lnTo>
                      <a:pt x="34" y="141"/>
                    </a:lnTo>
                    <a:lnTo>
                      <a:pt x="33" y="134"/>
                    </a:lnTo>
                    <a:lnTo>
                      <a:pt x="31" y="128"/>
                    </a:lnTo>
                    <a:lnTo>
                      <a:pt x="31" y="121"/>
                    </a:lnTo>
                    <a:lnTo>
                      <a:pt x="29" y="113"/>
                    </a:lnTo>
                    <a:lnTo>
                      <a:pt x="28" y="106"/>
                    </a:lnTo>
                    <a:lnTo>
                      <a:pt x="27" y="98"/>
                    </a:lnTo>
                    <a:lnTo>
                      <a:pt x="25" y="91"/>
                    </a:lnTo>
                    <a:lnTo>
                      <a:pt x="24" y="83"/>
                    </a:lnTo>
                    <a:lnTo>
                      <a:pt x="22" y="75"/>
                    </a:lnTo>
                    <a:lnTo>
                      <a:pt x="21" y="67"/>
                    </a:lnTo>
                    <a:lnTo>
                      <a:pt x="20" y="60"/>
                    </a:lnTo>
                    <a:lnTo>
                      <a:pt x="18" y="52"/>
                    </a:lnTo>
                    <a:lnTo>
                      <a:pt x="17" y="45"/>
                    </a:lnTo>
                    <a:lnTo>
                      <a:pt x="15" y="38"/>
                    </a:lnTo>
                    <a:lnTo>
                      <a:pt x="14" y="32"/>
                    </a:lnTo>
                    <a:lnTo>
                      <a:pt x="12" y="26"/>
                    </a:lnTo>
                    <a:lnTo>
                      <a:pt x="11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7" y="7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9"/>
                    </a:lnTo>
                    <a:lnTo>
                      <a:pt x="4" y="13"/>
                    </a:lnTo>
                    <a:lnTo>
                      <a:pt x="5" y="17"/>
                    </a:lnTo>
                    <a:lnTo>
                      <a:pt x="6" y="22"/>
                    </a:lnTo>
                    <a:lnTo>
                      <a:pt x="8" y="27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2" y="46"/>
                    </a:lnTo>
                    <a:lnTo>
                      <a:pt x="13" y="53"/>
                    </a:lnTo>
                    <a:lnTo>
                      <a:pt x="15" y="61"/>
                    </a:lnTo>
                    <a:lnTo>
                      <a:pt x="16" y="68"/>
                    </a:lnTo>
                    <a:lnTo>
                      <a:pt x="18" y="76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9"/>
                    </a:lnTo>
                    <a:lnTo>
                      <a:pt x="23" y="106"/>
                    </a:lnTo>
                    <a:lnTo>
                      <a:pt x="25" y="114"/>
                    </a:lnTo>
                    <a:lnTo>
                      <a:pt x="26" y="121"/>
                    </a:lnTo>
                    <a:lnTo>
                      <a:pt x="27" y="128"/>
                    </a:lnTo>
                    <a:lnTo>
                      <a:pt x="28" y="135"/>
                    </a:lnTo>
                    <a:lnTo>
                      <a:pt x="29" y="142"/>
                    </a:lnTo>
                    <a:lnTo>
                      <a:pt x="30" y="148"/>
                    </a:lnTo>
                    <a:lnTo>
                      <a:pt x="31" y="153"/>
                    </a:lnTo>
                    <a:lnTo>
                      <a:pt x="31" y="158"/>
                    </a:lnTo>
                    <a:lnTo>
                      <a:pt x="32" y="162"/>
                    </a:lnTo>
                    <a:lnTo>
                      <a:pt x="33" y="166"/>
                    </a:lnTo>
                    <a:lnTo>
                      <a:pt x="33" y="169"/>
                    </a:lnTo>
                    <a:lnTo>
                      <a:pt x="34" y="171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9" y="172"/>
                    </a:lnTo>
                    <a:lnTo>
                      <a:pt x="39" y="172"/>
                    </a:lnTo>
                    <a:lnTo>
                      <a:pt x="3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318280" y="3675240"/>
                <a:ext cx="44280" cy="258480"/>
              </a:xfrm>
              <a:custGeom>
                <a:avLst/>
                <a:gdLst/>
                <a:ahLst/>
                <a:rect l="l" t="t" r="r" b="b"/>
                <a:pathLst>
                  <a:path w="20" h="115">
                    <a:moveTo>
                      <a:pt x="19" y="115"/>
                    </a:moveTo>
                    <a:lnTo>
                      <a:pt x="20" y="114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15" y="114"/>
                    </a:lnTo>
                    <a:lnTo>
                      <a:pt x="16" y="113"/>
                    </a:lnTo>
                    <a:lnTo>
                      <a:pt x="19" y="115"/>
                    </a:lnTo>
                    <a:lnTo>
                      <a:pt x="20" y="114"/>
                    </a:lnTo>
                    <a:lnTo>
                      <a:pt x="20" y="114"/>
                    </a:lnTo>
                    <a:lnTo>
                      <a:pt x="1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83360" y="3929040"/>
                <a:ext cx="77760" cy="1364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" y="61"/>
                    </a:moveTo>
                    <a:lnTo>
                      <a:pt x="4" y="60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67440" y="4057560"/>
                <a:ext cx="122040" cy="604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26"/>
                    </a:moveTo>
                    <a:lnTo>
                      <a:pt x="1" y="26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8" y="20"/>
                    </a:lnTo>
                    <a:lnTo>
                      <a:pt x="33" y="17"/>
                    </a:lnTo>
                    <a:lnTo>
                      <a:pt x="37" y="15"/>
                    </a:lnTo>
                    <a:lnTo>
                      <a:pt x="41" y="13"/>
                    </a:lnTo>
                    <a:lnTo>
                      <a:pt x="45" y="11"/>
                    </a:lnTo>
                    <a:lnTo>
                      <a:pt x="48" y="9"/>
                    </a:lnTo>
                    <a:lnTo>
                      <a:pt x="51" y="7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8" y="3"/>
                    </a:lnTo>
                    <a:lnTo>
                      <a:pt x="46" y="5"/>
                    </a:lnTo>
                    <a:lnTo>
                      <a:pt x="43" y="6"/>
                    </a:lnTo>
                    <a:lnTo>
                      <a:pt x="39" y="9"/>
                    </a:lnTo>
                    <a:lnTo>
                      <a:pt x="35" y="11"/>
                    </a:lnTo>
                    <a:lnTo>
                      <a:pt x="30" y="13"/>
                    </a:lnTo>
                    <a:lnTo>
                      <a:pt x="26" y="15"/>
                    </a:lnTo>
                    <a:lnTo>
                      <a:pt x="21" y="17"/>
                    </a:lnTo>
                    <a:lnTo>
                      <a:pt x="18" y="19"/>
                    </a:lnTo>
                    <a:lnTo>
                      <a:pt x="14" y="21"/>
                    </a:lnTo>
                    <a:lnTo>
                      <a:pt x="10" y="22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2200" y="3635280"/>
                <a:ext cx="171360" cy="480960"/>
              </a:xfrm>
              <a:custGeom>
                <a:avLst/>
                <a:gdLst/>
                <a:ahLst/>
                <a:rect l="l" t="t" r="r" b="b"/>
                <a:pathLst>
                  <a:path w="77" h="213">
                    <a:moveTo>
                      <a:pt x="2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3" y="18"/>
                    </a:lnTo>
                    <a:lnTo>
                      <a:pt x="4" y="24"/>
                    </a:lnTo>
                    <a:lnTo>
                      <a:pt x="5" y="30"/>
                    </a:lnTo>
                    <a:lnTo>
                      <a:pt x="6" y="36"/>
                    </a:lnTo>
                    <a:lnTo>
                      <a:pt x="7" y="43"/>
                    </a:lnTo>
                    <a:lnTo>
                      <a:pt x="9" y="50"/>
                    </a:lnTo>
                    <a:lnTo>
                      <a:pt x="11" y="58"/>
                    </a:lnTo>
                    <a:lnTo>
                      <a:pt x="13" y="66"/>
                    </a:lnTo>
                    <a:lnTo>
                      <a:pt x="14" y="74"/>
                    </a:lnTo>
                    <a:lnTo>
                      <a:pt x="16" y="82"/>
                    </a:lnTo>
                    <a:lnTo>
                      <a:pt x="19" y="91"/>
                    </a:lnTo>
                    <a:lnTo>
                      <a:pt x="21" y="100"/>
                    </a:lnTo>
                    <a:lnTo>
                      <a:pt x="24" y="109"/>
                    </a:lnTo>
                    <a:lnTo>
                      <a:pt x="27" y="118"/>
                    </a:lnTo>
                    <a:lnTo>
                      <a:pt x="29" y="127"/>
                    </a:lnTo>
                    <a:lnTo>
                      <a:pt x="32" y="136"/>
                    </a:lnTo>
                    <a:lnTo>
                      <a:pt x="35" y="145"/>
                    </a:lnTo>
                    <a:lnTo>
                      <a:pt x="39" y="153"/>
                    </a:lnTo>
                    <a:lnTo>
                      <a:pt x="42" y="161"/>
                    </a:lnTo>
                    <a:lnTo>
                      <a:pt x="45" y="169"/>
                    </a:lnTo>
                    <a:lnTo>
                      <a:pt x="49" y="177"/>
                    </a:lnTo>
                    <a:lnTo>
                      <a:pt x="53" y="184"/>
                    </a:lnTo>
                    <a:lnTo>
                      <a:pt x="57" y="191"/>
                    </a:lnTo>
                    <a:lnTo>
                      <a:pt x="61" y="197"/>
                    </a:lnTo>
                    <a:lnTo>
                      <a:pt x="65" y="203"/>
                    </a:lnTo>
                    <a:lnTo>
                      <a:pt x="70" y="208"/>
                    </a:lnTo>
                    <a:lnTo>
                      <a:pt x="74" y="213"/>
                    </a:lnTo>
                    <a:lnTo>
                      <a:pt x="77" y="209"/>
                    </a:lnTo>
                    <a:lnTo>
                      <a:pt x="73" y="205"/>
                    </a:lnTo>
                    <a:lnTo>
                      <a:pt x="69" y="200"/>
                    </a:lnTo>
                    <a:lnTo>
                      <a:pt x="65" y="194"/>
                    </a:lnTo>
                    <a:lnTo>
                      <a:pt x="61" y="188"/>
                    </a:lnTo>
                    <a:lnTo>
                      <a:pt x="57" y="182"/>
                    </a:lnTo>
                    <a:lnTo>
                      <a:pt x="54" y="175"/>
                    </a:lnTo>
                    <a:lnTo>
                      <a:pt x="50" y="167"/>
                    </a:lnTo>
                    <a:lnTo>
                      <a:pt x="47" y="159"/>
                    </a:lnTo>
                    <a:lnTo>
                      <a:pt x="43" y="151"/>
                    </a:lnTo>
                    <a:lnTo>
                      <a:pt x="40" y="143"/>
                    </a:lnTo>
                    <a:lnTo>
                      <a:pt x="37" y="134"/>
                    </a:lnTo>
                    <a:lnTo>
                      <a:pt x="34" y="125"/>
                    </a:lnTo>
                    <a:lnTo>
                      <a:pt x="31" y="117"/>
                    </a:lnTo>
                    <a:lnTo>
                      <a:pt x="29" y="108"/>
                    </a:lnTo>
                    <a:lnTo>
                      <a:pt x="26" y="99"/>
                    </a:lnTo>
                    <a:lnTo>
                      <a:pt x="24" y="90"/>
                    </a:lnTo>
                    <a:lnTo>
                      <a:pt x="21" y="81"/>
                    </a:lnTo>
                    <a:lnTo>
                      <a:pt x="20" y="73"/>
                    </a:lnTo>
                    <a:lnTo>
                      <a:pt x="17" y="64"/>
                    </a:lnTo>
                    <a:lnTo>
                      <a:pt x="16" y="56"/>
                    </a:lnTo>
                    <a:lnTo>
                      <a:pt x="14" y="49"/>
                    </a:lnTo>
                    <a:lnTo>
                      <a:pt x="12" y="41"/>
                    </a:lnTo>
                    <a:lnTo>
                      <a:pt x="11" y="35"/>
                    </a:lnTo>
                    <a:lnTo>
                      <a:pt x="10" y="29"/>
                    </a:lnTo>
                    <a:lnTo>
                      <a:pt x="8" y="23"/>
                    </a:lnTo>
                    <a:lnTo>
                      <a:pt x="7" y="18"/>
                    </a:lnTo>
                    <a:lnTo>
                      <a:pt x="7" y="13"/>
                    </a:lnTo>
                    <a:lnTo>
                      <a:pt x="6" y="9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06880" y="3552840"/>
                <a:ext cx="169920" cy="92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76" y="3"/>
                    </a:moveTo>
                    <a:lnTo>
                      <a:pt x="72" y="3"/>
                    </a:lnTo>
                    <a:lnTo>
                      <a:pt x="69" y="6"/>
                    </a:lnTo>
                    <a:lnTo>
                      <a:pt x="65" y="9"/>
                    </a:lnTo>
                    <a:lnTo>
                      <a:pt x="60" y="12"/>
                    </a:lnTo>
                    <a:lnTo>
                      <a:pt x="55" y="15"/>
                    </a:lnTo>
                    <a:lnTo>
                      <a:pt x="49" y="18"/>
                    </a:lnTo>
                    <a:lnTo>
                      <a:pt x="43" y="21"/>
                    </a:lnTo>
                    <a:lnTo>
                      <a:pt x="36" y="24"/>
                    </a:lnTo>
                    <a:lnTo>
                      <a:pt x="30" y="26"/>
                    </a:lnTo>
                    <a:lnTo>
                      <a:pt x="24" y="29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9" y="34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41"/>
                    </a:lnTo>
                    <a:lnTo>
                      <a:pt x="7" y="40"/>
                    </a:lnTo>
                    <a:lnTo>
                      <a:pt x="11" y="38"/>
                    </a:lnTo>
                    <a:lnTo>
                      <a:pt x="15" y="37"/>
                    </a:lnTo>
                    <a:lnTo>
                      <a:pt x="21" y="35"/>
                    </a:lnTo>
                    <a:lnTo>
                      <a:pt x="26" y="33"/>
                    </a:lnTo>
                    <a:lnTo>
                      <a:pt x="32" y="31"/>
                    </a:lnTo>
                    <a:lnTo>
                      <a:pt x="39" y="28"/>
                    </a:lnTo>
                    <a:lnTo>
                      <a:pt x="45" y="25"/>
                    </a:lnTo>
                    <a:lnTo>
                      <a:pt x="51" y="22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8" y="13"/>
                    </a:lnTo>
                    <a:lnTo>
                      <a:pt x="72" y="9"/>
                    </a:lnTo>
                    <a:lnTo>
                      <a:pt x="76" y="6"/>
                    </a:lnTo>
                    <a:lnTo>
                      <a:pt x="72" y="5"/>
                    </a:lnTo>
                    <a:lnTo>
                      <a:pt x="76" y="3"/>
                    </a:lnTo>
                    <a:lnTo>
                      <a:pt x="74" y="0"/>
                    </a:lnTo>
                    <a:lnTo>
                      <a:pt x="72" y="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67440" y="3559320"/>
                <a:ext cx="120600" cy="261720"/>
              </a:xfrm>
              <a:custGeom>
                <a:avLst/>
                <a:gdLst/>
                <a:ahLst/>
                <a:rect l="l" t="t" r="r" b="b"/>
                <a:pathLst>
                  <a:path w="54" h="116">
                    <a:moveTo>
                      <a:pt x="49" y="111"/>
                    </a:moveTo>
                    <a:lnTo>
                      <a:pt x="54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9" y="111"/>
                    </a:lnTo>
                    <a:lnTo>
                      <a:pt x="54" y="109"/>
                    </a:lnTo>
                    <a:lnTo>
                      <a:pt x="49" y="111"/>
                    </a:lnTo>
                    <a:lnTo>
                      <a:pt x="54" y="116"/>
                    </a:lnTo>
                    <a:lnTo>
                      <a:pt x="54" y="109"/>
                    </a:lnTo>
                    <a:lnTo>
                      <a:pt x="49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187960" y="3595680"/>
                <a:ext cx="100080" cy="21420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0" y="0"/>
                    </a:moveTo>
                    <a:lnTo>
                      <a:pt x="0" y="1"/>
                    </a:lnTo>
                    <a:lnTo>
                      <a:pt x="40" y="95"/>
                    </a:lnTo>
                    <a:lnTo>
                      <a:pt x="45" y="9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187960" y="3284640"/>
                <a:ext cx="61920" cy="311040"/>
              </a:xfrm>
              <a:custGeom>
                <a:avLst/>
                <a:gdLst/>
                <a:ahLst/>
                <a:rect l="l" t="t" r="r" b="b"/>
                <a:pathLst>
                  <a:path w="28" h="138">
                    <a:moveTo>
                      <a:pt x="28" y="1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8" y="11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2" y="41"/>
                    </a:lnTo>
                    <a:lnTo>
                      <a:pt x="11" y="48"/>
                    </a:lnTo>
                    <a:lnTo>
                      <a:pt x="10" y="54"/>
                    </a:lnTo>
                    <a:lnTo>
                      <a:pt x="9" y="60"/>
                    </a:lnTo>
                    <a:lnTo>
                      <a:pt x="8" y="67"/>
                    </a:lnTo>
                    <a:lnTo>
                      <a:pt x="7" y="73"/>
                    </a:lnTo>
                    <a:lnTo>
                      <a:pt x="6" y="80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4" y="99"/>
                    </a:lnTo>
                    <a:lnTo>
                      <a:pt x="4" y="105"/>
                    </a:lnTo>
                    <a:lnTo>
                      <a:pt x="3" y="110"/>
                    </a:lnTo>
                    <a:lnTo>
                      <a:pt x="3" y="116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29"/>
                    </a:lnTo>
                    <a:lnTo>
                      <a:pt x="1" y="132"/>
                    </a:lnTo>
                    <a:lnTo>
                      <a:pt x="0" y="135"/>
                    </a:lnTo>
                    <a:lnTo>
                      <a:pt x="0" y="136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5" y="138"/>
                    </a:lnTo>
                    <a:lnTo>
                      <a:pt x="5" y="138"/>
                    </a:lnTo>
                    <a:lnTo>
                      <a:pt x="5" y="137"/>
                    </a:lnTo>
                    <a:lnTo>
                      <a:pt x="5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6" y="125"/>
                    </a:lnTo>
                    <a:lnTo>
                      <a:pt x="7" y="121"/>
                    </a:lnTo>
                    <a:lnTo>
                      <a:pt x="7" y="116"/>
                    </a:lnTo>
                    <a:lnTo>
                      <a:pt x="8" y="111"/>
                    </a:lnTo>
                    <a:lnTo>
                      <a:pt x="9" y="105"/>
                    </a:lnTo>
                    <a:lnTo>
                      <a:pt x="9" y="99"/>
                    </a:lnTo>
                    <a:lnTo>
                      <a:pt x="10" y="93"/>
                    </a:lnTo>
                    <a:lnTo>
                      <a:pt x="11" y="87"/>
                    </a:lnTo>
                    <a:lnTo>
                      <a:pt x="12" y="81"/>
                    </a:lnTo>
                    <a:lnTo>
                      <a:pt x="12" y="74"/>
                    </a:lnTo>
                    <a:lnTo>
                      <a:pt x="13" y="67"/>
                    </a:lnTo>
                    <a:lnTo>
                      <a:pt x="14" y="61"/>
                    </a:lnTo>
                    <a:lnTo>
                      <a:pt x="15" y="55"/>
                    </a:lnTo>
                    <a:lnTo>
                      <a:pt x="16" y="48"/>
                    </a:lnTo>
                    <a:lnTo>
                      <a:pt x="17" y="42"/>
                    </a:lnTo>
                    <a:lnTo>
                      <a:pt x="18" y="36"/>
                    </a:lnTo>
                    <a:lnTo>
                      <a:pt x="19" y="31"/>
                    </a:lnTo>
                    <a:lnTo>
                      <a:pt x="20" y="25"/>
                    </a:lnTo>
                    <a:lnTo>
                      <a:pt x="21" y="21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4" y="10"/>
                    </a:lnTo>
                    <a:lnTo>
                      <a:pt x="25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11480" y="3321000"/>
                <a:ext cx="449280" cy="835200"/>
              </a:xfrm>
              <a:custGeom>
                <a:avLst/>
                <a:gdLst/>
                <a:ahLst/>
                <a:rect l="l" t="t" r="r" b="b"/>
                <a:pathLst>
                  <a:path w="202" h="371">
                    <a:moveTo>
                      <a:pt x="148" y="0"/>
                    </a:moveTo>
                    <a:lnTo>
                      <a:pt x="146" y="3"/>
                    </a:lnTo>
                    <a:lnTo>
                      <a:pt x="145" y="6"/>
                    </a:lnTo>
                    <a:lnTo>
                      <a:pt x="143" y="11"/>
                    </a:lnTo>
                    <a:lnTo>
                      <a:pt x="141" y="16"/>
                    </a:lnTo>
                    <a:lnTo>
                      <a:pt x="139" y="22"/>
                    </a:lnTo>
                    <a:lnTo>
                      <a:pt x="138" y="28"/>
                    </a:lnTo>
                    <a:lnTo>
                      <a:pt x="136" y="34"/>
                    </a:lnTo>
                    <a:lnTo>
                      <a:pt x="135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1" y="65"/>
                    </a:lnTo>
                    <a:lnTo>
                      <a:pt x="129" y="73"/>
                    </a:lnTo>
                    <a:lnTo>
                      <a:pt x="128" y="82"/>
                    </a:lnTo>
                    <a:lnTo>
                      <a:pt x="127" y="90"/>
                    </a:lnTo>
                    <a:lnTo>
                      <a:pt x="126" y="98"/>
                    </a:lnTo>
                    <a:lnTo>
                      <a:pt x="125" y="107"/>
                    </a:lnTo>
                    <a:lnTo>
                      <a:pt x="124" y="115"/>
                    </a:lnTo>
                    <a:lnTo>
                      <a:pt x="123" y="123"/>
                    </a:lnTo>
                    <a:lnTo>
                      <a:pt x="122" y="131"/>
                    </a:lnTo>
                    <a:lnTo>
                      <a:pt x="121" y="139"/>
                    </a:lnTo>
                    <a:lnTo>
                      <a:pt x="120" y="147"/>
                    </a:lnTo>
                    <a:lnTo>
                      <a:pt x="120" y="154"/>
                    </a:lnTo>
                    <a:lnTo>
                      <a:pt x="119" y="161"/>
                    </a:lnTo>
                    <a:lnTo>
                      <a:pt x="119" y="167"/>
                    </a:lnTo>
                    <a:lnTo>
                      <a:pt x="118" y="172"/>
                    </a:lnTo>
                    <a:lnTo>
                      <a:pt x="117" y="178"/>
                    </a:lnTo>
                    <a:lnTo>
                      <a:pt x="117" y="182"/>
                    </a:lnTo>
                    <a:lnTo>
                      <a:pt x="117" y="186"/>
                    </a:lnTo>
                    <a:lnTo>
                      <a:pt x="117" y="189"/>
                    </a:lnTo>
                    <a:lnTo>
                      <a:pt x="117" y="191"/>
                    </a:lnTo>
                    <a:lnTo>
                      <a:pt x="116" y="192"/>
                    </a:lnTo>
                    <a:lnTo>
                      <a:pt x="116" y="193"/>
                    </a:lnTo>
                    <a:lnTo>
                      <a:pt x="116" y="192"/>
                    </a:lnTo>
                    <a:lnTo>
                      <a:pt x="116" y="192"/>
                    </a:lnTo>
                    <a:lnTo>
                      <a:pt x="115" y="191"/>
                    </a:lnTo>
                    <a:lnTo>
                      <a:pt x="114" y="189"/>
                    </a:lnTo>
                    <a:lnTo>
                      <a:pt x="113" y="187"/>
                    </a:lnTo>
                    <a:lnTo>
                      <a:pt x="111" y="184"/>
                    </a:lnTo>
                    <a:lnTo>
                      <a:pt x="109" y="181"/>
                    </a:lnTo>
                    <a:lnTo>
                      <a:pt x="107" y="178"/>
                    </a:lnTo>
                    <a:lnTo>
                      <a:pt x="104" y="175"/>
                    </a:lnTo>
                    <a:lnTo>
                      <a:pt x="101" y="171"/>
                    </a:lnTo>
                    <a:lnTo>
                      <a:pt x="98" y="167"/>
                    </a:lnTo>
                    <a:lnTo>
                      <a:pt x="94" y="162"/>
                    </a:lnTo>
                    <a:lnTo>
                      <a:pt x="89" y="158"/>
                    </a:lnTo>
                    <a:lnTo>
                      <a:pt x="85" y="153"/>
                    </a:lnTo>
                    <a:lnTo>
                      <a:pt x="80" y="147"/>
                    </a:lnTo>
                    <a:lnTo>
                      <a:pt x="74" y="142"/>
                    </a:lnTo>
                    <a:lnTo>
                      <a:pt x="68" y="143"/>
                    </a:lnTo>
                    <a:lnTo>
                      <a:pt x="61" y="146"/>
                    </a:lnTo>
                    <a:lnTo>
                      <a:pt x="55" y="149"/>
                    </a:lnTo>
                    <a:lnTo>
                      <a:pt x="48" y="153"/>
                    </a:lnTo>
                    <a:lnTo>
                      <a:pt x="42" y="158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4" y="175"/>
                    </a:lnTo>
                    <a:lnTo>
                      <a:pt x="19" y="180"/>
                    </a:lnTo>
                    <a:lnTo>
                      <a:pt x="14" y="186"/>
                    </a:lnTo>
                    <a:lnTo>
                      <a:pt x="10" y="191"/>
                    </a:lnTo>
                    <a:lnTo>
                      <a:pt x="7" y="195"/>
                    </a:lnTo>
                    <a:lnTo>
                      <a:pt x="3" y="200"/>
                    </a:lnTo>
                    <a:lnTo>
                      <a:pt x="1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2" y="209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0" y="223"/>
                    </a:lnTo>
                    <a:lnTo>
                      <a:pt x="13" y="228"/>
                    </a:lnTo>
                    <a:lnTo>
                      <a:pt x="16" y="234"/>
                    </a:lnTo>
                    <a:lnTo>
                      <a:pt x="20" y="240"/>
                    </a:lnTo>
                    <a:lnTo>
                      <a:pt x="23" y="246"/>
                    </a:lnTo>
                    <a:lnTo>
                      <a:pt x="27" y="252"/>
                    </a:lnTo>
                    <a:lnTo>
                      <a:pt x="32" y="259"/>
                    </a:lnTo>
                    <a:lnTo>
                      <a:pt x="36" y="266"/>
                    </a:lnTo>
                    <a:lnTo>
                      <a:pt x="40" y="273"/>
                    </a:lnTo>
                    <a:lnTo>
                      <a:pt x="44" y="280"/>
                    </a:lnTo>
                    <a:lnTo>
                      <a:pt x="49" y="288"/>
                    </a:lnTo>
                    <a:lnTo>
                      <a:pt x="54" y="295"/>
                    </a:lnTo>
                    <a:lnTo>
                      <a:pt x="58" y="302"/>
                    </a:lnTo>
                    <a:lnTo>
                      <a:pt x="63" y="309"/>
                    </a:lnTo>
                    <a:lnTo>
                      <a:pt x="67" y="316"/>
                    </a:lnTo>
                    <a:lnTo>
                      <a:pt x="72" y="322"/>
                    </a:lnTo>
                    <a:lnTo>
                      <a:pt x="76" y="329"/>
                    </a:lnTo>
                    <a:lnTo>
                      <a:pt x="81" y="335"/>
                    </a:lnTo>
                    <a:lnTo>
                      <a:pt x="85" y="341"/>
                    </a:lnTo>
                    <a:lnTo>
                      <a:pt x="89" y="346"/>
                    </a:lnTo>
                    <a:lnTo>
                      <a:pt x="93" y="351"/>
                    </a:lnTo>
                    <a:lnTo>
                      <a:pt x="96" y="355"/>
                    </a:lnTo>
                    <a:lnTo>
                      <a:pt x="100" y="359"/>
                    </a:lnTo>
                    <a:lnTo>
                      <a:pt x="103" y="362"/>
                    </a:lnTo>
                    <a:lnTo>
                      <a:pt x="106" y="365"/>
                    </a:lnTo>
                    <a:lnTo>
                      <a:pt x="108" y="367"/>
                    </a:lnTo>
                    <a:lnTo>
                      <a:pt x="113" y="369"/>
                    </a:lnTo>
                    <a:lnTo>
                      <a:pt x="118" y="370"/>
                    </a:lnTo>
                    <a:lnTo>
                      <a:pt x="123" y="371"/>
                    </a:lnTo>
                    <a:lnTo>
                      <a:pt x="128" y="371"/>
                    </a:lnTo>
                    <a:lnTo>
                      <a:pt x="132" y="370"/>
                    </a:lnTo>
                    <a:lnTo>
                      <a:pt x="137" y="370"/>
                    </a:lnTo>
                    <a:lnTo>
                      <a:pt x="142" y="368"/>
                    </a:lnTo>
                    <a:lnTo>
                      <a:pt x="147" y="366"/>
                    </a:lnTo>
                    <a:lnTo>
                      <a:pt x="151" y="363"/>
                    </a:lnTo>
                    <a:lnTo>
                      <a:pt x="156" y="361"/>
                    </a:lnTo>
                    <a:lnTo>
                      <a:pt x="160" y="358"/>
                    </a:lnTo>
                    <a:lnTo>
                      <a:pt x="164" y="355"/>
                    </a:lnTo>
                    <a:lnTo>
                      <a:pt x="168" y="352"/>
                    </a:lnTo>
                    <a:lnTo>
                      <a:pt x="172" y="349"/>
                    </a:lnTo>
                    <a:lnTo>
                      <a:pt x="175" y="346"/>
                    </a:lnTo>
                    <a:lnTo>
                      <a:pt x="178" y="343"/>
                    </a:lnTo>
                    <a:lnTo>
                      <a:pt x="181" y="340"/>
                    </a:lnTo>
                    <a:lnTo>
                      <a:pt x="184" y="337"/>
                    </a:lnTo>
                    <a:lnTo>
                      <a:pt x="187" y="333"/>
                    </a:lnTo>
                    <a:lnTo>
                      <a:pt x="189" y="329"/>
                    </a:lnTo>
                    <a:lnTo>
                      <a:pt x="191" y="325"/>
                    </a:lnTo>
                    <a:lnTo>
                      <a:pt x="193" y="321"/>
                    </a:lnTo>
                    <a:lnTo>
                      <a:pt x="195" y="316"/>
                    </a:lnTo>
                    <a:lnTo>
                      <a:pt x="196" y="313"/>
                    </a:lnTo>
                    <a:lnTo>
                      <a:pt x="198" y="309"/>
                    </a:lnTo>
                    <a:lnTo>
                      <a:pt x="199" y="305"/>
                    </a:lnTo>
                    <a:lnTo>
                      <a:pt x="200" y="302"/>
                    </a:lnTo>
                    <a:lnTo>
                      <a:pt x="201" y="299"/>
                    </a:lnTo>
                    <a:lnTo>
                      <a:pt x="201" y="297"/>
                    </a:lnTo>
                    <a:lnTo>
                      <a:pt x="202" y="295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0"/>
                    </a:lnTo>
                    <a:lnTo>
                      <a:pt x="201" y="287"/>
                    </a:lnTo>
                    <a:lnTo>
                      <a:pt x="201" y="282"/>
                    </a:lnTo>
                    <a:lnTo>
                      <a:pt x="200" y="275"/>
                    </a:lnTo>
                    <a:lnTo>
                      <a:pt x="199" y="268"/>
                    </a:lnTo>
                    <a:lnTo>
                      <a:pt x="198" y="259"/>
                    </a:lnTo>
                    <a:lnTo>
                      <a:pt x="197" y="250"/>
                    </a:lnTo>
                    <a:lnTo>
                      <a:pt x="196" y="240"/>
                    </a:lnTo>
                    <a:lnTo>
                      <a:pt x="195" y="229"/>
                    </a:lnTo>
                    <a:lnTo>
                      <a:pt x="194" y="217"/>
                    </a:lnTo>
                    <a:lnTo>
                      <a:pt x="192" y="205"/>
                    </a:lnTo>
                    <a:lnTo>
                      <a:pt x="191" y="193"/>
                    </a:lnTo>
                    <a:lnTo>
                      <a:pt x="189" y="180"/>
                    </a:lnTo>
                    <a:lnTo>
                      <a:pt x="188" y="167"/>
                    </a:lnTo>
                    <a:lnTo>
                      <a:pt x="186" y="154"/>
                    </a:lnTo>
                    <a:lnTo>
                      <a:pt x="184" y="141"/>
                    </a:lnTo>
                    <a:lnTo>
                      <a:pt x="182" y="127"/>
                    </a:lnTo>
                    <a:lnTo>
                      <a:pt x="180" y="114"/>
                    </a:lnTo>
                    <a:lnTo>
                      <a:pt x="178" y="102"/>
                    </a:lnTo>
                    <a:lnTo>
                      <a:pt x="176" y="89"/>
                    </a:lnTo>
                    <a:lnTo>
                      <a:pt x="174" y="77"/>
                    </a:lnTo>
                    <a:lnTo>
                      <a:pt x="172" y="66"/>
                    </a:lnTo>
                    <a:lnTo>
                      <a:pt x="170" y="55"/>
                    </a:lnTo>
                    <a:lnTo>
                      <a:pt x="168" y="46"/>
                    </a:lnTo>
                    <a:lnTo>
                      <a:pt x="166" y="37"/>
                    </a:lnTo>
                    <a:lnTo>
                      <a:pt x="164" y="29"/>
                    </a:lnTo>
                    <a:lnTo>
                      <a:pt x="162" y="21"/>
                    </a:lnTo>
                    <a:lnTo>
                      <a:pt x="160" y="15"/>
                    </a:lnTo>
                    <a:lnTo>
                      <a:pt x="158" y="11"/>
                    </a:lnTo>
                    <a:lnTo>
                      <a:pt x="156" y="8"/>
                    </a:lnTo>
                    <a:lnTo>
                      <a:pt x="154" y="6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65640" y="3316320"/>
                <a:ext cx="79200" cy="457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196"/>
                    </a:moveTo>
                    <a:lnTo>
                      <a:pt x="5" y="195"/>
                    </a:lnTo>
                    <a:lnTo>
                      <a:pt x="5" y="194"/>
                    </a:lnTo>
                    <a:lnTo>
                      <a:pt x="5" y="193"/>
                    </a:lnTo>
                    <a:lnTo>
                      <a:pt x="5" y="191"/>
                    </a:lnTo>
                    <a:lnTo>
                      <a:pt x="5" y="188"/>
                    </a:lnTo>
                    <a:lnTo>
                      <a:pt x="6" y="184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7" y="169"/>
                    </a:lnTo>
                    <a:lnTo>
                      <a:pt x="8" y="163"/>
                    </a:lnTo>
                    <a:lnTo>
                      <a:pt x="8" y="156"/>
                    </a:lnTo>
                    <a:lnTo>
                      <a:pt x="9" y="149"/>
                    </a:lnTo>
                    <a:lnTo>
                      <a:pt x="10" y="141"/>
                    </a:lnTo>
                    <a:lnTo>
                      <a:pt x="11" y="134"/>
                    </a:lnTo>
                    <a:lnTo>
                      <a:pt x="12" y="126"/>
                    </a:lnTo>
                    <a:lnTo>
                      <a:pt x="12" y="118"/>
                    </a:lnTo>
                    <a:lnTo>
                      <a:pt x="13" y="109"/>
                    </a:lnTo>
                    <a:lnTo>
                      <a:pt x="15" y="101"/>
                    </a:lnTo>
                    <a:lnTo>
                      <a:pt x="15" y="92"/>
                    </a:lnTo>
                    <a:lnTo>
                      <a:pt x="17" y="84"/>
                    </a:lnTo>
                    <a:lnTo>
                      <a:pt x="18" y="76"/>
                    </a:lnTo>
                    <a:lnTo>
                      <a:pt x="19" y="67"/>
                    </a:lnTo>
                    <a:lnTo>
                      <a:pt x="21" y="59"/>
                    </a:lnTo>
                    <a:lnTo>
                      <a:pt x="22" y="52"/>
                    </a:lnTo>
                    <a:lnTo>
                      <a:pt x="23" y="44"/>
                    </a:lnTo>
                    <a:lnTo>
                      <a:pt x="25" y="37"/>
                    </a:lnTo>
                    <a:lnTo>
                      <a:pt x="26" y="31"/>
                    </a:lnTo>
                    <a:lnTo>
                      <a:pt x="28" y="24"/>
                    </a:lnTo>
                    <a:lnTo>
                      <a:pt x="29" y="19"/>
                    </a:lnTo>
                    <a:lnTo>
                      <a:pt x="31" y="14"/>
                    </a:lnTo>
                    <a:lnTo>
                      <a:pt x="33" y="9"/>
                    </a:lnTo>
                    <a:lnTo>
                      <a:pt x="34" y="5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30" y="3"/>
                    </a:lnTo>
                    <a:lnTo>
                      <a:pt x="28" y="8"/>
                    </a:lnTo>
                    <a:lnTo>
                      <a:pt x="27" y="12"/>
                    </a:lnTo>
                    <a:lnTo>
                      <a:pt x="25" y="17"/>
                    </a:lnTo>
                    <a:lnTo>
                      <a:pt x="23" y="23"/>
                    </a:lnTo>
                    <a:lnTo>
                      <a:pt x="21" y="29"/>
                    </a:lnTo>
                    <a:lnTo>
                      <a:pt x="20" y="36"/>
                    </a:lnTo>
                    <a:lnTo>
                      <a:pt x="18" y="43"/>
                    </a:lnTo>
                    <a:lnTo>
                      <a:pt x="17" y="51"/>
                    </a:lnTo>
                    <a:lnTo>
                      <a:pt x="16" y="59"/>
                    </a:lnTo>
                    <a:lnTo>
                      <a:pt x="14" y="67"/>
                    </a:lnTo>
                    <a:lnTo>
                      <a:pt x="13" y="75"/>
                    </a:lnTo>
                    <a:lnTo>
                      <a:pt x="12" y="83"/>
                    </a:lnTo>
                    <a:lnTo>
                      <a:pt x="11" y="92"/>
                    </a:lnTo>
                    <a:lnTo>
                      <a:pt x="10" y="100"/>
                    </a:lnTo>
                    <a:lnTo>
                      <a:pt x="9" y="109"/>
                    </a:lnTo>
                    <a:lnTo>
                      <a:pt x="8" y="117"/>
                    </a:lnTo>
                    <a:lnTo>
                      <a:pt x="6" y="125"/>
                    </a:lnTo>
                    <a:lnTo>
                      <a:pt x="6" y="133"/>
                    </a:lnTo>
                    <a:lnTo>
                      <a:pt x="5" y="141"/>
                    </a:lnTo>
                    <a:lnTo>
                      <a:pt x="4" y="149"/>
                    </a:lnTo>
                    <a:lnTo>
                      <a:pt x="3" y="155"/>
                    </a:lnTo>
                    <a:lnTo>
                      <a:pt x="3" y="162"/>
                    </a:lnTo>
                    <a:lnTo>
                      <a:pt x="2" y="169"/>
                    </a:lnTo>
                    <a:lnTo>
                      <a:pt x="2" y="174"/>
                    </a:lnTo>
                    <a:lnTo>
                      <a:pt x="1" y="179"/>
                    </a:lnTo>
                    <a:lnTo>
                      <a:pt x="1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4" y="194"/>
                    </a:lnTo>
                    <a:lnTo>
                      <a:pt x="0" y="196"/>
                    </a:lnTo>
                    <a:lnTo>
                      <a:pt x="4" y="203"/>
                    </a:lnTo>
                    <a:lnTo>
                      <a:pt x="5" y="195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73480" y="3635280"/>
                <a:ext cx="100080" cy="12240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1" y="5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14"/>
                    </a:lnTo>
                    <a:lnTo>
                      <a:pt x="15" y="19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6" y="32"/>
                    </a:lnTo>
                    <a:lnTo>
                      <a:pt x="29" y="36"/>
                    </a:lnTo>
                    <a:lnTo>
                      <a:pt x="32" y="40"/>
                    </a:lnTo>
                    <a:lnTo>
                      <a:pt x="34" y="43"/>
                    </a:lnTo>
                    <a:lnTo>
                      <a:pt x="36" y="46"/>
                    </a:lnTo>
                    <a:lnTo>
                      <a:pt x="37" y="48"/>
                    </a:lnTo>
                    <a:lnTo>
                      <a:pt x="39" y="50"/>
                    </a:lnTo>
                    <a:lnTo>
                      <a:pt x="40" y="52"/>
                    </a:lnTo>
                    <a:lnTo>
                      <a:pt x="40" y="53"/>
                    </a:lnTo>
                    <a:lnTo>
                      <a:pt x="41" y="54"/>
                    </a:lnTo>
                    <a:lnTo>
                      <a:pt x="41" y="54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1"/>
                    </a:lnTo>
                    <a:lnTo>
                      <a:pt x="44" y="49"/>
                    </a:lnTo>
                    <a:lnTo>
                      <a:pt x="43" y="48"/>
                    </a:lnTo>
                    <a:lnTo>
                      <a:pt x="42" y="46"/>
                    </a:lnTo>
                    <a:lnTo>
                      <a:pt x="40" y="43"/>
                    </a:lnTo>
                    <a:lnTo>
                      <a:pt x="38" y="40"/>
                    </a:lnTo>
                    <a:lnTo>
                      <a:pt x="35" y="37"/>
                    </a:lnTo>
                    <a:lnTo>
                      <a:pt x="33" y="33"/>
                    </a:lnTo>
                    <a:lnTo>
                      <a:pt x="30" y="29"/>
                    </a:lnTo>
                    <a:lnTo>
                      <a:pt x="26" y="25"/>
                    </a:lnTo>
                    <a:lnTo>
                      <a:pt x="22" y="21"/>
                    </a:lnTo>
                    <a:lnTo>
                      <a:pt x="18" y="16"/>
                    </a:lnTo>
                    <a:lnTo>
                      <a:pt x="13" y="11"/>
                    </a:lnTo>
                    <a:lnTo>
                      <a:pt x="9" y="6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05360" y="3635280"/>
                <a:ext cx="171360" cy="149400"/>
              </a:xfrm>
              <a:custGeom>
                <a:avLst/>
                <a:gdLst/>
                <a:ahLst/>
                <a:rect l="l" t="t" r="r" b="b"/>
                <a:pathLst>
                  <a:path w="77" h="66">
                    <a:moveTo>
                      <a:pt x="5" y="64"/>
                    </a:moveTo>
                    <a:lnTo>
                      <a:pt x="5" y="66"/>
                    </a:lnTo>
                    <a:lnTo>
                      <a:pt x="5" y="66"/>
                    </a:lnTo>
                    <a:lnTo>
                      <a:pt x="6" y="64"/>
                    </a:lnTo>
                    <a:lnTo>
                      <a:pt x="9" y="61"/>
                    </a:lnTo>
                    <a:lnTo>
                      <a:pt x="11" y="57"/>
                    </a:lnTo>
                    <a:lnTo>
                      <a:pt x="15" y="52"/>
                    </a:lnTo>
                    <a:lnTo>
                      <a:pt x="19" y="47"/>
                    </a:lnTo>
                    <a:lnTo>
                      <a:pt x="24" y="42"/>
                    </a:lnTo>
                    <a:lnTo>
                      <a:pt x="29" y="36"/>
                    </a:lnTo>
                    <a:lnTo>
                      <a:pt x="35" y="30"/>
                    </a:lnTo>
                    <a:lnTo>
                      <a:pt x="41" y="25"/>
                    </a:lnTo>
                    <a:lnTo>
                      <a:pt x="47" y="19"/>
                    </a:lnTo>
                    <a:lnTo>
                      <a:pt x="53" y="15"/>
                    </a:lnTo>
                    <a:lnTo>
                      <a:pt x="59" y="11"/>
                    </a:lnTo>
                    <a:lnTo>
                      <a:pt x="65" y="8"/>
                    </a:lnTo>
                    <a:lnTo>
                      <a:pt x="71" y="6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70" y="1"/>
                    </a:lnTo>
                    <a:lnTo>
                      <a:pt x="63" y="3"/>
                    </a:lnTo>
                    <a:lnTo>
                      <a:pt x="57" y="7"/>
                    </a:lnTo>
                    <a:lnTo>
                      <a:pt x="50" y="11"/>
                    </a:lnTo>
                    <a:lnTo>
                      <a:pt x="43" y="16"/>
                    </a:lnTo>
                    <a:lnTo>
                      <a:pt x="37" y="21"/>
                    </a:lnTo>
                    <a:lnTo>
                      <a:pt x="31" y="27"/>
                    </a:lnTo>
                    <a:lnTo>
                      <a:pt x="25" y="33"/>
                    </a:lnTo>
                    <a:lnTo>
                      <a:pt x="20" y="39"/>
                    </a:lnTo>
                    <a:lnTo>
                      <a:pt x="16" y="44"/>
                    </a:lnTo>
                    <a:lnTo>
                      <a:pt x="11" y="49"/>
                    </a:lnTo>
                    <a:lnTo>
                      <a:pt x="8" y="54"/>
                    </a:lnTo>
                    <a:lnTo>
                      <a:pt x="5" y="58"/>
                    </a:lnTo>
                    <a:lnTo>
                      <a:pt x="3" y="61"/>
                    </a:lnTo>
                    <a:lnTo>
                      <a:pt x="1" y="63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05360" y="3780000"/>
                <a:ext cx="250560" cy="371160"/>
              </a:xfrm>
              <a:custGeom>
                <a:avLst/>
                <a:gdLst/>
                <a:ahLst/>
                <a:rect l="l" t="t" r="r" b="b"/>
                <a:pathLst>
                  <a:path w="113" h="165">
                    <a:moveTo>
                      <a:pt x="113" y="160"/>
                    </a:moveTo>
                    <a:lnTo>
                      <a:pt x="113" y="160"/>
                    </a:lnTo>
                    <a:lnTo>
                      <a:pt x="110" y="159"/>
                    </a:lnTo>
                    <a:lnTo>
                      <a:pt x="108" y="157"/>
                    </a:lnTo>
                    <a:lnTo>
                      <a:pt x="104" y="153"/>
                    </a:lnTo>
                    <a:lnTo>
                      <a:pt x="101" y="150"/>
                    </a:lnTo>
                    <a:lnTo>
                      <a:pt x="98" y="146"/>
                    </a:lnTo>
                    <a:lnTo>
                      <a:pt x="94" y="141"/>
                    </a:lnTo>
                    <a:lnTo>
                      <a:pt x="90" y="135"/>
                    </a:lnTo>
                    <a:lnTo>
                      <a:pt x="85" y="130"/>
                    </a:lnTo>
                    <a:lnTo>
                      <a:pt x="81" y="123"/>
                    </a:lnTo>
                    <a:lnTo>
                      <a:pt x="77" y="117"/>
                    </a:lnTo>
                    <a:lnTo>
                      <a:pt x="72" y="110"/>
                    </a:lnTo>
                    <a:lnTo>
                      <a:pt x="68" y="104"/>
                    </a:lnTo>
                    <a:lnTo>
                      <a:pt x="63" y="97"/>
                    </a:lnTo>
                    <a:lnTo>
                      <a:pt x="59" y="89"/>
                    </a:lnTo>
                    <a:lnTo>
                      <a:pt x="54" y="82"/>
                    </a:lnTo>
                    <a:lnTo>
                      <a:pt x="50" y="75"/>
                    </a:lnTo>
                    <a:lnTo>
                      <a:pt x="45" y="68"/>
                    </a:lnTo>
                    <a:lnTo>
                      <a:pt x="41" y="61"/>
                    </a:lnTo>
                    <a:lnTo>
                      <a:pt x="36" y="54"/>
                    </a:lnTo>
                    <a:lnTo>
                      <a:pt x="32" y="47"/>
                    </a:lnTo>
                    <a:lnTo>
                      <a:pt x="28" y="41"/>
                    </a:lnTo>
                    <a:lnTo>
                      <a:pt x="25" y="34"/>
                    </a:lnTo>
                    <a:lnTo>
                      <a:pt x="21" y="29"/>
                    </a:lnTo>
                    <a:lnTo>
                      <a:pt x="18" y="23"/>
                    </a:lnTo>
                    <a:lnTo>
                      <a:pt x="15" y="18"/>
                    </a:lnTo>
                    <a:lnTo>
                      <a:pt x="13" y="13"/>
                    </a:lnTo>
                    <a:lnTo>
                      <a:pt x="10" y="10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9" y="16"/>
                    </a:lnTo>
                    <a:lnTo>
                      <a:pt x="11" y="21"/>
                    </a:lnTo>
                    <a:lnTo>
                      <a:pt x="14" y="25"/>
                    </a:lnTo>
                    <a:lnTo>
                      <a:pt x="17" y="31"/>
                    </a:lnTo>
                    <a:lnTo>
                      <a:pt x="21" y="37"/>
                    </a:lnTo>
                    <a:lnTo>
                      <a:pt x="24" y="43"/>
                    </a:lnTo>
                    <a:lnTo>
                      <a:pt x="28" y="50"/>
                    </a:lnTo>
                    <a:lnTo>
                      <a:pt x="32" y="56"/>
                    </a:lnTo>
                    <a:lnTo>
                      <a:pt x="37" y="63"/>
                    </a:lnTo>
                    <a:lnTo>
                      <a:pt x="41" y="70"/>
                    </a:lnTo>
                    <a:lnTo>
                      <a:pt x="45" y="78"/>
                    </a:lnTo>
                    <a:lnTo>
                      <a:pt x="50" y="85"/>
                    </a:lnTo>
                    <a:lnTo>
                      <a:pt x="54" y="92"/>
                    </a:lnTo>
                    <a:lnTo>
                      <a:pt x="59" y="99"/>
                    </a:lnTo>
                    <a:lnTo>
                      <a:pt x="64" y="106"/>
                    </a:lnTo>
                    <a:lnTo>
                      <a:pt x="68" y="113"/>
                    </a:lnTo>
                    <a:lnTo>
                      <a:pt x="73" y="120"/>
                    </a:lnTo>
                    <a:lnTo>
                      <a:pt x="77" y="126"/>
                    </a:lnTo>
                    <a:lnTo>
                      <a:pt x="82" y="132"/>
                    </a:lnTo>
                    <a:lnTo>
                      <a:pt x="86" y="138"/>
                    </a:lnTo>
                    <a:lnTo>
                      <a:pt x="90" y="143"/>
                    </a:lnTo>
                    <a:lnTo>
                      <a:pt x="94" y="149"/>
                    </a:lnTo>
                    <a:lnTo>
                      <a:pt x="98" y="153"/>
                    </a:lnTo>
                    <a:lnTo>
                      <a:pt x="101" y="157"/>
                    </a:lnTo>
                    <a:lnTo>
                      <a:pt x="104" y="160"/>
                    </a:lnTo>
                    <a:lnTo>
                      <a:pt x="107" y="163"/>
                    </a:lnTo>
                    <a:lnTo>
                      <a:pt x="110" y="165"/>
                    </a:lnTo>
                    <a:lnTo>
                      <a:pt x="110" y="165"/>
                    </a:lnTo>
                    <a:lnTo>
                      <a:pt x="113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9800" y="4089240"/>
                <a:ext cx="162000" cy="71640"/>
              </a:xfrm>
              <a:custGeom>
                <a:avLst/>
                <a:gdLst/>
                <a:ahLst/>
                <a:rect l="l" t="t" r="r" b="b"/>
                <a:pathLst>
                  <a:path w="73" h="32">
                    <a:moveTo>
                      <a:pt x="70" y="0"/>
                    </a:moveTo>
                    <a:lnTo>
                      <a:pt x="70" y="0"/>
                    </a:lnTo>
                    <a:lnTo>
                      <a:pt x="66" y="3"/>
                    </a:lnTo>
                    <a:lnTo>
                      <a:pt x="63" y="6"/>
                    </a:lnTo>
                    <a:lnTo>
                      <a:pt x="60" y="9"/>
                    </a:lnTo>
                    <a:lnTo>
                      <a:pt x="56" y="12"/>
                    </a:lnTo>
                    <a:lnTo>
                      <a:pt x="51" y="15"/>
                    </a:lnTo>
                    <a:lnTo>
                      <a:pt x="47" y="18"/>
                    </a:lnTo>
                    <a:lnTo>
                      <a:pt x="43" y="20"/>
                    </a:lnTo>
                    <a:lnTo>
                      <a:pt x="39" y="23"/>
                    </a:lnTo>
                    <a:lnTo>
                      <a:pt x="34" y="25"/>
                    </a:lnTo>
                    <a:lnTo>
                      <a:pt x="30" y="26"/>
                    </a:lnTo>
                    <a:lnTo>
                      <a:pt x="25" y="27"/>
                    </a:lnTo>
                    <a:lnTo>
                      <a:pt x="20" y="28"/>
                    </a:lnTo>
                    <a:lnTo>
                      <a:pt x="16" y="28"/>
                    </a:lnTo>
                    <a:lnTo>
                      <a:pt x="12" y="27"/>
                    </a:lnTo>
                    <a:lnTo>
                      <a:pt x="7" y="26"/>
                    </a:lnTo>
                    <a:lnTo>
                      <a:pt x="3" y="23"/>
                    </a:lnTo>
                    <a:lnTo>
                      <a:pt x="0" y="28"/>
                    </a:lnTo>
                    <a:lnTo>
                      <a:pt x="5" y="30"/>
                    </a:lnTo>
                    <a:lnTo>
                      <a:pt x="10" y="31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31" y="31"/>
                    </a:lnTo>
                    <a:lnTo>
                      <a:pt x="36" y="29"/>
                    </a:lnTo>
                    <a:lnTo>
                      <a:pt x="41" y="27"/>
                    </a:lnTo>
                    <a:lnTo>
                      <a:pt x="45" y="24"/>
                    </a:lnTo>
                    <a:lnTo>
                      <a:pt x="50" y="22"/>
                    </a:lnTo>
                    <a:lnTo>
                      <a:pt x="54" y="19"/>
                    </a:lnTo>
                    <a:lnTo>
                      <a:pt x="58" y="16"/>
                    </a:lnTo>
                    <a:lnTo>
                      <a:pt x="63" y="13"/>
                    </a:lnTo>
                    <a:lnTo>
                      <a:pt x="66" y="9"/>
                    </a:lnTo>
                    <a:lnTo>
                      <a:pt x="69" y="7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05320" y="3979800"/>
                <a:ext cx="60480" cy="1159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2" y="0"/>
                    </a:move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9" y="12"/>
                    </a:lnTo>
                    <a:lnTo>
                      <a:pt x="18" y="15"/>
                    </a:lnTo>
                    <a:lnTo>
                      <a:pt x="17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2" y="31"/>
                    </a:lnTo>
                    <a:lnTo>
                      <a:pt x="10" y="35"/>
                    </a:lnTo>
                    <a:lnTo>
                      <a:pt x="8" y="39"/>
                    </a:lnTo>
                    <a:lnTo>
                      <a:pt x="5" y="42"/>
                    </a:lnTo>
                    <a:lnTo>
                      <a:pt x="3" y="46"/>
                    </a:lnTo>
                    <a:lnTo>
                      <a:pt x="0" y="48"/>
                    </a:lnTo>
                    <a:lnTo>
                      <a:pt x="3" y="51"/>
                    </a:lnTo>
                    <a:lnTo>
                      <a:pt x="6" y="48"/>
                    </a:lnTo>
                    <a:lnTo>
                      <a:pt x="9" y="45"/>
                    </a:lnTo>
                    <a:lnTo>
                      <a:pt x="12" y="41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0" y="24"/>
                    </a:lnTo>
                    <a:lnTo>
                      <a:pt x="21" y="20"/>
                    </a:lnTo>
                    <a:lnTo>
                      <a:pt x="23" y="16"/>
                    </a:lnTo>
                    <a:lnTo>
                      <a:pt x="24" y="13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51320" y="3330720"/>
                <a:ext cx="114480" cy="649080"/>
              </a:xfrm>
              <a:custGeom>
                <a:avLst/>
                <a:gdLst/>
                <a:ahLst/>
                <a:rect l="l" t="t" r="r" b="b"/>
                <a:pathLst>
                  <a:path w="51" h="289">
                    <a:moveTo>
                      <a:pt x="0" y="4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5"/>
                    </a:lnTo>
                    <a:lnTo>
                      <a:pt x="11" y="33"/>
                    </a:lnTo>
                    <a:lnTo>
                      <a:pt x="13" y="42"/>
                    </a:lnTo>
                    <a:lnTo>
                      <a:pt x="15" y="52"/>
                    </a:lnTo>
                    <a:lnTo>
                      <a:pt x="17" y="63"/>
                    </a:lnTo>
                    <a:lnTo>
                      <a:pt x="19" y="74"/>
                    </a:lnTo>
                    <a:lnTo>
                      <a:pt x="21" y="86"/>
                    </a:lnTo>
                    <a:lnTo>
                      <a:pt x="23" y="98"/>
                    </a:lnTo>
                    <a:lnTo>
                      <a:pt x="25" y="111"/>
                    </a:lnTo>
                    <a:lnTo>
                      <a:pt x="27" y="123"/>
                    </a:lnTo>
                    <a:lnTo>
                      <a:pt x="29" y="137"/>
                    </a:lnTo>
                    <a:lnTo>
                      <a:pt x="30" y="150"/>
                    </a:lnTo>
                    <a:lnTo>
                      <a:pt x="32" y="163"/>
                    </a:lnTo>
                    <a:lnTo>
                      <a:pt x="34" y="177"/>
                    </a:lnTo>
                    <a:lnTo>
                      <a:pt x="36" y="189"/>
                    </a:lnTo>
                    <a:lnTo>
                      <a:pt x="37" y="202"/>
                    </a:lnTo>
                    <a:lnTo>
                      <a:pt x="38" y="213"/>
                    </a:lnTo>
                    <a:lnTo>
                      <a:pt x="39" y="225"/>
                    </a:lnTo>
                    <a:lnTo>
                      <a:pt x="41" y="236"/>
                    </a:lnTo>
                    <a:lnTo>
                      <a:pt x="42" y="246"/>
                    </a:lnTo>
                    <a:lnTo>
                      <a:pt x="43" y="256"/>
                    </a:lnTo>
                    <a:lnTo>
                      <a:pt x="44" y="264"/>
                    </a:lnTo>
                    <a:lnTo>
                      <a:pt x="45" y="271"/>
                    </a:lnTo>
                    <a:lnTo>
                      <a:pt x="45" y="278"/>
                    </a:lnTo>
                    <a:lnTo>
                      <a:pt x="46" y="283"/>
                    </a:lnTo>
                    <a:lnTo>
                      <a:pt x="46" y="287"/>
                    </a:lnTo>
                    <a:lnTo>
                      <a:pt x="46" y="289"/>
                    </a:lnTo>
                    <a:lnTo>
                      <a:pt x="46" y="289"/>
                    </a:lnTo>
                    <a:lnTo>
                      <a:pt x="51" y="289"/>
                    </a:lnTo>
                    <a:lnTo>
                      <a:pt x="51" y="288"/>
                    </a:lnTo>
                    <a:lnTo>
                      <a:pt x="51" y="286"/>
                    </a:lnTo>
                    <a:lnTo>
                      <a:pt x="51" y="282"/>
                    </a:lnTo>
                    <a:lnTo>
                      <a:pt x="50" y="277"/>
                    </a:lnTo>
                    <a:lnTo>
                      <a:pt x="49" y="271"/>
                    </a:lnTo>
                    <a:lnTo>
                      <a:pt x="49" y="264"/>
                    </a:lnTo>
                    <a:lnTo>
                      <a:pt x="48" y="255"/>
                    </a:lnTo>
                    <a:lnTo>
                      <a:pt x="47" y="245"/>
                    </a:lnTo>
                    <a:lnTo>
                      <a:pt x="45" y="235"/>
                    </a:lnTo>
                    <a:lnTo>
                      <a:pt x="44" y="225"/>
                    </a:lnTo>
                    <a:lnTo>
                      <a:pt x="43" y="213"/>
                    </a:lnTo>
                    <a:lnTo>
                      <a:pt x="42" y="201"/>
                    </a:lnTo>
                    <a:lnTo>
                      <a:pt x="40" y="188"/>
                    </a:lnTo>
                    <a:lnTo>
                      <a:pt x="39" y="176"/>
                    </a:lnTo>
                    <a:lnTo>
                      <a:pt x="37" y="163"/>
                    </a:lnTo>
                    <a:lnTo>
                      <a:pt x="35" y="149"/>
                    </a:lnTo>
                    <a:lnTo>
                      <a:pt x="33" y="136"/>
                    </a:lnTo>
                    <a:lnTo>
                      <a:pt x="32" y="123"/>
                    </a:lnTo>
                    <a:lnTo>
                      <a:pt x="30" y="110"/>
                    </a:lnTo>
                    <a:lnTo>
                      <a:pt x="28" y="97"/>
                    </a:lnTo>
                    <a:lnTo>
                      <a:pt x="26" y="85"/>
                    </a:lnTo>
                    <a:lnTo>
                      <a:pt x="24" y="73"/>
                    </a:lnTo>
                    <a:lnTo>
                      <a:pt x="22" y="61"/>
                    </a:lnTo>
                    <a:lnTo>
                      <a:pt x="20" y="51"/>
                    </a:lnTo>
                    <a:lnTo>
                      <a:pt x="17" y="41"/>
                    </a:lnTo>
                    <a:lnTo>
                      <a:pt x="16" y="32"/>
                    </a:lnTo>
                    <a:lnTo>
                      <a:pt x="14" y="24"/>
                    </a:lnTo>
                    <a:lnTo>
                      <a:pt x="11" y="16"/>
                    </a:lnTo>
                    <a:lnTo>
                      <a:pt x="9" y="11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38760" y="3400560"/>
                <a:ext cx="109440" cy="810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49" y="28"/>
                    </a:moveTo>
                    <a:lnTo>
                      <a:pt x="47" y="24"/>
                    </a:lnTo>
                    <a:lnTo>
                      <a:pt x="46" y="20"/>
                    </a:lnTo>
                    <a:lnTo>
                      <a:pt x="44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40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9"/>
                    </a:lnTo>
                    <a:lnTo>
                      <a:pt x="33" y="7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1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4" y="35"/>
                    </a:lnTo>
                    <a:lnTo>
                      <a:pt x="46" y="34"/>
                    </a:lnTo>
                    <a:lnTo>
                      <a:pt x="48" y="33"/>
                    </a:lnTo>
                    <a:lnTo>
                      <a:pt x="49" y="31"/>
                    </a:lnTo>
                    <a:lnTo>
                      <a:pt x="49" y="2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17960" y="341964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3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5" y="18"/>
                    </a:lnTo>
                    <a:lnTo>
                      <a:pt x="14" y="14"/>
                    </a:lnTo>
                    <a:lnTo>
                      <a:pt x="12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62520" y="3395520"/>
                <a:ext cx="64800" cy="320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" y="4"/>
                    </a:moveTo>
                    <a:lnTo>
                      <a:pt x="0" y="4"/>
                    </a:lnTo>
                    <a:lnTo>
                      <a:pt x="4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32280" y="339552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8" y="18"/>
                    </a:moveTo>
                    <a:lnTo>
                      <a:pt x="8" y="18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40200" y="3435480"/>
                <a:ext cx="44280" cy="205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0" y="5"/>
                    </a:moveTo>
                    <a:lnTo>
                      <a:pt x="19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78360" y="3446640"/>
                <a:ext cx="48960" cy="378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12"/>
                    </a:moveTo>
                    <a:lnTo>
                      <a:pt x="22" y="13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22640" y="346068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32280" y="3456000"/>
                <a:ext cx="100080" cy="92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7" y="3"/>
                    </a:lnTo>
                    <a:lnTo>
                      <a:pt x="30" y="5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9" y="14"/>
                    </a:lnTo>
                    <a:lnTo>
                      <a:pt x="41" y="19"/>
                    </a:lnTo>
                    <a:lnTo>
                      <a:pt x="43" y="22"/>
                    </a:lnTo>
                    <a:lnTo>
                      <a:pt x="44" y="26"/>
                    </a:lnTo>
                    <a:lnTo>
                      <a:pt x="45" y="29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3"/>
                    </a:lnTo>
                    <a:lnTo>
                      <a:pt x="45" y="34"/>
                    </a:lnTo>
                    <a:lnTo>
                      <a:pt x="45" y="35"/>
                    </a:lnTo>
                    <a:lnTo>
                      <a:pt x="44" y="37"/>
                    </a:lnTo>
                    <a:lnTo>
                      <a:pt x="43" y="39"/>
                    </a:lnTo>
                    <a:lnTo>
                      <a:pt x="42" y="40"/>
                    </a:lnTo>
                    <a:lnTo>
                      <a:pt x="39" y="41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7" y="36"/>
                    </a:lnTo>
                    <a:lnTo>
                      <a:pt x="24" y="34"/>
                    </a:lnTo>
                    <a:lnTo>
                      <a:pt x="22" y="31"/>
                    </a:lnTo>
                    <a:lnTo>
                      <a:pt x="19" y="28"/>
                    </a:lnTo>
                    <a:lnTo>
                      <a:pt x="18" y="25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0" y="2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32280" y="3454560"/>
                <a:ext cx="79200" cy="2376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6" y="9"/>
                    </a:moveTo>
                    <a:lnTo>
                      <a:pt x="36" y="9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7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006800" y="347328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24"/>
                    </a:moveTo>
                    <a:lnTo>
                      <a:pt x="12" y="24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6" y="11"/>
                    </a:lnTo>
                    <a:lnTo>
                      <a:pt x="8" y="15"/>
                    </a:lnTo>
                    <a:lnTo>
                      <a:pt x="9" y="18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10040" y="35272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65400" y="3503520"/>
                <a:ext cx="46080" cy="478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6" y="10"/>
                    </a:lnTo>
                    <a:lnTo>
                      <a:pt x="9" y="14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20" y="21"/>
                    </a:lnTo>
                    <a:lnTo>
                      <a:pt x="21" y="18"/>
                    </a:lnTo>
                    <a:lnTo>
                      <a:pt x="17" y="17"/>
                    </a:lnTo>
                    <a:lnTo>
                      <a:pt x="13" y="15"/>
                    </a:lnTo>
                    <a:lnTo>
                      <a:pt x="10" y="12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32280" y="350352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3"/>
                    </a:moveTo>
                    <a:lnTo>
                      <a:pt x="0" y="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84760" y="3500280"/>
                <a:ext cx="122040" cy="1238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16" y="0"/>
                    </a:move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9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6" y="10"/>
                    </a:lnTo>
                    <a:lnTo>
                      <a:pt x="48" y="12"/>
                    </a:lnTo>
                    <a:lnTo>
                      <a:pt x="49" y="14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3" y="22"/>
                    </a:lnTo>
                    <a:lnTo>
                      <a:pt x="54" y="24"/>
                    </a:lnTo>
                    <a:lnTo>
                      <a:pt x="55" y="27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2" y="36"/>
                    </a:lnTo>
                    <a:lnTo>
                      <a:pt x="51" y="39"/>
                    </a:lnTo>
                    <a:lnTo>
                      <a:pt x="49" y="40"/>
                    </a:lnTo>
                    <a:lnTo>
                      <a:pt x="48" y="41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3" y="26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9" y="32"/>
                    </a:lnTo>
                    <a:lnTo>
                      <a:pt x="41" y="36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1" y="48"/>
                    </a:lnTo>
                    <a:lnTo>
                      <a:pt x="39" y="51"/>
                    </a:lnTo>
                    <a:lnTo>
                      <a:pt x="37" y="53"/>
                    </a:lnTo>
                    <a:lnTo>
                      <a:pt x="34" y="54"/>
                    </a:lnTo>
                    <a:lnTo>
                      <a:pt x="32" y="55"/>
                    </a:lnTo>
                    <a:lnTo>
                      <a:pt x="29" y="55"/>
                    </a:lnTo>
                    <a:lnTo>
                      <a:pt x="28" y="55"/>
                    </a:lnTo>
                    <a:lnTo>
                      <a:pt x="27" y="55"/>
                    </a:lnTo>
                    <a:lnTo>
                      <a:pt x="16" y="39"/>
                    </a:lnTo>
                    <a:lnTo>
                      <a:pt x="0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1120" y="349884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2" y="3"/>
                    </a:moveTo>
                    <a:lnTo>
                      <a:pt x="22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67200" y="3505320"/>
                <a:ext cx="42840" cy="680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8" y="30"/>
                    </a:moveTo>
                    <a:lnTo>
                      <a:pt x="18" y="30"/>
                    </a:lnTo>
                    <a:lnTo>
                      <a:pt x="19" y="27"/>
                    </a:lnTo>
                    <a:lnTo>
                      <a:pt x="19" y="24"/>
                    </a:lnTo>
                    <a:lnTo>
                      <a:pt x="18" y="22"/>
                    </a:lnTo>
                    <a:lnTo>
                      <a:pt x="17" y="19"/>
                    </a:lnTo>
                    <a:lnTo>
                      <a:pt x="16" y="17"/>
                    </a:lnTo>
                    <a:lnTo>
                      <a:pt x="15" y="14"/>
                    </a:lnTo>
                    <a:lnTo>
                      <a:pt x="13" y="12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6" y="23"/>
                    </a:lnTo>
                    <a:lnTo>
                      <a:pt x="17" y="25"/>
                    </a:lnTo>
                    <a:lnTo>
                      <a:pt x="17" y="27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83040" y="3570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44880" y="354816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5" y="3"/>
                    </a:moveTo>
                    <a:lnTo>
                      <a:pt x="4" y="4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54600" y="35542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20"/>
                    </a:moveTo>
                    <a:lnTo>
                      <a:pt x="12" y="20"/>
                    </a:lnTo>
                    <a:lnTo>
                      <a:pt x="12" y="15"/>
                    </a:lnTo>
                    <a:lnTo>
                      <a:pt x="11" y="11"/>
                    </a:lnTo>
                    <a:lnTo>
                      <a:pt x="9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3440" y="360036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2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3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16440" y="3586320"/>
                <a:ext cx="33120" cy="410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" y="2"/>
                    </a:moveTo>
                    <a:lnTo>
                      <a:pt x="0" y="2"/>
                    </a:lnTo>
                    <a:lnTo>
                      <a:pt x="12" y="18"/>
                    </a:lnTo>
                    <a:lnTo>
                      <a:pt x="15" y="16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84760" y="357516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2"/>
                    </a:moveTo>
                    <a:lnTo>
                      <a:pt x="0" y="3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903840" y="353700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1" y="7"/>
                    </a:lnTo>
                    <a:lnTo>
                      <a:pt x="24" y="10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03840" y="353520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7"/>
                    </a:moveTo>
                    <a:lnTo>
                      <a:pt x="21" y="7"/>
                    </a:lnTo>
                    <a:lnTo>
                      <a:pt x="17" y="4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48120" y="3551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10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278240" y="3759120"/>
                <a:ext cx="77760" cy="954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5" y="42"/>
                    </a:moveTo>
                    <a:lnTo>
                      <a:pt x="35" y="42"/>
                    </a:lnTo>
                    <a:lnTo>
                      <a:pt x="34" y="38"/>
                    </a:lnTo>
                    <a:lnTo>
                      <a:pt x="32" y="34"/>
                    </a:lnTo>
                    <a:lnTo>
                      <a:pt x="30" y="30"/>
                    </a:lnTo>
                    <a:lnTo>
                      <a:pt x="28" y="27"/>
                    </a:lnTo>
                    <a:lnTo>
                      <a:pt x="25" y="23"/>
                    </a:lnTo>
                    <a:lnTo>
                      <a:pt x="22" y="20"/>
                    </a:lnTo>
                    <a:lnTo>
                      <a:pt x="19" y="17"/>
                    </a:lnTo>
                    <a:lnTo>
                      <a:pt x="16" y="14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4" y="15"/>
                    </a:lnTo>
                    <a:lnTo>
                      <a:pt x="17" y="18"/>
                    </a:lnTo>
                    <a:lnTo>
                      <a:pt x="20" y="21"/>
                    </a:lnTo>
                    <a:lnTo>
                      <a:pt x="23" y="25"/>
                    </a:lnTo>
                    <a:lnTo>
                      <a:pt x="25" y="28"/>
                    </a:lnTo>
                    <a:lnTo>
                      <a:pt x="28" y="31"/>
                    </a:lnTo>
                    <a:lnTo>
                      <a:pt x="30" y="35"/>
                    </a:lnTo>
                    <a:lnTo>
                      <a:pt x="31" y="39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51320" y="3854520"/>
                <a:ext cx="14400" cy="87120"/>
              </a:xfrm>
              <a:custGeom>
                <a:avLst/>
                <a:gdLst/>
                <a:ahLst/>
                <a:rect l="l" t="t" r="r" b="b"/>
                <a:pathLst>
                  <a:path w="6" h="39">
                    <a:moveTo>
                      <a:pt x="6" y="39"/>
                    </a:moveTo>
                    <a:lnTo>
                      <a:pt x="6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00560" y="2905200"/>
                <a:ext cx="91800" cy="12384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32" y="21"/>
                    </a:moveTo>
                    <a:lnTo>
                      <a:pt x="32" y="19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2" y="15"/>
                    </a:lnTo>
                    <a:lnTo>
                      <a:pt x="10" y="18"/>
                    </a:lnTo>
                    <a:lnTo>
                      <a:pt x="8" y="21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4" y="29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8" y="53"/>
                    </a:lnTo>
                    <a:lnTo>
                      <a:pt x="12" y="51"/>
                    </a:lnTo>
                    <a:lnTo>
                      <a:pt x="16" y="49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4" y="39"/>
                    </a:lnTo>
                    <a:lnTo>
                      <a:pt x="26" y="35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5" y="34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5" y="40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7" y="46"/>
                    </a:lnTo>
                    <a:lnTo>
                      <a:pt x="27" y="47"/>
                    </a:lnTo>
                    <a:lnTo>
                      <a:pt x="27" y="47"/>
                    </a:lnTo>
                    <a:lnTo>
                      <a:pt x="28" y="47"/>
                    </a:lnTo>
                    <a:lnTo>
                      <a:pt x="29" y="47"/>
                    </a:lnTo>
                    <a:lnTo>
                      <a:pt x="33" y="47"/>
                    </a:lnTo>
                    <a:lnTo>
                      <a:pt x="34" y="46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7" y="45"/>
                    </a:lnTo>
                    <a:lnTo>
                      <a:pt x="38" y="44"/>
                    </a:lnTo>
                    <a:lnTo>
                      <a:pt x="39" y="43"/>
                    </a:lnTo>
                    <a:lnTo>
                      <a:pt x="39" y="42"/>
                    </a:lnTo>
                    <a:lnTo>
                      <a:pt x="40" y="42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0" y="38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7" y="38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4" y="41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30" y="37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3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1" y="22"/>
                    </a:lnTo>
                    <a:lnTo>
                      <a:pt x="30" y="22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7" y="22"/>
                    </a:lnTo>
                    <a:lnTo>
                      <a:pt x="25" y="28"/>
                    </a:lnTo>
                    <a:lnTo>
                      <a:pt x="24" y="30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4" y="44"/>
                    </a:lnTo>
                    <a:lnTo>
                      <a:pt x="12" y="46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4" y="45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6" y="35"/>
                    </a:lnTo>
                    <a:lnTo>
                      <a:pt x="7" y="33"/>
                    </a:lnTo>
                    <a:lnTo>
                      <a:pt x="8" y="31"/>
                    </a:lnTo>
                    <a:lnTo>
                      <a:pt x="9" y="29"/>
                    </a:lnTo>
                    <a:lnTo>
                      <a:pt x="11" y="27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20" y="12"/>
                    </a:lnTo>
                    <a:lnTo>
                      <a:pt x="22" y="11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7" y="15"/>
                    </a:lnTo>
                    <a:lnTo>
                      <a:pt x="27" y="17"/>
                    </a:lnTo>
                    <a:lnTo>
                      <a:pt x="27" y="18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2" y="22"/>
                    </a:lnTo>
                    <a:lnTo>
                      <a:pt x="32" y="21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494160" y="289260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00360" y="2975040"/>
                <a:ext cx="82800" cy="79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2" y="4"/>
                    </a:move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27360" y="2951280"/>
                <a:ext cx="12600" cy="648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0" y="3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2120" y="2886120"/>
                <a:ext cx="63720" cy="139680"/>
              </a:xfrm>
              <a:custGeom>
                <a:avLst/>
                <a:gdLst/>
                <a:ahLst/>
                <a:rect l="l" t="t" r="r" b="b"/>
                <a:pathLst>
                  <a:path w="29" h="62">
                    <a:moveTo>
                      <a:pt x="2" y="3"/>
                    </a:moveTo>
                    <a:lnTo>
                      <a:pt x="2" y="6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7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3" y="41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18" y="36"/>
                    </a:lnTo>
                    <a:lnTo>
                      <a:pt x="19" y="37"/>
                    </a:lnTo>
                    <a:lnTo>
                      <a:pt x="20" y="38"/>
                    </a:lnTo>
                    <a:lnTo>
                      <a:pt x="21" y="39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4" y="45"/>
                    </a:lnTo>
                    <a:lnTo>
                      <a:pt x="24" y="47"/>
                    </a:lnTo>
                    <a:lnTo>
                      <a:pt x="24" y="49"/>
                    </a:lnTo>
                    <a:lnTo>
                      <a:pt x="23" y="53"/>
                    </a:lnTo>
                    <a:lnTo>
                      <a:pt x="24" y="51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14" y="58"/>
                    </a:lnTo>
                    <a:lnTo>
                      <a:pt x="12" y="57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7" y="58"/>
                    </a:lnTo>
                    <a:lnTo>
                      <a:pt x="6" y="57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4" y="60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4" y="62"/>
                    </a:lnTo>
                    <a:lnTo>
                      <a:pt x="14" y="62"/>
                    </a:lnTo>
                    <a:lnTo>
                      <a:pt x="15" y="62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7" y="54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6"/>
                    </a:lnTo>
                    <a:lnTo>
                      <a:pt x="29" y="44"/>
                    </a:lnTo>
                    <a:lnTo>
                      <a:pt x="29" y="43"/>
                    </a:lnTo>
                    <a:lnTo>
                      <a:pt x="29" y="42"/>
                    </a:lnTo>
                    <a:lnTo>
                      <a:pt x="28" y="40"/>
                    </a:lnTo>
                    <a:lnTo>
                      <a:pt x="27" y="39"/>
                    </a:lnTo>
                    <a:lnTo>
                      <a:pt x="26" y="38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2" y="34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8"/>
                    </a:lnTo>
                    <a:lnTo>
                      <a:pt x="8" y="39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6" y="43"/>
                    </a:lnTo>
                    <a:lnTo>
                      <a:pt x="5" y="44"/>
                    </a:lnTo>
                    <a:lnTo>
                      <a:pt x="1" y="49"/>
                    </a:lnTo>
                    <a:lnTo>
                      <a:pt x="2" y="49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7" y="32"/>
                    </a:lnTo>
                    <a:lnTo>
                      <a:pt x="7" y="30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2080" y="289080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73600" y="2951280"/>
                <a:ext cx="44280" cy="111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73600" y="299880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76560" y="292248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34" y="6"/>
                    </a:moveTo>
                    <a:lnTo>
                      <a:pt x="31" y="4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10" y="42"/>
                    </a:lnTo>
                    <a:lnTo>
                      <a:pt x="13" y="43"/>
                    </a:lnTo>
                    <a:lnTo>
                      <a:pt x="15" y="44"/>
                    </a:lnTo>
                    <a:lnTo>
                      <a:pt x="18" y="44"/>
                    </a:lnTo>
                    <a:lnTo>
                      <a:pt x="21" y="44"/>
                    </a:lnTo>
                    <a:lnTo>
                      <a:pt x="24" y="43"/>
                    </a:lnTo>
                    <a:lnTo>
                      <a:pt x="27" y="42"/>
                    </a:lnTo>
                    <a:lnTo>
                      <a:pt x="29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6"/>
                    </a:lnTo>
                    <a:lnTo>
                      <a:pt x="30" y="35"/>
                    </a:lnTo>
                    <a:lnTo>
                      <a:pt x="29" y="34"/>
                    </a:lnTo>
                    <a:lnTo>
                      <a:pt x="28" y="34"/>
                    </a:lnTo>
                    <a:lnTo>
                      <a:pt x="28" y="35"/>
                    </a:lnTo>
                    <a:lnTo>
                      <a:pt x="27" y="36"/>
                    </a:lnTo>
                    <a:lnTo>
                      <a:pt x="26" y="37"/>
                    </a:lnTo>
                    <a:lnTo>
                      <a:pt x="24" y="38"/>
                    </a:lnTo>
                    <a:lnTo>
                      <a:pt x="23" y="39"/>
                    </a:lnTo>
                    <a:lnTo>
                      <a:pt x="21" y="40"/>
                    </a:lnTo>
                    <a:lnTo>
                      <a:pt x="19" y="40"/>
                    </a:lnTo>
                    <a:lnTo>
                      <a:pt x="17" y="40"/>
                    </a:lnTo>
                    <a:lnTo>
                      <a:pt x="15" y="39"/>
                    </a:lnTo>
                    <a:lnTo>
                      <a:pt x="13" y="38"/>
                    </a:lnTo>
                    <a:lnTo>
                      <a:pt x="10" y="37"/>
                    </a:lnTo>
                    <a:lnTo>
                      <a:pt x="9" y="34"/>
                    </a:lnTo>
                    <a:lnTo>
                      <a:pt x="7" y="31"/>
                    </a:lnTo>
                    <a:lnTo>
                      <a:pt x="6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3" y="10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071960" y="288432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59200" y="3052800"/>
                <a:ext cx="250920" cy="468360"/>
              </a:xfrm>
              <a:custGeom>
                <a:avLst/>
                <a:gdLst/>
                <a:ahLst/>
                <a:rect l="l" t="t" r="r" b="b"/>
                <a:pathLst>
                  <a:path w="113" h="208">
                    <a:moveTo>
                      <a:pt x="2" y="3"/>
                    </a:moveTo>
                    <a:lnTo>
                      <a:pt x="0" y="3"/>
                    </a:lnTo>
                    <a:lnTo>
                      <a:pt x="111" y="208"/>
                    </a:lnTo>
                    <a:lnTo>
                      <a:pt x="113" y="207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44800" y="305604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5"/>
                    </a:moveTo>
                    <a:lnTo>
                      <a:pt x="2" y="6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44800" y="3067200"/>
                <a:ext cx="247680" cy="468000"/>
              </a:xfrm>
              <a:custGeom>
                <a:avLst/>
                <a:gdLst/>
                <a:ahLst/>
                <a:rect l="l" t="t" r="r" b="b"/>
                <a:pathLst>
                  <a:path w="111" h="208">
                    <a:moveTo>
                      <a:pt x="109" y="205"/>
                    </a:moveTo>
                    <a:lnTo>
                      <a:pt x="111" y="20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09" y="207"/>
                    </a:lnTo>
                    <a:lnTo>
                      <a:pt x="110" y="207"/>
                    </a:lnTo>
                    <a:lnTo>
                      <a:pt x="109" y="207"/>
                    </a:lnTo>
                    <a:lnTo>
                      <a:pt x="109" y="208"/>
                    </a:lnTo>
                    <a:lnTo>
                      <a:pt x="110" y="207"/>
                    </a:lnTo>
                    <a:lnTo>
                      <a:pt x="109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87800" y="351936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1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09920" y="4084560"/>
                <a:ext cx="379440" cy="201600"/>
              </a:xfrm>
              <a:custGeom>
                <a:avLst/>
                <a:gdLst/>
                <a:ahLst/>
                <a:rect l="l" t="t" r="r" b="b"/>
                <a:pathLst>
                  <a:path w="171" h="90">
                    <a:moveTo>
                      <a:pt x="147" y="90"/>
                    </a:moveTo>
                    <a:lnTo>
                      <a:pt x="152" y="90"/>
                    </a:lnTo>
                    <a:lnTo>
                      <a:pt x="157" y="89"/>
                    </a:lnTo>
                    <a:lnTo>
                      <a:pt x="161" y="86"/>
                    </a:lnTo>
                    <a:lnTo>
                      <a:pt x="164" y="84"/>
                    </a:lnTo>
                    <a:lnTo>
                      <a:pt x="167" y="80"/>
                    </a:lnTo>
                    <a:lnTo>
                      <a:pt x="169" y="76"/>
                    </a:lnTo>
                    <a:lnTo>
                      <a:pt x="171" y="72"/>
                    </a:lnTo>
                    <a:lnTo>
                      <a:pt x="171" y="67"/>
                    </a:lnTo>
                    <a:lnTo>
                      <a:pt x="171" y="23"/>
                    </a:lnTo>
                    <a:lnTo>
                      <a:pt x="171" y="18"/>
                    </a:lnTo>
                    <a:lnTo>
                      <a:pt x="169" y="14"/>
                    </a:lnTo>
                    <a:lnTo>
                      <a:pt x="167" y="10"/>
                    </a:lnTo>
                    <a:lnTo>
                      <a:pt x="164" y="6"/>
                    </a:lnTo>
                    <a:lnTo>
                      <a:pt x="161" y="3"/>
                    </a:lnTo>
                    <a:lnTo>
                      <a:pt x="157" y="1"/>
                    </a:lnTo>
                    <a:lnTo>
                      <a:pt x="152" y="0"/>
                    </a:lnTo>
                    <a:lnTo>
                      <a:pt x="147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67"/>
                    </a:lnTo>
                    <a:lnTo>
                      <a:pt x="1" y="72"/>
                    </a:lnTo>
                    <a:lnTo>
                      <a:pt x="2" y="76"/>
                    </a:lnTo>
                    <a:lnTo>
                      <a:pt x="4" y="80"/>
                    </a:lnTo>
                    <a:lnTo>
                      <a:pt x="7" y="84"/>
                    </a:lnTo>
                    <a:lnTo>
                      <a:pt x="11" y="86"/>
                    </a:lnTo>
                    <a:lnTo>
                      <a:pt x="15" y="89"/>
                    </a:lnTo>
                    <a:lnTo>
                      <a:pt x="20" y="90"/>
                    </a:lnTo>
                    <a:lnTo>
                      <a:pt x="24" y="90"/>
                    </a:lnTo>
                    <a:lnTo>
                      <a:pt x="147" y="9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36800" y="423540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1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8"/>
                    </a:lnTo>
                    <a:lnTo>
                      <a:pt x="9" y="20"/>
                    </a:lnTo>
                    <a:lnTo>
                      <a:pt x="5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10" y="23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87920" y="4135320"/>
                <a:ext cx="46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36800" y="407988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1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0" y="2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63920" y="4079880"/>
                <a:ext cx="272880" cy="4680"/>
              </a:xfrm>
              <a:custGeom>
                <a:avLst/>
                <a:gdLst/>
                <a:ahLst/>
                <a:rect l="l" t="t" r="r" b="b"/>
                <a:pathLst>
                  <a:path w="123" h="2">
                    <a:moveTo>
                      <a:pt x="0" y="2"/>
                    </a:moveTo>
                    <a:lnTo>
                      <a:pt x="0" y="2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08480" y="40798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" y="25"/>
                    </a:moveTo>
                    <a:lnTo>
                      <a:pt x="2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408480" y="413532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44"/>
                    </a:moveTo>
                    <a:lnTo>
                      <a:pt x="2" y="4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08480" y="42354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3"/>
                    </a:moveTo>
                    <a:lnTo>
                      <a:pt x="25" y="23"/>
                    </a:lnTo>
                    <a:lnTo>
                      <a:pt x="21" y="22"/>
                    </a:lnTo>
                    <a:lnTo>
                      <a:pt x="16" y="20"/>
                    </a:lnTo>
                    <a:lnTo>
                      <a:pt x="12" y="18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1" y="20"/>
                    </a:lnTo>
                    <a:lnTo>
                      <a:pt x="15" y="23"/>
                    </a:lnTo>
                    <a:lnTo>
                      <a:pt x="20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63920" y="4286160"/>
                <a:ext cx="272880" cy="3240"/>
              </a:xfrm>
              <a:custGeom>
                <a:avLst/>
                <a:gdLst/>
                <a:ahLst/>
                <a:rect l="l" t="t" r="r" b="b"/>
                <a:pathLst>
                  <a:path w="123" h="1">
                    <a:moveTo>
                      <a:pt x="123" y="0"/>
                    </a:moveTo>
                    <a:lnTo>
                      <a:pt x="12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23" y="1"/>
                    </a:lnTo>
                    <a:lnTo>
                      <a:pt x="123" y="1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452760" y="4108320"/>
                <a:ext cx="301680" cy="154080"/>
              </a:xfrm>
              <a:custGeom>
                <a:avLst/>
                <a:gdLst/>
                <a:ahLst/>
                <a:rect l="l" t="t" r="r" b="b"/>
                <a:pathLst>
                  <a:path w="136" h="68">
                    <a:moveTo>
                      <a:pt x="111" y="68"/>
                    </a:moveTo>
                    <a:lnTo>
                      <a:pt x="116" y="68"/>
                    </a:lnTo>
                    <a:lnTo>
                      <a:pt x="121" y="67"/>
                    </a:lnTo>
                    <a:lnTo>
                      <a:pt x="125" y="65"/>
                    </a:lnTo>
                    <a:lnTo>
                      <a:pt x="128" y="62"/>
                    </a:lnTo>
                    <a:lnTo>
                      <a:pt x="131" y="58"/>
                    </a:lnTo>
                    <a:lnTo>
                      <a:pt x="133" y="54"/>
                    </a:lnTo>
                    <a:lnTo>
                      <a:pt x="135" y="50"/>
                    </a:lnTo>
                    <a:lnTo>
                      <a:pt x="136" y="45"/>
                    </a:lnTo>
                    <a:lnTo>
                      <a:pt x="136" y="23"/>
                    </a:lnTo>
                    <a:lnTo>
                      <a:pt x="135" y="18"/>
                    </a:lnTo>
                    <a:lnTo>
                      <a:pt x="133" y="14"/>
                    </a:lnTo>
                    <a:lnTo>
                      <a:pt x="131" y="10"/>
                    </a:lnTo>
                    <a:lnTo>
                      <a:pt x="128" y="6"/>
                    </a:lnTo>
                    <a:lnTo>
                      <a:pt x="125" y="3"/>
                    </a:lnTo>
                    <a:lnTo>
                      <a:pt x="121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4" y="58"/>
                    </a:lnTo>
                    <a:lnTo>
                      <a:pt x="7" y="62"/>
                    </a:lnTo>
                    <a:lnTo>
                      <a:pt x="10" y="65"/>
                    </a:lnTo>
                    <a:lnTo>
                      <a:pt x="14" y="67"/>
                    </a:lnTo>
                    <a:lnTo>
                      <a:pt x="19" y="68"/>
                    </a:lnTo>
                    <a:lnTo>
                      <a:pt x="23" y="68"/>
                    </a:lnTo>
                    <a:lnTo>
                      <a:pt x="111" y="68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9900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2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9"/>
                    </a:lnTo>
                    <a:lnTo>
                      <a:pt x="9" y="21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0" y="22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49760" y="4160880"/>
                <a:ext cx="4680" cy="4932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9900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2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03520" y="4103640"/>
                <a:ext cx="195480" cy="468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0" y="2"/>
                    </a:moveTo>
                    <a:lnTo>
                      <a:pt x="0" y="2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4808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3" y="25"/>
                    </a:moveTo>
                    <a:lnTo>
                      <a:pt x="3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3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48080" y="4160880"/>
                <a:ext cx="6480" cy="493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2"/>
                    </a:moveTo>
                    <a:lnTo>
                      <a:pt x="3" y="2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808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2"/>
                    </a:moveTo>
                    <a:lnTo>
                      <a:pt x="25" y="22"/>
                    </a:lnTo>
                    <a:lnTo>
                      <a:pt x="21" y="22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2" y="20"/>
                    </a:lnTo>
                    <a:lnTo>
                      <a:pt x="16" y="22"/>
                    </a:lnTo>
                    <a:lnTo>
                      <a:pt x="21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3520" y="4259160"/>
                <a:ext cx="195480" cy="504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88" y="0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89200" y="4106880"/>
                <a:ext cx="28800" cy="15732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6" y="70"/>
                    </a:moveTo>
                    <a:lnTo>
                      <a:pt x="8" y="70"/>
                    </a:lnTo>
                    <a:lnTo>
                      <a:pt x="9" y="70"/>
                    </a:lnTo>
                    <a:lnTo>
                      <a:pt x="10" y="69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4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9"/>
                    </a:lnTo>
                    <a:lnTo>
                      <a:pt x="4" y="70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03600" y="42512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16200" y="4119480"/>
                <a:ext cx="504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0" y="0"/>
                    </a:moveTo>
                    <a:lnTo>
                      <a:pt x="0" y="0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03600" y="41022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03600" y="41022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87760" y="4102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87760" y="4119480"/>
                <a:ext cx="468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2" y="58"/>
                    </a:moveTo>
                    <a:lnTo>
                      <a:pt x="2" y="5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87760" y="425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03600" y="4262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73600" y="4255920"/>
                <a:ext cx="13320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005360" y="425592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71800" y="4255920"/>
                <a:ext cx="135000" cy="324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3" y="0"/>
                    </a:moveTo>
                    <a:lnTo>
                      <a:pt x="1" y="2"/>
                    </a:lnTo>
                    <a:lnTo>
                      <a:pt x="61" y="2"/>
                    </a:lnTo>
                    <a:lnTo>
                      <a:pt x="6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71800" y="425592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1" y="14"/>
                    </a:moveTo>
                    <a:lnTo>
                      <a:pt x="3" y="1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73600" y="4286160"/>
                <a:ext cx="136440" cy="3240"/>
              </a:xfrm>
              <a:custGeom>
                <a:avLst/>
                <a:gdLst/>
                <a:ahLst/>
                <a:rect l="l" t="t" r="r" b="b"/>
                <a:pathLst>
                  <a:path w="61" h="1">
                    <a:moveTo>
                      <a:pt x="59" y="0"/>
                    </a:moveTo>
                    <a:lnTo>
                      <a:pt x="6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0" y="1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78440" y="4255920"/>
                <a:ext cx="23328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09920" y="4255920"/>
                <a:ext cx="504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76640" y="4255920"/>
                <a:ext cx="235080" cy="3240"/>
              </a:xfrm>
              <a:custGeom>
                <a:avLst/>
                <a:gdLst/>
                <a:ahLst/>
                <a:rect l="l" t="t" r="r" b="b"/>
                <a:pathLst>
                  <a:path w="106" h="2">
                    <a:moveTo>
                      <a:pt x="2" y="0"/>
                    </a:moveTo>
                    <a:lnTo>
                      <a:pt x="1" y="2"/>
                    </a:lnTo>
                    <a:lnTo>
                      <a:pt x="106" y="2"/>
                    </a:lnTo>
                    <a:lnTo>
                      <a:pt x="10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76640" y="4255920"/>
                <a:ext cx="4680" cy="334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1" y="14"/>
                    </a:moveTo>
                    <a:lnTo>
                      <a:pt x="2" y="1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78440" y="4286160"/>
                <a:ext cx="236520" cy="324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104" y="0"/>
                    </a:moveTo>
                    <a:lnTo>
                      <a:pt x="10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56120" y="3252960"/>
                <a:ext cx="49320" cy="155520"/>
              </a:xfrm>
              <a:custGeom>
                <a:avLst/>
                <a:gdLst/>
                <a:ahLst/>
                <a:rect l="l" t="t" r="r" b="b"/>
                <a:pathLst>
                  <a:path w="22" h="69">
                    <a:moveTo>
                      <a:pt x="0" y="0"/>
                    </a:moveTo>
                    <a:lnTo>
                      <a:pt x="9" y="37"/>
                    </a:lnTo>
                    <a:lnTo>
                      <a:pt x="22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50000" y="3251160"/>
                <a:ext cx="33120" cy="8748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37"/>
                    </a:moveTo>
                    <a:lnTo>
                      <a:pt x="15" y="37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71960" y="3333600"/>
                <a:ext cx="39600" cy="7776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5" y="33"/>
                    </a:moveTo>
                    <a:lnTo>
                      <a:pt x="18" y="3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34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50000" y="3359160"/>
                <a:ext cx="12600" cy="6336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0"/>
                    </a:moveTo>
                    <a:lnTo>
                      <a:pt x="6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43520" y="3357720"/>
                <a:ext cx="25200" cy="666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9" y="29"/>
                    </a:moveTo>
                    <a:lnTo>
                      <a:pt x="12" y="28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7" y="3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48040" y="3057480"/>
                <a:ext cx="258840" cy="473040"/>
              </a:xfrm>
              <a:custGeom>
                <a:avLst/>
                <a:gdLst/>
                <a:ahLst/>
                <a:rect l="l" t="t" r="r" b="b"/>
                <a:pathLst>
                  <a:path w="117" h="210">
                    <a:moveTo>
                      <a:pt x="117" y="20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109" y="210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948360" y="1766880"/>
            <a:ext cx="169092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апе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5589720"/>
            <a:ext cx="149364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квад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1766880"/>
            <a:ext cx="165708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е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29240" y="3002040"/>
            <a:ext cx="2519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оизво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четырех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25440" y="3002040"/>
            <a:ext cx="249732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араллел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4292640"/>
            <a:ext cx="201600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ямо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916360" y="4292640"/>
            <a:ext cx="2087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ром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3280" y="1125360"/>
            <a:ext cx="2313000" cy="107316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339640" y="1125360"/>
            <a:ext cx="1655640" cy="93528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410920" y="1125360"/>
            <a:ext cx="180036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1125360"/>
            <a:ext cx="223200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3789360"/>
            <a:ext cx="136692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547280" y="3789360"/>
            <a:ext cx="100836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626920" y="5083200"/>
            <a:ext cx="129708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47640" y="5083200"/>
            <a:ext cx="107964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4365720"/>
            <a:ext cx="2592360" cy="15127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51640" y="3933720"/>
            <a:ext cx="2354040" cy="2138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3860640"/>
            <a:ext cx="2816280" cy="17272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>
            <a:hlinkClick r:id="rId1" action="ppaction://hlinksldjump"/>
          </p:cNvPr>
          <p:cNvSpPr/>
          <p:nvPr/>
        </p:nvSpPr>
        <p:spPr>
          <a:xfrm rot="20956200">
            <a:off x="4858920" y="4436640"/>
            <a:ext cx="3384720" cy="1152720"/>
          </a:xfrm>
          <a:prstGeom prst="parallelogram">
            <a:avLst>
              <a:gd name="adj" fmla="val 73407"/>
            </a:avLst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lin ang="604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6043320" y="4117680"/>
            <a:ext cx="1305000" cy="22320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5003640" y="4221000"/>
            <a:ext cx="2594160" cy="2097360"/>
          </a:xfrm>
          <a:custGeom>
            <a:avLst/>
            <a:gdLst>
              <a:gd name="textAreaLeft" fmla="*/ 570240 w 2594160"/>
              <a:gd name="textAreaRight" fmla="*/ 2023920 w 2594160"/>
              <a:gd name="textAreaTop" fmla="*/ 461160 h 2097360"/>
              <a:gd name="textAreaBottom" fmla="*/ 1636200 h 209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692360" y="260280"/>
            <a:ext cx="640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иды многоугольников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39640" y="115920"/>
            <a:ext cx="785880" cy="792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148360" y="3933720"/>
            <a:ext cx="2857320" cy="1654200"/>
          </a:xfrm>
          <a:custGeom>
            <a:avLst/>
            <a:gdLst/>
            <a:ahLst/>
            <a:rect l="l" t="t" r="r" b="b"/>
            <a:pathLst>
              <a:path w="2314" h="1724">
                <a:moveTo>
                  <a:pt x="0" y="1724"/>
                </a:moveTo>
                <a:lnTo>
                  <a:pt x="2314" y="1724"/>
                </a:lnTo>
                <a:lnTo>
                  <a:pt x="1815" y="0"/>
                </a:lnTo>
                <a:lnTo>
                  <a:pt x="454" y="363"/>
                </a:lnTo>
                <a:lnTo>
                  <a:pt x="0" y="1724"/>
                </a:lnTo>
                <a:close/>
              </a:path>
            </a:pathLst>
          </a:custGeom>
          <a:solidFill>
            <a:srgbClr val="339966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258920" y="3860640"/>
            <a:ext cx="2376360" cy="259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4560" y="1052640"/>
            <a:ext cx="295272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0920" y="1052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24000" y="23493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08000" y="342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89440" y="6021360"/>
            <a:ext cx="573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5116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645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587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5305320"/>
                <a:ext cx="2304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651672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380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6877080" y="2852640"/>
            <a:ext cx="2016000" cy="2448000"/>
            <a:chOff x="6877080" y="2852640"/>
            <a:chExt cx="2016000" cy="2448000"/>
          </a:xfrm>
        </p:grpSpPr>
        <p:sp>
          <p:nvSpPr>
            <p:cNvPr id="521" name=""/>
            <p:cNvSpPr/>
            <p:nvPr/>
          </p:nvSpPr>
          <p:spPr>
            <a:xfrm>
              <a:off x="6877080" y="2852640"/>
              <a:ext cx="2016000" cy="2448000"/>
            </a:xfrm>
            <a:prstGeom prst="rtTriangle">
              <a:avLst/>
            </a:prstGeom>
            <a:gradFill rotWithShape="0">
              <a:gsLst>
                <a:gs pos="0">
                  <a:srgbClr val="a78d5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7080" y="4941720"/>
              <a:ext cx="43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08720" y="494172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419640" y="1268280"/>
                <a:ext cx="1761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716360" y="3429000"/>
                <a:ext cx="1619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 rot="3525600">
            <a:off x="7579440" y="5534640"/>
            <a:ext cx="1042920" cy="11527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1187280" y="18900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b9a3ae"/>
                  </a:solidFill>
                  <a:miter/>
                </a:ln>
                <a:solidFill>
                  <a:srgbClr val="5dd7f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еугольника</a:t>
            </a:r>
            <a:endParaRPr b="0" lang="en-US" sz="1800" spc="1" strike="noStrike">
              <a:ln w="19080">
                <a:solidFill>
                  <a:srgbClr val="b9a3ae"/>
                </a:solidFill>
                <a:miter/>
              </a:ln>
              <a:solidFill>
                <a:srgbClr val="5dd7f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7434360" y="0"/>
            <a:ext cx="1709640" cy="13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75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75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25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75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75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75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25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75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219640" y="4292640"/>
            <a:ext cx="3529080" cy="21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1200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56720" y="50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0872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443640" y="404640"/>
            <a:ext cx="2016000" cy="230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04000" y="14130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7283520" y="1916280"/>
                <a:ext cx="311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7451640" y="2133720"/>
            <a:ext cx="43200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9928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54920" y="126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96360" y="198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4000" y="27082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8360" y="2708280"/>
            <a:ext cx="1871640" cy="151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292400" y="3659040"/>
                <a:ext cx="2235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 flipV="1">
            <a:off x="1403280" y="2707920"/>
            <a:ext cx="180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2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52360" y="42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36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0508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067280" y="765000"/>
                <a:ext cx="17287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11280" y="189000"/>
            <a:ext cx="1968480" cy="194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692360" y="5556240"/>
                <a:ext cx="3743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2340000" y="501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рмула Ге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92360" y="6237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 - полуперимет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059280" y="3332160"/>
                <a:ext cx="1266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3276720" y="20606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радиус в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56000" y="364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радиус о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7885080" y="-2062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28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280"/>
                            </p:stCondLst>
                            <p:childTnLst>
                              <p:par>
                                <p:cTn id="4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78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128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28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78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328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378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428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400"/>
                            </p:stCondLst>
                            <p:childTnLst>
                              <p:par>
                                <p:cTn id="5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640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690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740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90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46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946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11280" y="1052640"/>
            <a:ext cx="3529080" cy="1657080"/>
          </a:xfrm>
          <a:prstGeom prst="parallelogram">
            <a:avLst>
              <a:gd name="adj" fmla="val 5324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1280" y="4869000"/>
            <a:ext cx="3527280" cy="1655640"/>
          </a:xfrm>
          <a:prstGeom prst="parallelogram">
            <a:avLst>
              <a:gd name="adj" fmla="val 5326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03640" y="4869000"/>
            <a:ext cx="3780000" cy="1655640"/>
          </a:xfrm>
          <a:prstGeom prst="parallelogram">
            <a:avLst>
              <a:gd name="adj" fmla="val 57078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76360" y="1052640"/>
            <a:ext cx="0" cy="16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76360" y="1052640"/>
            <a:ext cx="215892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40000" y="6021360"/>
            <a:ext cx="72000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40360" y="4869000"/>
            <a:ext cx="187164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003640" y="4868640"/>
            <a:ext cx="3780000" cy="165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72360" y="501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692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84360" y="1197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5640" y="5445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76360" y="1700280"/>
            <a:ext cx="45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63640" y="2708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64911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16000" y="5877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71480" y="136044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500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72360" y="5445000"/>
            <a:ext cx="43056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805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80547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2000" y="54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443640" y="981000"/>
            <a:ext cx="2088360" cy="3023640"/>
            <a:chOff x="6443640" y="981000"/>
            <a:chExt cx="2088360" cy="3023640"/>
          </a:xfrm>
        </p:grpSpPr>
        <p:grpSp>
          <p:nvGrpSpPr>
            <p:cNvPr id="580" name=""/>
            <p:cNvGrpSpPr/>
            <p:nvPr/>
          </p:nvGrpSpPr>
          <p:grpSpPr>
            <a:xfrm>
              <a:off x="6443640" y="981000"/>
              <a:ext cx="2088360" cy="3023640"/>
              <a:chOff x="6443640" y="981000"/>
              <a:chExt cx="2088360" cy="3023640"/>
            </a:xfrm>
          </p:grpSpPr>
          <p:sp>
            <p:nvSpPr>
              <p:cNvPr id="581" name=""/>
              <p:cNvSpPr/>
              <p:nvPr/>
            </p:nvSpPr>
            <p:spPr>
              <a:xfrm>
                <a:off x="6479640" y="982800"/>
                <a:ext cx="2016000" cy="142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494200" y="9810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78200" y="98100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78200" y="9828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79640" y="240264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09520" y="1005840"/>
                <a:ext cx="1958040" cy="1442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66120" y="1004400"/>
                <a:ext cx="2880" cy="144432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06280" y="1004400"/>
                <a:ext cx="196128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06280" y="1005840"/>
                <a:ext cx="4680" cy="144648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09520" y="2447280"/>
                <a:ext cx="1959480" cy="504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48320" y="2404440"/>
                <a:ext cx="2078640" cy="745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520480" y="2397600"/>
                <a:ext cx="11520" cy="813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43640" y="2397600"/>
                <a:ext cx="2083680" cy="1404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443640" y="2404440"/>
                <a:ext cx="11520" cy="8208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448320" y="2473920"/>
                <a:ext cx="2083680" cy="122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62160" y="1580400"/>
                <a:ext cx="252720" cy="40104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790040" y="1578240"/>
                <a:ext cx="26280" cy="29592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60360" y="1578240"/>
                <a:ext cx="23112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60360" y="1580400"/>
                <a:ext cx="4680" cy="29376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60360" y="1872720"/>
                <a:ext cx="234360" cy="1123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691040" y="3708720"/>
                <a:ext cx="346680" cy="29376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691040" y="3708720"/>
                <a:ext cx="34560" cy="745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691040" y="3781440"/>
                <a:ext cx="10080" cy="730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697520" y="38509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750440" y="3878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786800" y="3893760"/>
                <a:ext cx="69120" cy="730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53040" y="3963600"/>
                <a:ext cx="97200" cy="4104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950600" y="39762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024760" y="393516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986960" y="3901320"/>
                <a:ext cx="49320" cy="374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919280" y="3819240"/>
                <a:ext cx="70920" cy="8568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900920" y="3753000"/>
                <a:ext cx="21600" cy="6588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22360" y="370656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677720" y="2504160"/>
                <a:ext cx="290520" cy="1318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02560" y="368352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05800" y="3144600"/>
                <a:ext cx="23040" cy="53856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4480" y="2602800"/>
                <a:ext cx="54360" cy="54396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74480" y="2499120"/>
                <a:ext cx="19800" cy="10512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89240" y="2499120"/>
                <a:ext cx="282240" cy="2124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39080" y="25167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04160" y="3091320"/>
                <a:ext cx="42840" cy="61524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904160" y="3705120"/>
                <a:ext cx="13320" cy="9072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702560" y="3740760"/>
                <a:ext cx="213120" cy="8568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82160" y="3692520"/>
                <a:ext cx="344880" cy="29232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692840" y="3690720"/>
                <a:ext cx="36000" cy="745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17680" y="3763800"/>
                <a:ext cx="11520" cy="730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68000" y="3833280"/>
                <a:ext cx="52560" cy="30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29840" y="3859920"/>
                <a:ext cx="38160" cy="2124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3960" y="3878280"/>
                <a:ext cx="67680" cy="70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469280" y="3945600"/>
                <a:ext cx="95760" cy="410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91880" y="39600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80360" y="391752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3600" y="3883320"/>
                <a:ext cx="49320" cy="352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31480" y="3801240"/>
                <a:ext cx="69120" cy="85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97720" y="3735360"/>
                <a:ext cx="21600" cy="673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516080" y="368892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51640" y="2500560"/>
                <a:ext cx="261000" cy="130392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48040" y="25005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72880" y="3073680"/>
                <a:ext cx="41400" cy="61524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02760" y="3688920"/>
                <a:ext cx="11520" cy="8928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04200" y="3722760"/>
                <a:ext cx="211680" cy="8568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704360" y="366588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89240" y="3128400"/>
                <a:ext cx="21240" cy="53712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89240" y="2704320"/>
                <a:ext cx="28080" cy="42408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80400" y="1708560"/>
                <a:ext cx="226080" cy="2624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96960" y="1883880"/>
                <a:ext cx="34560" cy="334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28280" y="1910520"/>
                <a:ext cx="77400" cy="406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99560" y="194616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19360" y="189792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78760" y="1869120"/>
                <a:ext cx="28080" cy="374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58960" y="1753560"/>
                <a:ext cx="28080" cy="1177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72280" y="1728360"/>
                <a:ext cx="21240" cy="302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72280" y="170532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19360" y="1705320"/>
                <a:ext cx="54000" cy="853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40160" y="1708560"/>
                <a:ext cx="84240" cy="784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23600" y="174240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020000" y="175860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08480" y="1767600"/>
                <a:ext cx="16200" cy="12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5520" y="1774800"/>
                <a:ext cx="19800" cy="33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80400" y="180180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77160" y="1819440"/>
                <a:ext cx="26280" cy="709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7960" y="1853280"/>
                <a:ext cx="49680" cy="190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7960" y="1849680"/>
                <a:ext cx="51120" cy="2304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9480" y="17265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8040" y="172476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44960" y="1575000"/>
                <a:ext cx="57600" cy="709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691040" y="1573200"/>
                <a:ext cx="13320" cy="730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642800" y="1573200"/>
                <a:ext cx="5940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42800" y="1573200"/>
                <a:ext cx="16560" cy="74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6480" y="164268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765560" y="1285920"/>
                <a:ext cx="39600" cy="10332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760520" y="1337760"/>
                <a:ext cx="22680" cy="550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760520" y="1280520"/>
                <a:ext cx="25920" cy="568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786800" y="1280520"/>
                <a:ext cx="21240" cy="568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783560" y="133776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00960" y="1341360"/>
                <a:ext cx="57960" cy="943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509240" y="1396800"/>
                <a:ext cx="46440" cy="42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97720" y="1337760"/>
                <a:ext cx="18360" cy="6408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04200" y="1337760"/>
                <a:ext cx="46440" cy="41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544160" y="1375200"/>
                <a:ext cx="19800" cy="6228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81960" y="1430280"/>
                <a:ext cx="186840" cy="1497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581960" y="1550160"/>
                <a:ext cx="92520" cy="338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76920" y="1439280"/>
                <a:ext cx="12960" cy="1159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580520" y="1427040"/>
                <a:ext cx="191160" cy="2124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63760" y="1430280"/>
                <a:ext cx="7920" cy="12492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673040" y="1548000"/>
                <a:ext cx="95760" cy="3600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99520" y="1122120"/>
                <a:ext cx="282240" cy="4114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692840" y="1436040"/>
                <a:ext cx="90360" cy="101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67000" y="1198440"/>
                <a:ext cx="19800" cy="24048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95920" y="1118520"/>
                <a:ext cx="277560" cy="13320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95920" y="1248480"/>
                <a:ext cx="72360" cy="2278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562160" y="1471680"/>
                <a:ext cx="133920" cy="6732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9280" y="1103760"/>
                <a:ext cx="335520" cy="24264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49640" y="1102320"/>
                <a:ext cx="59400" cy="374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704360" y="1114560"/>
                <a:ext cx="39240" cy="190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42160" y="1116360"/>
                <a:ext cx="59400" cy="550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95080" y="1170000"/>
                <a:ext cx="11520" cy="709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78520" y="123984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63760" y="1230840"/>
                <a:ext cx="19800" cy="763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737480" y="1193040"/>
                <a:ext cx="25920" cy="406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717680" y="1193040"/>
                <a:ext cx="21240" cy="122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97520" y="11880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85200" y="118944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14280" y="1250280"/>
                <a:ext cx="72360" cy="3024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14280" y="1279080"/>
                <a:ext cx="14400" cy="7272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67840" y="1287720"/>
                <a:ext cx="59400" cy="6228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67840" y="1207440"/>
                <a:ext cx="21240" cy="8028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87640" y="1146600"/>
                <a:ext cx="26280" cy="640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11040" y="1102320"/>
                <a:ext cx="138600" cy="4788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699320" y="126432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699320" y="1270080"/>
                <a:ext cx="62640" cy="864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30640" y="126108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6000" y="1261080"/>
                <a:ext cx="46440" cy="1908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710840" y="130572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724160" y="1316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724160" y="13021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709400" y="1302120"/>
                <a:ext cx="1476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709400" y="1316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552440" y="1285920"/>
                <a:ext cx="5256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42360" y="12877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550640" y="12823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573680" y="1282320"/>
                <a:ext cx="44280" cy="864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578720" y="132336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76920" y="1334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76920" y="13215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90240" y="13215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590240" y="1334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15080" y="1423440"/>
                <a:ext cx="117000" cy="4968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15080" y="1421280"/>
                <a:ext cx="118440" cy="2124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79520" y="1423440"/>
                <a:ext cx="52560" cy="51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11840" y="1439280"/>
                <a:ext cx="67680" cy="3600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92040" y="1414440"/>
                <a:ext cx="14400" cy="478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732440" y="1396800"/>
                <a:ext cx="14400" cy="4608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39920" y="1387800"/>
                <a:ext cx="6120" cy="23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42800" y="1396800"/>
                <a:ext cx="57960" cy="154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89240" y="1377000"/>
                <a:ext cx="11520" cy="198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60360" y="151236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81960" y="1510920"/>
                <a:ext cx="102600" cy="6732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57920" y="15714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9840" y="158724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57120" y="1555200"/>
                <a:ext cx="75960" cy="982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57120" y="1506960"/>
                <a:ext cx="28080" cy="514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69440" y="1514520"/>
                <a:ext cx="113760" cy="13320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1512360"/>
                <a:ext cx="110520" cy="6408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69440" y="157140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2840" y="1589400"/>
                <a:ext cx="31320" cy="640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20920" y="1553760"/>
                <a:ext cx="65880" cy="9612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68800" y="151092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3360" y="1646280"/>
                <a:ext cx="111960" cy="4528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89240" y="1953000"/>
                <a:ext cx="47880" cy="1461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91040" y="1642680"/>
                <a:ext cx="46440" cy="31212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3240" y="1642680"/>
                <a:ext cx="396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1560" y="1644840"/>
                <a:ext cx="34560" cy="3049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1560" y="1947600"/>
                <a:ext cx="70920" cy="1569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42560" y="1551600"/>
                <a:ext cx="680760" cy="115596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555680" y="1550160"/>
                <a:ext cx="128880" cy="41004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77720" y="1550160"/>
                <a:ext cx="110880" cy="3960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83560" y="1550160"/>
                <a:ext cx="236160" cy="6732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962120" y="1614240"/>
                <a:ext cx="57600" cy="561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962120" y="2174400"/>
                <a:ext cx="64440" cy="51012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43600" y="2675520"/>
                <a:ext cx="279360" cy="3600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97520" y="2543400"/>
                <a:ext cx="54360" cy="1605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70880" y="2557800"/>
                <a:ext cx="34560" cy="1515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377120" y="2677320"/>
                <a:ext cx="298800" cy="33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377120" y="2261520"/>
                <a:ext cx="54000" cy="42084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337520" y="1632240"/>
                <a:ext cx="93960" cy="62928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340760" y="1546200"/>
                <a:ext cx="222840" cy="9432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77720" y="1450080"/>
                <a:ext cx="266040" cy="38160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77720" y="1448640"/>
                <a:ext cx="191520" cy="784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66360" y="1450080"/>
                <a:ext cx="80640" cy="30312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57280" y="1749960"/>
                <a:ext cx="187920" cy="8532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76280" y="1521360"/>
                <a:ext cx="85680" cy="31212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735680" y="1450080"/>
                <a:ext cx="214920" cy="38844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867800" y="1448640"/>
                <a:ext cx="14760" cy="11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859520" y="1457280"/>
                <a:ext cx="23040" cy="583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78520" y="1512360"/>
                <a:ext cx="82800" cy="144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32440" y="1521360"/>
                <a:ext cx="47880" cy="3600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32440" y="1555200"/>
                <a:ext cx="60840" cy="28872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90040" y="180864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38280" y="1760400"/>
                <a:ext cx="112320" cy="5364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7878240" y="1457280"/>
              <a:ext cx="72360" cy="3049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95440" y="1566360"/>
              <a:ext cx="181440" cy="41688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50160" y="1851480"/>
              <a:ext cx="11520" cy="8712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95440" y="1747800"/>
              <a:ext cx="60840" cy="1087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91840" y="1560600"/>
              <a:ext cx="18360" cy="18900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10200" y="1560600"/>
              <a:ext cx="37800" cy="80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1880" y="1637640"/>
              <a:ext cx="41040" cy="82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50160" y="1639080"/>
              <a:ext cx="21240" cy="446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36480" y="1573200"/>
              <a:ext cx="19800" cy="676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43320" y="1575000"/>
              <a:ext cx="44280" cy="83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881120" y="1655280"/>
              <a:ext cx="36720" cy="47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09200" y="1698120"/>
              <a:ext cx="19800" cy="266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6120" y="1671480"/>
              <a:ext cx="14400" cy="5328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29000" y="1633680"/>
              <a:ext cx="34560" cy="410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55640" y="1642680"/>
              <a:ext cx="12960" cy="9252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47360" y="1735560"/>
              <a:ext cx="17640" cy="82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37280" y="1815840"/>
              <a:ext cx="18360" cy="442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39080" y="1856880"/>
              <a:ext cx="44280" cy="6408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66360" y="1913760"/>
              <a:ext cx="113760" cy="766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53400" y="1937160"/>
              <a:ext cx="19440" cy="478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60080" y="1448640"/>
              <a:ext cx="201600" cy="38340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6560" y="1446480"/>
              <a:ext cx="16200" cy="21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79880" y="1464480"/>
              <a:ext cx="168120" cy="730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79880" y="1533960"/>
              <a:ext cx="83880" cy="30312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34240" y="1814400"/>
              <a:ext cx="26280" cy="19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58280" y="1515960"/>
              <a:ext cx="80640" cy="3013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60080" y="1442880"/>
              <a:ext cx="207720" cy="784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71240" y="1832040"/>
              <a:ext cx="87480" cy="17244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68360" y="194400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69800" y="1832040"/>
              <a:ext cx="92520" cy="17244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21120" y="1573200"/>
              <a:ext cx="153360" cy="39600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19320" y="1573200"/>
              <a:ext cx="12960" cy="14112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29040" y="1708560"/>
              <a:ext cx="47880" cy="1224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44160" y="1717560"/>
              <a:ext cx="29520" cy="374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45600" y="1753560"/>
              <a:ext cx="130680" cy="21744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38280" y="1614240"/>
              <a:ext cx="259200" cy="65088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13600" y="1610640"/>
              <a:ext cx="64440" cy="30852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69760" y="1917360"/>
              <a:ext cx="32760" cy="2048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43480" y="2119320"/>
              <a:ext cx="57600" cy="10872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57080" y="2220840"/>
              <a:ext cx="90720" cy="478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35040" y="1887120"/>
              <a:ext cx="127080" cy="380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38280" y="1821240"/>
              <a:ext cx="125280" cy="730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57080" y="1826280"/>
              <a:ext cx="88920" cy="20700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72200" y="1855080"/>
              <a:ext cx="74160" cy="16920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72200" y="1608840"/>
              <a:ext cx="46440" cy="24624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97760" y="1637640"/>
              <a:ext cx="333720" cy="66168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86400" y="1633680"/>
              <a:ext cx="59400" cy="3618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18360" y="1887120"/>
              <a:ext cx="74520" cy="961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93080" y="1887120"/>
              <a:ext cx="127080" cy="1177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93080" y="2001600"/>
              <a:ext cx="186480" cy="29412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4880" y="2246040"/>
              <a:ext cx="120600" cy="5688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90440" y="2160360"/>
              <a:ext cx="44280" cy="9072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50840" y="1644840"/>
              <a:ext cx="84240" cy="51516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43400" y="1699920"/>
              <a:ext cx="80640" cy="6408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03160" y="1716120"/>
              <a:ext cx="24480" cy="338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61400" y="1695960"/>
              <a:ext cx="47880" cy="2484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38720" y="1695960"/>
              <a:ext cx="24480" cy="374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44840" y="1728360"/>
              <a:ext cx="32760" cy="1584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73280" y="1737360"/>
              <a:ext cx="36000" cy="30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06040" y="1747800"/>
              <a:ext cx="21600" cy="19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38720" y="1744560"/>
              <a:ext cx="74160" cy="7272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38720" y="1742760"/>
              <a:ext cx="59040" cy="1980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94520" y="1758960"/>
              <a:ext cx="19800" cy="428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96320" y="180180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63200" y="1782000"/>
              <a:ext cx="34200" cy="37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38720" y="1782000"/>
              <a:ext cx="28080" cy="72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03800" y="1780200"/>
              <a:ext cx="90360" cy="97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30080" y="1778400"/>
              <a:ext cx="36720" cy="72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65000" y="1783800"/>
              <a:ext cx="31320" cy="532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76520" y="1835280"/>
              <a:ext cx="17640" cy="212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48440" y="181764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55280" y="1823040"/>
              <a:ext cx="19800" cy="352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47000" y="1858680"/>
              <a:ext cx="28080" cy="21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26840" y="1847880"/>
              <a:ext cx="24480" cy="32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03800" y="1838880"/>
              <a:ext cx="25920" cy="12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016760" y="1808640"/>
              <a:ext cx="51120" cy="2844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16760" y="1806840"/>
              <a:ext cx="34560" cy="158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49880" y="1819440"/>
              <a:ext cx="19800" cy="190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96120" y="1985400"/>
              <a:ext cx="57960" cy="745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50840" y="2060280"/>
              <a:ext cx="9720" cy="6948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43440" y="1307160"/>
              <a:ext cx="67320" cy="982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12920" y="129852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92120" y="1362600"/>
              <a:ext cx="61200" cy="720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11920" y="1344960"/>
              <a:ext cx="10080" cy="514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89680" y="1293120"/>
              <a:ext cx="47880" cy="1101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19560" y="12967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5520" y="1344960"/>
              <a:ext cx="32760" cy="864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95520" y="1382040"/>
              <a:ext cx="34200" cy="86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71480" y="1321560"/>
              <a:ext cx="57600" cy="784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42400" y="12913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75720" y="1428840"/>
              <a:ext cx="193320" cy="374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84000" y="1425240"/>
              <a:ext cx="186480" cy="37080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74280" y="1427040"/>
              <a:ext cx="12960" cy="10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74280" y="1436040"/>
              <a:ext cx="183240" cy="37080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53920" y="1794600"/>
              <a:ext cx="16200" cy="10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49920" y="2242440"/>
              <a:ext cx="282240" cy="16056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92920" y="2361600"/>
              <a:ext cx="4140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310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92920" y="2238840"/>
              <a:ext cx="4140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89520" y="2238840"/>
              <a:ext cx="20304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48480" y="22388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484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48480" y="236160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89520" y="2403000"/>
              <a:ext cx="20304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681600" y="2261880"/>
              <a:ext cx="224640" cy="1213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8652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03000" y="2302920"/>
              <a:ext cx="3240" cy="392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652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19400" y="2258640"/>
              <a:ext cx="145440" cy="288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780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78000" y="2302920"/>
              <a:ext cx="4680" cy="392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0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19400" y="2381400"/>
              <a:ext cx="14544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3840" y="2260080"/>
              <a:ext cx="21600" cy="12492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920" y="2374200"/>
              <a:ext cx="12960" cy="12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0364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93920" y="2256480"/>
              <a:ext cx="12960" cy="140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93920" y="2256480"/>
              <a:ext cx="1440" cy="50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82400" y="2256480"/>
              <a:ext cx="11520" cy="140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8240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82400" y="2374200"/>
              <a:ext cx="1152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93920" y="23832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95520" y="2377800"/>
              <a:ext cx="9864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9308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93720" y="2377800"/>
              <a:ext cx="10080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993720" y="2377800"/>
              <a:ext cx="5040" cy="2664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95520" y="2403000"/>
              <a:ext cx="10080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47800" y="2377800"/>
              <a:ext cx="17352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1916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45640" y="2377800"/>
              <a:ext cx="17532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45640" y="2377800"/>
              <a:ext cx="3240" cy="2664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47800" y="2403000"/>
              <a:ext cx="17496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800120" y="1584000"/>
              <a:ext cx="36000" cy="12276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795440" y="1582200"/>
              <a:ext cx="24480" cy="694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811640" y="1648080"/>
              <a:ext cx="29880" cy="604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795440" y="1667880"/>
              <a:ext cx="10080" cy="496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90400" y="1666080"/>
              <a:ext cx="19800" cy="5328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851280" y="1797120"/>
                <a:ext cx="2089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1692360" y="4221000"/>
                <a:ext cx="18428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940360" y="4043520"/>
                <a:ext cx="1890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12800" cy="7192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 txBox="1"/>
          <p:nvPr/>
        </p:nvSpPr>
        <p:spPr>
          <a:xfrm>
            <a:off x="971640" y="115920"/>
            <a:ext cx="77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cbf18"/>
                  </a:solidFill>
                  <a:miter/>
                </a:ln>
                <a:solidFill>
                  <a:srgbClr val="db9a7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араллелограмма</a:t>
            </a:r>
            <a:endParaRPr b="0" lang="en-US" sz="1800" spc="1" strike="noStrike">
              <a:ln w="19080">
                <a:solidFill>
                  <a:srgbClr val="ecbf18"/>
                </a:solidFill>
                <a:miter/>
              </a:ln>
              <a:solidFill>
                <a:srgbClr val="db9a7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107316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75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5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7500"/>
                            </p:stCondLst>
                            <p:childTnLst>
                              <p:par>
                                <p:cTn id="6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900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9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750"/>
                            </p:stCondLst>
                            <p:childTnLst>
                              <p:par>
                                <p:cTn id="6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2:19:11Z</dcterms:created>
  <dc:creator>UserXP</dc:creator>
  <dc:description/>
  <dc:language>en-US</dc:language>
  <cp:lastModifiedBy>UserXP</cp:lastModifiedBy>
  <dcterms:modified xsi:type="dcterms:W3CDTF">2012-04-04T15:42:41Z</dcterms:modified>
  <cp:revision>3</cp:revision>
  <dc:subject/>
  <dc:title>Слайд 1</dc:title>
</cp:coreProperties>
</file>