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9FE6-4F0B-47D7-8348-11350EE0A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0C3A-A784-44D9-B6F2-65008B88C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7215-AC86-440E-BC22-2BF4623CB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45AA-E25D-4141-8304-1F6EB707E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875FD-822E-4EB6-896D-42A2E0C18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9A74D-3796-49D1-BE5B-67AAA1F25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49816-E6E8-4E07-A601-DB527C408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CF25C-2981-4484-93C8-8D16D546C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53B62-6C7F-4475-8A29-F8B809BB9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24132-0AB4-49EB-9A0C-5D3E0B004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5EC58-1FC5-4525-9E91-BC0229A9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848C-F97C-4AFE-8B38-6E2A5306C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42E89-7180-4507-8759-0C9E65F4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280DD-C52A-4741-A5DA-9B279328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E504E-92C5-4C81-A9D0-85FE5EA8D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B3BD7-193F-4F03-B174-D3B16995B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A840D-C790-425F-BAD6-48DC30066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F7AF-823A-48C7-AF4C-EAD76C0EA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085C-073F-4428-9455-18A8D2A35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08F3-2BA0-4FBB-88D5-991A07341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63C7-50DF-4EBA-A732-AFF6417EF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D8EF-2EFC-4B4D-BEE1-EF3F7FEF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2CFF-69A1-4B2C-B4D5-54C977E2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06DE-8AF9-4D0A-802D-DF25D8BD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Группа 2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Прямоуг. 3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50000">
                  <a:srgbClr val="ffffff"/>
                </a:gs>
                <a:gs pos="100000">
                  <a:srgbClr val="00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Полилиния 4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Полилиния 5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Полилиния 6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Полилиния 7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Полилиния 8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Полилиния 9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Полилиния 10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Полилиния 11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59ACE-ACE9-4C7C-9794-5EC387E0D5E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Группа 2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Прямоуг. 3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50000">
                  <a:srgbClr val="ffffff"/>
                </a:gs>
                <a:gs pos="100000">
                  <a:srgbClr val="00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" name="Полилиния 4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" name="Полилиния 5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" name="Полилиния 6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" name="Полилиния 7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" name="Полилиния 8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" name="Полилиния 9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" name="Полилиния 10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" name="Полилиния 11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77ECB-7837-4CBA-AD98-89AC4E48527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Алгебра и начала анализа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Тема урок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Преобразование графиков функций на координатной плоск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1640" y="4038480"/>
            <a:ext cx="38098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математики СОШ № 2 Крутась К П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Группа 12"/>
          <p:cNvGrpSpPr/>
          <p:nvPr/>
        </p:nvGrpSpPr>
        <p:grpSpPr>
          <a:xfrm>
            <a:off x="1981080" y="5943600"/>
            <a:ext cx="5029200" cy="609480"/>
            <a:chOff x="1981080" y="5943600"/>
            <a:chExt cx="5029200" cy="609480"/>
          </a:xfrm>
        </p:grpSpPr>
        <p:sp>
          <p:nvSpPr>
            <p:cNvPr id="106" name="Автофигура 10"/>
            <p:cNvSpPr/>
            <p:nvPr/>
          </p:nvSpPr>
          <p:spPr>
            <a:xfrm>
              <a:off x="1981080" y="5943600"/>
              <a:ext cx="5029200" cy="609480"/>
            </a:xfrm>
            <a:custGeom>
              <a:avLst/>
              <a:gdLst>
                <a:gd name="textAreaLeft" fmla="*/ 1257120 w 5029200"/>
                <a:gd name="textAreaRight" fmla="*/ 3772080 w 5029200"/>
                <a:gd name="textAreaTop" fmla="*/ 7596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425" y="0"/>
                  </a:lnTo>
                  <a:arcTo wR="675" hR="675" stAng="16200000" swAng="5400000"/>
                  <a:lnTo>
                    <a:pt x="8100" y="2700"/>
                  </a:lnTo>
                  <a:lnTo>
                    <a:pt x="13500" y="2700"/>
                  </a:lnTo>
                  <a:lnTo>
                    <a:pt x="13500" y="675"/>
                  </a:lnTo>
                  <a:arcTo wR="675" hR="675" stAng="10800000" swAng="5400000"/>
                  <a:lnTo>
                    <a:pt x="21600" y="0"/>
                  </a:lnTo>
                  <a:lnTo>
                    <a:pt x="18900" y="9450"/>
                  </a:lnTo>
                  <a:lnTo>
                    <a:pt x="21600" y="18900"/>
                  </a:lnTo>
                  <a:lnTo>
                    <a:pt x="16200" y="18900"/>
                  </a:lnTo>
                  <a:lnTo>
                    <a:pt x="16200" y="20925"/>
                  </a:lnTo>
                  <a:arcTo wR="675" hR="675" stAng="0" swAng="5400000"/>
                  <a:lnTo>
                    <a:pt x="6075" y="21600"/>
                  </a:lnTo>
                  <a:arcTo wR="675" hR="675" stAng="5400000" swAng="5400000"/>
                  <a:lnTo>
                    <a:pt x="5400" y="18900"/>
                  </a:lnTo>
                  <a:lnTo>
                    <a:pt x="0" y="18900"/>
                  </a:lnTo>
                  <a:lnTo>
                    <a:pt x="2700" y="9450"/>
                  </a:lnTo>
                  <a:close/>
                </a:path>
                <a:path fill="none" w="21600" h="21600">
                  <a:moveTo>
                    <a:pt x="8100" y="675"/>
                  </a:moveTo>
                  <a:arcTo wR="675" hR="675" stAng="0" swAng="5400000"/>
                  <a:lnTo>
                    <a:pt x="6075" y="1350"/>
                  </a:lnTo>
                  <a:arcTo wR="675" hR="675" stAng="16200000" swAng="-5400000"/>
                  <a:arcTo wR="675" hR="675" stAng="10800000" swAng="-5400000"/>
                  <a:lnTo>
                    <a:pt x="8100" y="2700"/>
                  </a:lnTo>
                </a:path>
                <a:path fill="none" w="21600" h="21600">
                  <a:moveTo>
                    <a:pt x="13500" y="675"/>
                  </a:moveTo>
                  <a:arcTo wR="675" hR="675" stAng="10800000" swAng="-5400000"/>
                  <a:lnTo>
                    <a:pt x="15525" y="1350"/>
                  </a:lnTo>
                  <a:arcTo wR="675" hR="675" stAng="16200000" swAng="5400000"/>
                  <a:arcTo wR="675" hR="675" stAng="0" swAng="5400000"/>
                  <a:lnTo>
                    <a:pt x="13500" y="2700"/>
                  </a:lnTo>
                </a:path>
                <a:path fill="none" w="21600" h="21600">
                  <a:moveTo>
                    <a:pt x="5400" y="2025"/>
                  </a:moveTo>
                  <a:lnTo>
                    <a:pt x="5400" y="18900"/>
                  </a:lnTo>
                </a:path>
                <a:path fill="none" w="21600" h="21600">
                  <a:moveTo>
                    <a:pt x="16200" y="2025"/>
                  </a:moveTo>
                  <a:lnTo>
                    <a:pt x="16200" y="18900"/>
                  </a:lnTo>
                </a:path>
              </a:pathLst>
            </a:cu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" name="Прямоуг. 9"/>
            <p:cNvSpPr/>
            <p:nvPr/>
          </p:nvSpPr>
          <p:spPr>
            <a:xfrm>
              <a:off x="3047760" y="6019920"/>
              <a:ext cx="3810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Нерюнгри 2005.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transition spd="slow" advTm="15000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5440" y="692280"/>
            <a:ext cx="380988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построенном графике – прямой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берем             , то на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координатной плоскости от прямой останется отрезок с концами на координатных ос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Объект 4"/>
              <p:cNvSpPr txBox="1"/>
              <p:nvPr/>
            </p:nvSpPr>
            <p:spPr>
              <a:xfrm>
                <a:off x="2340000" y="1844640"/>
                <a:ext cx="82692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X</m:t>
                          </m:r>
                          <m:r>
                            <m:t xml:space="preserve">&lt;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>
                          <m:r>
                            <m:t xml:space="preserve">Y</m:t>
                          </m:r>
                          <m:r>
                            <m:t xml:space="preserve">&lt;</m:t>
                          </m:r>
                          <m:r>
                            <m:t xml:space="preserve">0</m:t>
                          </m:r>
                        </m:e>
                      </m:mr>
                    </m:m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9" name="Рисунок 7" descr="х=у III"/>
          <p:cNvPicPr/>
          <p:nvPr/>
        </p:nvPicPr>
        <p:blipFill>
          <a:blip r:embed="rId1"/>
          <a:stretch/>
        </p:blipFill>
        <p:spPr>
          <a:xfrm>
            <a:off x="4716360" y="1341360"/>
            <a:ext cx="3816360" cy="33829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5440" y="620280"/>
            <a:ext cx="38098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             , то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учим –Х+У=1 или У=Х+1, строим прямую проходящую через точки  (0,1) и  (-1,0) и убираем ту часть прямой, где 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0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тогда получим отрезок с концами на координатных ося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Объект 4"/>
              <p:cNvSpPr txBox="1"/>
              <p:nvPr/>
            </p:nvSpPr>
            <p:spPr>
              <a:xfrm>
                <a:off x="2124000" y="476280"/>
                <a:ext cx="85716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X</m:t>
                          </m:r>
                          <m:r>
                            <m:t xml:space="preserve">&lt;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>
                          <m:r>
                            <m:t xml:space="preserve">Y</m:t>
                          </m:r>
                          <m:r>
                            <m:t xml:space="preserve">&gt;</m:t>
                          </m:r>
                          <m:r>
                            <m:t xml:space="preserve">0</m:t>
                          </m:r>
                        </m:e>
                      </m:mr>
                    </m:m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42" name="Рисунок 7" descr="х=у IIII"/>
          <p:cNvPicPr/>
          <p:nvPr/>
        </p:nvPicPr>
        <p:blipFill>
          <a:blip r:embed="rId1"/>
          <a:stretch/>
        </p:blipFill>
        <p:spPr>
          <a:xfrm>
            <a:off x="4716360" y="1268280"/>
            <a:ext cx="3743280" cy="33829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4000" y="40464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алогично построим графики - прямые в третьей и четвертой четвертях координатной плоскости раскрыв модули функции при 1) 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0, 2) 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gt;0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У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оответственно, тогда получим требуемый график функ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Рисунок 4" descr="х=у V"/>
          <p:cNvPicPr/>
          <p:nvPr/>
        </p:nvPicPr>
        <p:blipFill>
          <a:blip r:embed="rId1"/>
          <a:stretch/>
        </p:blipFill>
        <p:spPr>
          <a:xfrm>
            <a:off x="2484360" y="2708280"/>
            <a:ext cx="4608720" cy="380196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7" descr="х=у VI"/>
          <p:cNvPicPr/>
          <p:nvPr/>
        </p:nvPicPr>
        <p:blipFill>
          <a:blip r:embed="rId2"/>
          <a:stretch/>
        </p:blipFill>
        <p:spPr>
          <a:xfrm>
            <a:off x="2484360" y="2708280"/>
            <a:ext cx="4608720" cy="38019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4" nodeType="after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Выводы по уроку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 знаете ли вы другие способы построения графика функци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 остальных способах поговорим на следующем уро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 свидания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pull dir="d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Эпиграф к уроку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Красота в единстве теории и практики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Рисунок 4" descr="bd07139_"/>
          <p:cNvPicPr/>
          <p:nvPr/>
        </p:nvPicPr>
        <p:blipFill>
          <a:blip r:embed="rId1"/>
          <a:stretch/>
        </p:blipFill>
        <p:spPr>
          <a:xfrm>
            <a:off x="4800600" y="2895480"/>
            <a:ext cx="2762280" cy="36576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Цели обучения, воспитания и развития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циональные способы построения графиков функц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витие пространственного и логического мышления учащихс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спитание творческого подхода к решению задач алгебр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pull dir="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0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4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Задача1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образить в координатной плоскости ХОУ заданные соотношения между переменными х и у, есл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x| +|y| = 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Рисунок 7" descr="ху"/>
          <p:cNvPicPr/>
          <p:nvPr/>
        </p:nvPicPr>
        <p:blipFill>
          <a:blip r:embed="rId1"/>
          <a:stretch/>
        </p:blipFill>
        <p:spPr>
          <a:xfrm>
            <a:off x="685800" y="2467080"/>
            <a:ext cx="3809880" cy="31417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Способ первый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вый способ построения графика функции – это построение требуемого графика путем преобразований на координатной плоск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анная функция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x|+|y|=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разим у через х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y|=-|x|+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алее составим алгоритм построения графика функци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y|=-|x|+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pull dir="d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7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9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3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5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07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9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Алгоритм построения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= х –прямая – биссектриса 1 и 3 четверти координатной плоскост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x|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– строим путем отображения графика функции 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тносительно оси (ох) в верхнюю полуплоскость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= 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x|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– отображаем график функции 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относительно оси (ох) в нижнюю полуплоскость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= 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x|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+ 1 –параллельный перенос графика функции 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по оси (оу) на 1 вверх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y|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= 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x|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+ 1 –отбрасываем часть графика 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в нижней полуплоскости и оставшуюся часть отображаем  относительно оси (ох) в нижнюю полуплоскость, тогда получим требуемый график заданной функци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y| + |x| = 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pull dir="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" nodeType="afterEffect" fill="hold" presetClass="entr" presetID="1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1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33" nodeType="afterEffect" fill="hold" presetClass="entr" presetID="1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40" nodeType="afterEffect" fill="hold" presetClass="entr" presetID="1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7" nodeType="afterEffect" fill="hold" presetClass="entr" presetID="1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Демонстрация алгоритма построения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22" name="Рисунок 5" descr="Копия ху"/>
          <p:cNvPicPr/>
          <p:nvPr/>
        </p:nvPicPr>
        <p:blipFill>
          <a:blip r:embed="rId1"/>
          <a:stretch/>
        </p:blipFill>
        <p:spPr>
          <a:xfrm>
            <a:off x="1981080" y="1981080"/>
            <a:ext cx="5265720" cy="434340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7" descr="х=у"/>
          <p:cNvPicPr/>
          <p:nvPr/>
        </p:nvPicPr>
        <p:blipFill>
          <a:blip r:embed="rId2"/>
          <a:stretch/>
        </p:blipFill>
        <p:spPr>
          <a:xfrm>
            <a:off x="1981080" y="1981080"/>
            <a:ext cx="5257800" cy="433728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8" descr="MOD(х)=у"/>
          <p:cNvPicPr/>
          <p:nvPr/>
        </p:nvPicPr>
        <p:blipFill>
          <a:blip r:embed="rId3"/>
          <a:stretch/>
        </p:blipFill>
        <p:spPr>
          <a:xfrm>
            <a:off x="1981080" y="1981080"/>
            <a:ext cx="5257800" cy="433728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9" descr="-MOD(х)=у"/>
          <p:cNvPicPr/>
          <p:nvPr/>
        </p:nvPicPr>
        <p:blipFill>
          <a:blip r:embed="rId4"/>
          <a:stretch/>
        </p:blipFill>
        <p:spPr>
          <a:xfrm>
            <a:off x="1981080" y="1981080"/>
            <a:ext cx="5257800" cy="433728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11" descr="-MOD(х)+1=у"/>
          <p:cNvPicPr/>
          <p:nvPr/>
        </p:nvPicPr>
        <p:blipFill>
          <a:blip r:embed="rId5"/>
          <a:stretch/>
        </p:blipFill>
        <p:spPr>
          <a:xfrm>
            <a:off x="1981080" y="1981080"/>
            <a:ext cx="5257800" cy="433728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10" descr="-MOD(х)+1=у_"/>
          <p:cNvPicPr/>
          <p:nvPr/>
        </p:nvPicPr>
        <p:blipFill>
          <a:blip r:embed="rId6"/>
          <a:stretch/>
        </p:blipFill>
        <p:spPr>
          <a:xfrm>
            <a:off x="1981080" y="1981080"/>
            <a:ext cx="5257800" cy="433728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12" descr="y+x=1"/>
          <p:cNvPicPr/>
          <p:nvPr/>
        </p:nvPicPr>
        <p:blipFill>
          <a:blip r:embed="rId7"/>
          <a:stretch/>
        </p:blipFill>
        <p:spPr>
          <a:xfrm>
            <a:off x="1981080" y="1981080"/>
            <a:ext cx="5257800" cy="43372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6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71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6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81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86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91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.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Способ второй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Прямоуг. 5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торой способ построения графика функции – это раскрытие модулей в четвертях  координатной плоскости с учётом знаков координатных осей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Прямоуг. 6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32" name="Рисунок 9" descr="хуII"/>
          <p:cNvPicPr/>
          <p:nvPr/>
        </p:nvPicPr>
        <p:blipFill>
          <a:blip r:embed="rId1"/>
          <a:stretch/>
        </p:blipFill>
        <p:spPr>
          <a:xfrm>
            <a:off x="4788000" y="2349360"/>
            <a:ext cx="3527280" cy="29098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Алгоритм построения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          , то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учим Х+У=1 или У=-Х+1, строим прямую, проходящую через точки с координатами (1,0) и (0,1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Объект 4"/>
              <p:cNvSpPr txBox="1"/>
              <p:nvPr/>
            </p:nvSpPr>
            <p:spPr>
              <a:xfrm>
                <a:off x="1908000" y="1844640"/>
                <a:ext cx="81756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X</m:t>
                          </m:r>
                          <m:r>
                            <m:t xml:space="preserve">&gt;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>
                          <m:r>
                            <m:t xml:space="preserve">Y</m:t>
                          </m:r>
                          <m:r>
                            <m:t xml:space="preserve">&gt;</m:t>
                          </m:r>
                          <m:r>
                            <m:t xml:space="preserve">0</m:t>
                          </m:r>
                        </m:e>
                      </m:mr>
                    </m:m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6" name="Рисунок 6" descr="х=у II"/>
          <p:cNvPicPr/>
          <p:nvPr/>
        </p:nvPicPr>
        <p:blipFill>
          <a:blip r:embed="rId1"/>
          <a:stretch/>
        </p:blipFill>
        <p:spPr>
          <a:xfrm>
            <a:off x="4643280" y="2060640"/>
            <a:ext cx="3889440" cy="34560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0:51:19Z</dcterms:created>
  <dc:creator>Крутась К.П.</dc:creator>
  <dc:description/>
  <dc:language>en-US</dc:language>
  <cp:lastModifiedBy>Admin</cp:lastModifiedBy>
  <dcterms:modified xsi:type="dcterms:W3CDTF">2010-02-16T18:15:03Z</dcterms:modified>
  <cp:revision>6</cp:revision>
  <dc:subject>График функции</dc:subject>
  <dc:title>Алгебра и начала анализа.</dc:title>
</cp:coreProperties>
</file>