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49D9-26A8-434B-B1DB-5EA2FB66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13C-8DD6-450F-9A98-AABD6C02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AB5-91E4-4C89-8DEA-33E2174E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57A-50E0-4C54-9C8C-012741FA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3E1A-6036-4C98-96D2-EADCEA92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8E73-3152-443B-A8F4-3215A718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04D8-48F0-4E45-AD9C-E2269FE1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03C3-60E6-4E54-A092-0049A67D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2464-424F-4A12-ADEE-3E14EB34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8024-B7C7-403A-97BF-9E75CDD2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AEBC-6504-4D87-B02C-1ACEAF2E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3F2-25A8-40D5-8446-22EE8F10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16A1-762E-4E33-B916-872AE6D7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A0CE-8CC4-43E5-9564-C27BDE47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8F02-6F3E-4A63-852C-E4D98E45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B45A-3C58-4A44-8909-519AF2EF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6579-86C0-4BDA-9069-F5544ACC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63B0-8A7B-4DE9-83C5-3D9B1165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C89-4CED-419B-AB70-62050A42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77AC-981E-485F-B213-8C444F47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7FA6-C1F5-4E4F-8231-8FBCE41B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2BD-98BE-4B15-97D8-76A7A890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62A9-B6EF-45C6-811F-37D9A3A0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127-E8E9-4176-9320-B22B8DC6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8738-57B8-433D-B3C2-670333E223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4069-462D-4CBF-8E30-B76C4A72EB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ебра и начала анализа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Тема уро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еобразование графиков функц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4038480"/>
            <a:ext cx="3809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СОШ № 2 Крутась К 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Группа 12"/>
          <p:cNvGrpSpPr/>
          <p:nvPr/>
        </p:nvGrpSpPr>
        <p:grpSpPr>
          <a:xfrm>
            <a:off x="1981080" y="5943600"/>
            <a:ext cx="5029200" cy="609480"/>
            <a:chOff x="1981080" y="5943600"/>
            <a:chExt cx="5029200" cy="609480"/>
          </a:xfrm>
        </p:grpSpPr>
        <p:sp>
          <p:nvSpPr>
            <p:cNvPr id="106" name="Автофигура 10"/>
            <p:cNvSpPr/>
            <p:nvPr/>
          </p:nvSpPr>
          <p:spPr>
            <a:xfrm>
              <a:off x="1981080" y="5943600"/>
              <a:ext cx="5029200" cy="609480"/>
            </a:xfrm>
            <a:custGeom>
              <a:avLst/>
              <a:gdLst>
                <a:gd name="textAreaLeft" fmla="*/ 1257120 w 5029200"/>
                <a:gd name="textAreaRight" fmla="*/ 3772080 w 5029200"/>
                <a:gd name="textAreaTop" fmla="*/ 7596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Прямоуг. 9"/>
            <p:cNvSpPr/>
            <p:nvPr/>
          </p:nvSpPr>
          <p:spPr>
            <a:xfrm>
              <a:off x="3047760" y="6019920"/>
              <a:ext cx="3810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ерюнгри 2005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slow" advTm="15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440" y="692280"/>
            <a:ext cx="3809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остроенном графике – прямой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берем             , то н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ординатной плоскости от прямой останется отрезок с концами на координатных ос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Объект 4"/>
              <p:cNvSpPr txBox="1"/>
              <p:nvPr/>
            </p:nvSpPr>
            <p:spPr>
              <a:xfrm>
                <a:off x="2340000" y="1844640"/>
                <a:ext cx="8269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9" name="Рисунок 7" descr="х=у III"/>
          <p:cNvPicPr/>
          <p:nvPr/>
        </p:nvPicPr>
        <p:blipFill>
          <a:blip r:embed="rId1"/>
          <a:stretch/>
        </p:blipFill>
        <p:spPr>
          <a:xfrm>
            <a:off x="4716360" y="1341360"/>
            <a:ext cx="381636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–Х+У=1 или У=Х+1, строим прямую проходящую через точки  (0,1) и  (-1,0) и убираем ту часть прямой, где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гда получим отрезок с концами на координатных ос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Объект 4"/>
              <p:cNvSpPr txBox="1"/>
              <p:nvPr/>
            </p:nvSpPr>
            <p:spPr>
              <a:xfrm>
                <a:off x="2124000" y="476280"/>
                <a:ext cx="8571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2" name="Рисунок 7" descr="х=у IIII"/>
          <p:cNvPicPr/>
          <p:nvPr/>
        </p:nvPicPr>
        <p:blipFill>
          <a:blip r:embed="rId1"/>
          <a:stretch/>
        </p:blipFill>
        <p:spPr>
          <a:xfrm>
            <a:off x="4716360" y="1268280"/>
            <a:ext cx="374328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огично построим графики - прямые в третьей и четвертой четвертях координатной плоскости раскрыв модули функции при 1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0, 2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ответственно, тогда получим требуемый график фун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Рисунок 4" descr="х=у V"/>
          <p:cNvPicPr/>
          <p:nvPr/>
        </p:nvPicPr>
        <p:blipFill>
          <a:blip r:embed="rId1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х=у VI"/>
          <p:cNvPicPr/>
          <p:nvPr/>
        </p:nvPicPr>
        <p:blipFill>
          <a:blip r:embed="rId2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Выводы по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знаете ли вы другие способы построения графика функ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 остальных способах поговорим на следующем уро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свидани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Эпиграф к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Красота в единстве теории и практи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Рисунок 4" descr="bd07139_"/>
          <p:cNvPicPr/>
          <p:nvPr/>
        </p:nvPicPr>
        <p:blipFill>
          <a:blip r:embed="rId1"/>
          <a:stretch/>
        </p:blipFill>
        <p:spPr>
          <a:xfrm>
            <a:off x="4800600" y="2895480"/>
            <a:ext cx="276228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Цели обучения, воспитания и развит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циональные способы построения графиков фу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пространственного и логического мышления 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ние творческого подхода к решению задач алгеб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Задача1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зить в координатной плоскости ХОУ заданные соотношения между переменными х и у, ес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 +|y| =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7" descr="ху"/>
          <p:cNvPicPr/>
          <p:nvPr/>
        </p:nvPicPr>
        <p:blipFill>
          <a:blip r:embed="rId1"/>
          <a:stretch/>
        </p:blipFill>
        <p:spPr>
          <a:xfrm>
            <a:off x="685800" y="2467080"/>
            <a:ext cx="3809880" cy="3141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первы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способ построения графика функции – это построение требуемого графика путем преобразован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ая функц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+|y|=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зим у через 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составим алгоритм построения график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х –прямая – биссектриса 1 и 3 четверти координатной плоск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строим путем отображения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носительно оси (ох) в верх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отображаем график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относительно оси (ох) в ниж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параллельный перенос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о оси (оу) на 1 ввер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отбрасываем часть графика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 нижней полуплоскости и оставшуюся часть отображаем  относительно оси (ох) в нижнюю полуплоскость, тогда получим требуемый график заданной функци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 + |x| = 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Демонстрация алгоритма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2" name="Рисунок 5" descr="Копия ху"/>
          <p:cNvPicPr/>
          <p:nvPr/>
        </p:nvPicPr>
        <p:blipFill>
          <a:blip r:embed="rId1"/>
          <a:stretch/>
        </p:blipFill>
        <p:spPr>
          <a:xfrm>
            <a:off x="1981080" y="1981080"/>
            <a:ext cx="5265720" cy="43434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х=у"/>
          <p:cNvPicPr/>
          <p:nvPr/>
        </p:nvPicPr>
        <p:blipFill>
          <a:blip r:embed="rId2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MOD(х)=у"/>
          <p:cNvPicPr/>
          <p:nvPr/>
        </p:nvPicPr>
        <p:blipFill>
          <a:blip r:embed="rId3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-MOD(х)=у"/>
          <p:cNvPicPr/>
          <p:nvPr/>
        </p:nvPicPr>
        <p:blipFill>
          <a:blip r:embed="rId4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-MOD(х)+1=у"/>
          <p:cNvPicPr/>
          <p:nvPr/>
        </p:nvPicPr>
        <p:blipFill>
          <a:blip r:embed="rId5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-MOD(х)+1=у_"/>
          <p:cNvPicPr/>
          <p:nvPr/>
        </p:nvPicPr>
        <p:blipFill>
          <a:blip r:embed="rId6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y+x=1"/>
          <p:cNvPicPr/>
          <p:nvPr/>
        </p:nvPicPr>
        <p:blipFill>
          <a:blip r:embed="rId7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.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второ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Прямоуг. 5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способ построения графика функции – это раскрытие модулей в четвертях  координатной плоскости с учётом знаков координатных осей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Прямоуг. 6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2" name="Рисунок 9" descr="хуII"/>
          <p:cNvPicPr/>
          <p:nvPr/>
        </p:nvPicPr>
        <p:blipFill>
          <a:blip r:embed="rId1"/>
          <a:stretch/>
        </p:blipFill>
        <p:spPr>
          <a:xfrm>
            <a:off x="4788000" y="2349360"/>
            <a:ext cx="3527280" cy="2909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Х+У=1 или У=-Х+1, строим прямую, проходящую через точки с координатами (1,0) и (0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Объект 4"/>
              <p:cNvSpPr txBox="1"/>
              <p:nvPr/>
            </p:nvSpPr>
            <p:spPr>
              <a:xfrm>
                <a:off x="1908000" y="1844640"/>
                <a:ext cx="817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6" name="Рисунок 6" descr="х=у II"/>
          <p:cNvPicPr/>
          <p:nvPr/>
        </p:nvPicPr>
        <p:blipFill>
          <a:blip r:embed="rId1"/>
          <a:stretch/>
        </p:blipFill>
        <p:spPr>
          <a:xfrm>
            <a:off x="4643280" y="2060640"/>
            <a:ext cx="3889440" cy="3456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0:51:19Z</dcterms:created>
  <dc:creator>Крутась К.П.</dc:creator>
  <dc:description/>
  <dc:language>en-US</dc:language>
  <cp:lastModifiedBy>Admin</cp:lastModifiedBy>
  <dcterms:modified xsi:type="dcterms:W3CDTF">2010-02-16T18:15:03Z</dcterms:modified>
  <cp:revision>6</cp:revision>
  <dc:subject>График функции</dc:subject>
  <dc:title>Алгебра и начала анализа.</dc:title>
</cp:coreProperties>
</file>