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AE2-8BBD-41D5-A05E-DC899A5C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94B-1ED0-4045-BA12-0EDFEFD0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CE67-4E80-4E6C-8407-41B375D75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DDF-778D-4C36-913F-5DB22190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3B6A-3C86-40CD-8336-85063279E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9E36-280A-4EC1-ACAA-D95226B5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7447-DA8E-4DEA-AF58-F34E6EF3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7B61-CA15-4C97-9C5E-C68AC55C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618B-95E7-45B4-8BBF-C20F1F94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CE5C-7E5A-4FB6-89EF-9DDAD62C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CDF3-0AF1-4768-8C76-147B83B6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5F3B-752E-48AC-ADA0-ACB5EB83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B374-6C05-4FE2-B9C0-A50F1EAF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470F-3938-41BB-8041-BF074A8C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04DD-EC29-4B6D-ADED-481CCE85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A7DA-CEC0-4E12-B11E-3D91170AF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A1E7-1B00-4356-A84B-040ABB6C4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601A-1A7E-4A9D-8EE5-2EC48847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38C-9378-4BA7-A136-801556F4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4921-3FB4-4A1B-8BE2-739EF908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956-4A02-4639-92F4-609EDE57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BDE1-54D3-4329-ADA5-B74CFECB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4BBA-B6AB-4962-8738-4889DAF2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4C8-7E32-43EE-A70C-09B124A1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2DB8-6733-4107-9236-C4C1AA3BAC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0066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Группа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Прямоуг.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" name="Полилиния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" name="Полилиния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" name="Полилиния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" name="Полилиния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" name="Полилиния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" name="Полилиния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" name="Полилиния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" name="Полилиния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7602-C4B6-4A3E-BE9E-3A4AB6D36D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ебра и начала анализа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Тема урок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Преобразование графиков функц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4038480"/>
            <a:ext cx="38098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математики СОШ № 2 Крутась К П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Группа 12"/>
          <p:cNvGrpSpPr/>
          <p:nvPr/>
        </p:nvGrpSpPr>
        <p:grpSpPr>
          <a:xfrm>
            <a:off x="1981080" y="5943600"/>
            <a:ext cx="5029200" cy="609480"/>
            <a:chOff x="1981080" y="5943600"/>
            <a:chExt cx="5029200" cy="609480"/>
          </a:xfrm>
        </p:grpSpPr>
        <p:sp>
          <p:nvSpPr>
            <p:cNvPr id="106" name="Автофигура 10"/>
            <p:cNvSpPr/>
            <p:nvPr/>
          </p:nvSpPr>
          <p:spPr>
            <a:xfrm>
              <a:off x="1981080" y="5943600"/>
              <a:ext cx="5029200" cy="609480"/>
            </a:xfrm>
            <a:custGeom>
              <a:avLst/>
              <a:gdLst>
                <a:gd name="textAreaLeft" fmla="*/ 1257120 w 5029200"/>
                <a:gd name="textAreaRight" fmla="*/ 3772080 w 5029200"/>
                <a:gd name="textAreaTop" fmla="*/ 7596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Прямоуг. 9"/>
            <p:cNvSpPr/>
            <p:nvPr/>
          </p:nvSpPr>
          <p:spPr>
            <a:xfrm>
              <a:off x="3047760" y="6019920"/>
              <a:ext cx="3810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Нерюнгри 2005.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slow" advTm="15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440" y="692280"/>
            <a:ext cx="380988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остроенном графике – прямой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берем             , то на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оординатной плоскости от прямой останется отрезок с концами на координатных ося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Объект 4"/>
              <p:cNvSpPr txBox="1"/>
              <p:nvPr/>
            </p:nvSpPr>
            <p:spPr>
              <a:xfrm>
                <a:off x="2340000" y="1844640"/>
                <a:ext cx="82692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9" name="Рисунок 7" descr="х=у III"/>
          <p:cNvPicPr/>
          <p:nvPr/>
        </p:nvPicPr>
        <p:blipFill>
          <a:blip r:embed="rId1"/>
          <a:stretch/>
        </p:blipFill>
        <p:spPr>
          <a:xfrm>
            <a:off x="4716360" y="1341360"/>
            <a:ext cx="381636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380988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–Х+У=1 или У=Х+1, строим прямую проходящую через точки  (0,1) и  (-1,0) и убираем ту часть прямой, где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тогда получим отрезок с концами на координатных ос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Объект 4"/>
              <p:cNvSpPr txBox="1"/>
              <p:nvPr/>
            </p:nvSpPr>
            <p:spPr>
              <a:xfrm>
                <a:off x="2124000" y="476280"/>
                <a:ext cx="8571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2" name="Рисунок 7" descr="х=у IIII"/>
          <p:cNvPicPr/>
          <p:nvPr/>
        </p:nvPicPr>
        <p:blipFill>
          <a:blip r:embed="rId1"/>
          <a:stretch/>
        </p:blipFill>
        <p:spPr>
          <a:xfrm>
            <a:off x="4716360" y="1268280"/>
            <a:ext cx="3743280" cy="3382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000" y="404640"/>
            <a:ext cx="755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алогично построим графики - прямые в третьей и четвертой четвертях координатной плоскости раскрыв модули функции при 1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0, 2) 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ответственно, тогда получим требуемый график функ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Рисунок 4" descr="х=у V"/>
          <p:cNvPicPr/>
          <p:nvPr/>
        </p:nvPicPr>
        <p:blipFill>
          <a:blip r:embed="rId1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7" descr="х=у VI"/>
          <p:cNvPicPr/>
          <p:nvPr/>
        </p:nvPicPr>
        <p:blipFill>
          <a:blip r:embed="rId2"/>
          <a:stretch/>
        </p:blipFill>
        <p:spPr>
          <a:xfrm>
            <a:off x="2484360" y="2708280"/>
            <a:ext cx="4608720" cy="38019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Выводы по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знаете ли вы другие способы построения графика функци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 остальных способах поговорим на следующем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 свидания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Эпиграф к уроку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Красота в единстве теории и практик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Рисунок 4" descr="bd07139_"/>
          <p:cNvPicPr/>
          <p:nvPr/>
        </p:nvPicPr>
        <p:blipFill>
          <a:blip r:embed="rId1"/>
          <a:stretch/>
        </p:blipFill>
        <p:spPr>
          <a:xfrm>
            <a:off x="4800600" y="2895480"/>
            <a:ext cx="2762280" cy="36576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Цели обучения, воспитания и развит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циональные способы построения графиков фу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пространственного и логического мышления учащих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питание творческого подхода к решению задач алгеб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Задача1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образить в координатной плоскости ХОУ заданные соотношения между переменными х и у, есл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 +|y| =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Рисунок 7" descr="ху"/>
          <p:cNvPicPr/>
          <p:nvPr/>
        </p:nvPicPr>
        <p:blipFill>
          <a:blip r:embed="rId1"/>
          <a:stretch/>
        </p:blipFill>
        <p:spPr>
          <a:xfrm>
            <a:off x="685800" y="2467080"/>
            <a:ext cx="3809880" cy="31417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первы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ый способ построения графика функции – это построение требуемого графика путем преобразований на координатной плоск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н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x|+|y|=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разим у через 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составим алгоритм построения графика функци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y|=-|x|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9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х –прямая – биссектриса 1 и 3 четверти координатной плоскост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строим путем отображения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носительно оси (ох) в верх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– отображаем график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относительно оси (ох) в нижнюю полуплоскость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параллельный перенос графика функции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по оси (оу) на 1 ввер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= 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x|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+ 1 –отбрасываем часть графика у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нижней полуплоскости и оставшуюся часть отображаем  относительно оси (ох) в нижнюю полуплоскость, тогда получим требуемый график заданной функци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|y| + |x| = 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pull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7" nodeType="afterEffect" fill="hold" presetClass="entr" presetID="1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Демонстрация алгоритма построения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2" name="Рисунок 5" descr="Копия ху"/>
          <p:cNvPicPr/>
          <p:nvPr/>
        </p:nvPicPr>
        <p:blipFill>
          <a:blip r:embed="rId1"/>
          <a:stretch/>
        </p:blipFill>
        <p:spPr>
          <a:xfrm>
            <a:off x="1981080" y="1981080"/>
            <a:ext cx="5265720" cy="43434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7" descr="х=у"/>
          <p:cNvPicPr/>
          <p:nvPr/>
        </p:nvPicPr>
        <p:blipFill>
          <a:blip r:embed="rId2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8" descr="MOD(х)=у"/>
          <p:cNvPicPr/>
          <p:nvPr/>
        </p:nvPicPr>
        <p:blipFill>
          <a:blip r:embed="rId3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9" descr="-MOD(х)=у"/>
          <p:cNvPicPr/>
          <p:nvPr/>
        </p:nvPicPr>
        <p:blipFill>
          <a:blip r:embed="rId4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1" descr="-MOD(х)+1=у"/>
          <p:cNvPicPr/>
          <p:nvPr/>
        </p:nvPicPr>
        <p:blipFill>
          <a:blip r:embed="rId5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0" descr="-MOD(х)+1=у_"/>
          <p:cNvPicPr/>
          <p:nvPr/>
        </p:nvPicPr>
        <p:blipFill>
          <a:blip r:embed="rId6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y+x=1"/>
          <p:cNvPicPr/>
          <p:nvPr/>
        </p:nvPicPr>
        <p:blipFill>
          <a:blip r:embed="rId7"/>
          <a:stretch/>
        </p:blipFill>
        <p:spPr>
          <a:xfrm>
            <a:off x="1981080" y="1981080"/>
            <a:ext cx="5257800" cy="4337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.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Способ второй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Прямоуг. 5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торой способ построения графика функции – это раскрытие модулей в четвертях  координатной плоскости с учётом знаков координатных осей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Прямоуг. 6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32" name="Рисунок 9" descr="хуII"/>
          <p:cNvPicPr/>
          <p:nvPr/>
        </p:nvPicPr>
        <p:blipFill>
          <a:blip r:embed="rId1"/>
          <a:stretch/>
        </p:blipFill>
        <p:spPr>
          <a:xfrm>
            <a:off x="4788000" y="2349360"/>
            <a:ext cx="3527280" cy="2909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66"/>
                </a:solidFill>
                <a:latin typeface="Times New Roman"/>
              </a:rPr>
              <a:t>Алгоритм построения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          , то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им Х+У=1 или У=-Х+1, строим прямую, проходящую через точки с координатами (1,0) и (0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Объект 4"/>
              <p:cNvSpPr txBox="1"/>
              <p:nvPr/>
            </p:nvSpPr>
            <p:spPr>
              <a:xfrm>
                <a:off x="1908000" y="1844640"/>
                <a:ext cx="8175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>
                          <m:r>
                            <m:t xml:space="preserve">Y</m:t>
                          </m:r>
                          <m:r>
                            <m:t xml:space="preserve">&gt;</m:t>
                          </m:r>
                          <m:r>
                            <m:t xml:space="preserve">0</m:t>
                          </m:r>
                        </m:e>
                      </m:mr>
                    </m:m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6" name="Рисунок 6" descr="х=у II"/>
          <p:cNvPicPr/>
          <p:nvPr/>
        </p:nvPicPr>
        <p:blipFill>
          <a:blip r:embed="rId1"/>
          <a:stretch/>
        </p:blipFill>
        <p:spPr>
          <a:xfrm>
            <a:off x="4643280" y="2060640"/>
            <a:ext cx="3889440" cy="3456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d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0:51:19Z</dcterms:created>
  <dc:creator>Крутась К.П.</dc:creator>
  <dc:description/>
  <dc:language>en-US</dc:language>
  <cp:lastModifiedBy>Admin</cp:lastModifiedBy>
  <dcterms:modified xsi:type="dcterms:W3CDTF">2010-02-16T18:15:03Z</dcterms:modified>
  <cp:revision>6</cp:revision>
  <dc:subject>График функции</dc:subject>
  <dc:title>Алгебра и начала анализа.</dc:title>
</cp:coreProperties>
</file>