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A5D-6491-4084-952E-0133C713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CF8-AE1D-44CC-88EB-9153753B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B87-1E62-4AED-9263-71F9FBF9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22A4-DDC7-42F2-A023-701DFA03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1635-295E-49B2-B421-E6CC952C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E939-0947-46E1-B79C-A483A0CA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ECD5-0163-4044-9078-79600B06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16B9-ABE8-40DA-8C3A-8942E3F2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CC89-420D-428F-9E3B-F245A945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7536-B3F0-43BD-B437-E74BCAEC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F475-057D-4AF1-9C33-AF847FBA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BAE-654F-45B3-A3FF-144C82F5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D15B-1ED7-49D0-B42C-AED1EB23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63B5-E3B9-4666-A19A-8D04A6F5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838D-6FDE-4D54-B952-588326CC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C4CC-F8BD-4D82-A3BC-71FA2BBE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0181-D223-404F-B06C-CEB63038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825B-69B9-4DC9-BEB5-9F7245B7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66C-6846-44A0-89AA-479C25B3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CB3-FF04-4D93-83CD-AEBC8315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C66B-BF63-4816-8ABA-D1D539FD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E80-7361-4281-B08E-C5E8A4E7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104-25D9-4325-A094-FA4BFBF5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ED3-2AC2-4F6E-BC11-EB41F567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125D-8A68-43F1-BCB1-584999793D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19FF-9B76-47B1-B3BB-98E879B099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ебра и начала анализа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еобразование графиков функц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40384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СОШ № 2 Крутась К 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Группа 12"/>
          <p:cNvGrpSpPr/>
          <p:nvPr/>
        </p:nvGrpSpPr>
        <p:grpSpPr>
          <a:xfrm>
            <a:off x="1981080" y="5943600"/>
            <a:ext cx="5029200" cy="609480"/>
            <a:chOff x="1981080" y="5943600"/>
            <a:chExt cx="5029200" cy="609480"/>
          </a:xfrm>
        </p:grpSpPr>
        <p:sp>
          <p:nvSpPr>
            <p:cNvPr id="106" name="Автофигура 10"/>
            <p:cNvSpPr/>
            <p:nvPr/>
          </p:nvSpPr>
          <p:spPr>
            <a:xfrm>
              <a:off x="1981080" y="5943600"/>
              <a:ext cx="5029200" cy="609480"/>
            </a:xfrm>
            <a:custGeom>
              <a:avLst/>
              <a:gdLst>
                <a:gd name="textAreaLeft" fmla="*/ 1257120 w 5029200"/>
                <a:gd name="textAreaRight" fmla="*/ 3772080 w 5029200"/>
                <a:gd name="textAreaTop" fmla="*/ 7596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Прямоуг. 9"/>
            <p:cNvSpPr/>
            <p:nvPr/>
          </p:nvSpPr>
          <p:spPr>
            <a:xfrm>
              <a:off x="3047760" y="601992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рюнгри 2005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slow" advTm="1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692280"/>
            <a:ext cx="3809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строенном графике – прямой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берем             , то н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ной плоскости от прямой останется отрезок с концами на координатных ос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4"/>
              <p:cNvSpPr txBox="1"/>
              <p:nvPr/>
            </p:nvSpPr>
            <p:spPr>
              <a:xfrm>
                <a:off x="2340000" y="1844640"/>
                <a:ext cx="826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Рисунок 7" descr="х=у III"/>
          <p:cNvPicPr/>
          <p:nvPr/>
        </p:nvPicPr>
        <p:blipFill>
          <a:blip r:embed="rId1"/>
          <a:stretch/>
        </p:blipFill>
        <p:spPr>
          <a:xfrm>
            <a:off x="4716360" y="1341360"/>
            <a:ext cx="381636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–Х+У=1 или У=Х+1, строим прямую проходящую через точки  (0,1) и  (-1,0) и убираем ту часть прямой, где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гда получим отрезок с концами на координатных ос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Объект 4"/>
              <p:cNvSpPr txBox="1"/>
              <p:nvPr/>
            </p:nvSpPr>
            <p:spPr>
              <a:xfrm>
                <a:off x="2124000" y="476280"/>
                <a:ext cx="857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2" name="Рисунок 7" descr="х=у IIII"/>
          <p:cNvPicPr/>
          <p:nvPr/>
        </p:nvPicPr>
        <p:blipFill>
          <a:blip r:embed="rId1"/>
          <a:stretch/>
        </p:blipFill>
        <p:spPr>
          <a:xfrm>
            <a:off x="4716360" y="1268280"/>
            <a:ext cx="374328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огично построим графики - прямые в третьей и четвертой четвертях координатной плоскости раскрыв модули функции при 1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0, 2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тветственно, тогда получим требуемый график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4" descr="х=у V"/>
          <p:cNvPicPr/>
          <p:nvPr/>
        </p:nvPicPr>
        <p:blipFill>
          <a:blip r:embed="rId1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х=у VI"/>
          <p:cNvPicPr/>
          <p:nvPr/>
        </p:nvPicPr>
        <p:blipFill>
          <a:blip r:embed="rId2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Выводы по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наете ли вы другие способы построения графика функ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 остальных способах поговорим на следующем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свидани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расота в единстве теории и практ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4" descr="bd07139_"/>
          <p:cNvPicPr/>
          <p:nvPr/>
        </p:nvPicPr>
        <p:blipFill>
          <a:blip r:embed="rId1"/>
          <a:stretch/>
        </p:blipFill>
        <p:spPr>
          <a:xfrm>
            <a:off x="4800600" y="2895480"/>
            <a:ext cx="276228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Цели обучения, воспитания и развит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циональные способы построения графиков фу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пространственного и логического мышления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творческого подхода к решению задач алгеб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адача1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ть в координатной плоскости ХОУ заданные соотношения между переменными х и у, 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 +|y| =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ху"/>
          <p:cNvPicPr/>
          <p:nvPr/>
        </p:nvPicPr>
        <p:blipFill>
          <a:blip r:embed="rId1"/>
          <a:stretch/>
        </p:blipFill>
        <p:spPr>
          <a:xfrm>
            <a:off x="685800" y="2467080"/>
            <a:ext cx="3809880" cy="3141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первы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способ построения графика функции – это построение требуемого графика путем преобразован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+|y|=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зим у через 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составим алгоритм построения графи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х –прямая – биссектриса 1 и 3 четверти координатной плоск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троим путем отображения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носительно оси (ох) в верх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отображаем график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тносительно оси (ох) в ниж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параллельный перенос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 оси (оу) на 1 ввер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отбрасываем часть графика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нижней полуплоскости и оставшуюся часть отображаем  относительно оси (ох) в нижнюю полуплоскость, тогда получим требуемый график заданной функ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 + |x| = 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Демонстрация алгоритма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2" name="Рисунок 5" descr="Копия ху"/>
          <p:cNvPicPr/>
          <p:nvPr/>
        </p:nvPicPr>
        <p:blipFill>
          <a:blip r:embed="rId1"/>
          <a:stretch/>
        </p:blipFill>
        <p:spPr>
          <a:xfrm>
            <a:off x="1981080" y="1981080"/>
            <a:ext cx="5265720" cy="4343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х=у"/>
          <p:cNvPicPr/>
          <p:nvPr/>
        </p:nvPicPr>
        <p:blipFill>
          <a:blip r:embed="rId2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MOD(х)=у"/>
          <p:cNvPicPr/>
          <p:nvPr/>
        </p:nvPicPr>
        <p:blipFill>
          <a:blip r:embed="rId3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-MOD(х)=у"/>
          <p:cNvPicPr/>
          <p:nvPr/>
        </p:nvPicPr>
        <p:blipFill>
          <a:blip r:embed="rId4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-MOD(х)+1=у"/>
          <p:cNvPicPr/>
          <p:nvPr/>
        </p:nvPicPr>
        <p:blipFill>
          <a:blip r:embed="rId5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-MOD(х)+1=у_"/>
          <p:cNvPicPr/>
          <p:nvPr/>
        </p:nvPicPr>
        <p:blipFill>
          <a:blip r:embed="rId6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y+x=1"/>
          <p:cNvPicPr/>
          <p:nvPr/>
        </p:nvPicPr>
        <p:blipFill>
          <a:blip r:embed="rId7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.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второ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Прямоуг. 5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способ построения графика функции – это раскрытие модулей в четвертях  координатной плоскости с учётом знаков координатных осей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Прямоуг. 6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2" name="Рисунок 9" descr="хуII"/>
          <p:cNvPicPr/>
          <p:nvPr/>
        </p:nvPicPr>
        <p:blipFill>
          <a:blip r:embed="rId1"/>
          <a:stretch/>
        </p:blipFill>
        <p:spPr>
          <a:xfrm>
            <a:off x="4788000" y="2349360"/>
            <a:ext cx="3527280" cy="2909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Х+У=1 или У=-Х+1, строим прямую, проходящую через точки с координатами (1,0) и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Объект 4"/>
              <p:cNvSpPr txBox="1"/>
              <p:nvPr/>
            </p:nvSpPr>
            <p:spPr>
              <a:xfrm>
                <a:off x="1908000" y="1844640"/>
                <a:ext cx="817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Рисунок 6" descr="х=у II"/>
          <p:cNvPicPr/>
          <p:nvPr/>
        </p:nvPicPr>
        <p:blipFill>
          <a:blip r:embed="rId1"/>
          <a:stretch/>
        </p:blipFill>
        <p:spPr>
          <a:xfrm>
            <a:off x="4643280" y="2060640"/>
            <a:ext cx="3889440" cy="3456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0:51:19Z</dcterms:created>
  <dc:creator>Крутась К.П.</dc:creator>
  <dc:description/>
  <dc:language>en-US</dc:language>
  <cp:lastModifiedBy>Admin</cp:lastModifiedBy>
  <dcterms:modified xsi:type="dcterms:W3CDTF">2010-02-16T18:15:03Z</dcterms:modified>
  <cp:revision>6</cp:revision>
  <dc:subject>График функции</dc:subject>
  <dc:title>Алгебра и начала анализа.</dc:title>
</cp:coreProperties>
</file>