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296F-5155-4129-9FFB-17E4985BE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B5C5-566B-481B-AD55-9A04AF91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CA54-0027-4CD4-8AF1-12ACBB960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BB1C-741B-44FA-BCB0-BD6EADA8D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A3B1-4AB2-48FB-984E-43AB3272C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3152-83D4-4FD7-9896-6B447E5C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F9B5-8E23-4E2E-A565-289CC47D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8E3C-8627-499C-9225-29725C60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7620-BE37-4DD0-9189-31618493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EFC2-0BB9-4FA3-BEA0-9B27F856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B912-0A45-43F5-8392-9B4A2B4F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48D2-2786-4D9C-8A07-062FD610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7CE3-857D-4C7B-9C2D-51D62C1A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0EA9-92F3-465B-AEF5-E2AA5C99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14A4-040A-4E16-B7D7-3B6830A9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11B3-3FA9-4970-84ED-2522BB46C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365F-2DE0-4AFD-9080-B0096CAE8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552D-BCBB-4850-B3EF-1E473AC0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32CA-4F46-40AA-A971-63431CD4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7538-3BC0-4C43-9D02-CE673583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15D2-2985-4ADB-A437-0F95AEB2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90E8-CE20-401E-A33C-A9CFBC46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15D0-5103-423D-9E8D-296E5E66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F960-32B2-44D5-B5EC-C50E57DE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Прямоуг.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ffffff"/>
                </a:gs>
                <a:gs pos="100000">
                  <a:srgbClr val="00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Полилиния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Полилиния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Полилиния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Полилиния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Полилиния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Полилиния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Полилиния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Полилиния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7EB5-D270-4C5D-A03D-E1BC244E82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Группа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Прямоуг.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ffffff"/>
                </a:gs>
                <a:gs pos="100000">
                  <a:srgbClr val="00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" name="Полилиния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" name="Полилиния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" name="Полилиния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" name="Полилиния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" name="Полилиния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" name="Полилиния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" name="Полилиния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" name="Полилиния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FEFB-BF7E-4D01-9ACA-202C4D68EC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Алгебра и начала анализа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Тема урок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реобразование графиков функций на координатной плоск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1640" y="4038480"/>
            <a:ext cx="38098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математики СОШ № 2 Крутась К 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Группа 12"/>
          <p:cNvGrpSpPr/>
          <p:nvPr/>
        </p:nvGrpSpPr>
        <p:grpSpPr>
          <a:xfrm>
            <a:off x="1981080" y="5943600"/>
            <a:ext cx="5029200" cy="609480"/>
            <a:chOff x="1981080" y="5943600"/>
            <a:chExt cx="5029200" cy="609480"/>
          </a:xfrm>
        </p:grpSpPr>
        <p:sp>
          <p:nvSpPr>
            <p:cNvPr id="106" name="Автофигура 10"/>
            <p:cNvSpPr/>
            <p:nvPr/>
          </p:nvSpPr>
          <p:spPr>
            <a:xfrm>
              <a:off x="1981080" y="5943600"/>
              <a:ext cx="5029200" cy="609480"/>
            </a:xfrm>
            <a:custGeom>
              <a:avLst/>
              <a:gdLst>
                <a:gd name="textAreaLeft" fmla="*/ 1257120 w 5029200"/>
                <a:gd name="textAreaRight" fmla="*/ 3772080 w 5029200"/>
                <a:gd name="textAreaTop" fmla="*/ 7596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Прямоуг. 9"/>
            <p:cNvSpPr/>
            <p:nvPr/>
          </p:nvSpPr>
          <p:spPr>
            <a:xfrm>
              <a:off x="3047760" y="6019920"/>
              <a:ext cx="3810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ерюнгри 2005.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 spd="slow" advTm="15000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440" y="692280"/>
            <a:ext cx="38098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остроенном графике – прямой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берем             , то на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оординатной плоскости от прямой останется отрезок с концами на координатных ос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Объект 4"/>
              <p:cNvSpPr txBox="1"/>
              <p:nvPr/>
            </p:nvSpPr>
            <p:spPr>
              <a:xfrm>
                <a:off x="2340000" y="1844640"/>
                <a:ext cx="8269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Y</m:t>
                          </m:r>
                          <m:r>
                            <m:t xml:space="preserve">&lt;</m:t>
                          </m:r>
                          <m:r>
                            <m:t xml:space="preserve">0</m:t>
                          </m:r>
                        </m:e>
                      </m:mr>
                    </m:m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9" name="Рисунок 7" descr="х=у III"/>
          <p:cNvPicPr/>
          <p:nvPr/>
        </p:nvPicPr>
        <p:blipFill>
          <a:blip r:embed="rId1"/>
          <a:stretch/>
        </p:blipFill>
        <p:spPr>
          <a:xfrm>
            <a:off x="4716360" y="1341360"/>
            <a:ext cx="3816360" cy="3382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38098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             , то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учим –Х+У=1 или У=Х+1, строим прямую проходящую через точки  (0,1) и  (-1,0) и убираем ту часть прямой, где 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огда получим отрезок с концами на координатных ос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Объект 4"/>
              <p:cNvSpPr txBox="1"/>
              <p:nvPr/>
            </p:nvSpPr>
            <p:spPr>
              <a:xfrm>
                <a:off x="2124000" y="476280"/>
                <a:ext cx="8571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Y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mr>
                    </m:m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2" name="Рисунок 7" descr="х=у IIII"/>
          <p:cNvPicPr/>
          <p:nvPr/>
        </p:nvPicPr>
        <p:blipFill>
          <a:blip r:embed="rId1"/>
          <a:stretch/>
        </p:blipFill>
        <p:spPr>
          <a:xfrm>
            <a:off x="4716360" y="1268280"/>
            <a:ext cx="3743280" cy="3382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000" y="40464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алогично построим графики - прямые в третьей и четвертой четвертях координатной плоскости раскрыв модули функции при 1) 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0, 2) 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У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оответственно, тогда получим требуемый график функ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Рисунок 4" descr="х=у V"/>
          <p:cNvPicPr/>
          <p:nvPr/>
        </p:nvPicPr>
        <p:blipFill>
          <a:blip r:embed="rId1"/>
          <a:stretch/>
        </p:blipFill>
        <p:spPr>
          <a:xfrm>
            <a:off x="2484360" y="2708280"/>
            <a:ext cx="4608720" cy="38019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7" descr="х=у VI"/>
          <p:cNvPicPr/>
          <p:nvPr/>
        </p:nvPicPr>
        <p:blipFill>
          <a:blip r:embed="rId2"/>
          <a:stretch/>
        </p:blipFill>
        <p:spPr>
          <a:xfrm>
            <a:off x="2484360" y="2708280"/>
            <a:ext cx="4608720" cy="38019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4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Выводы по уроку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знаете ли вы другие способы построения графика функци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 остальных способах поговорим на следующем уро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 свидания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d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Эпиграф к уроку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Красота в единстве теории и практик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Рисунок 4" descr="bd07139_"/>
          <p:cNvPicPr/>
          <p:nvPr/>
        </p:nvPicPr>
        <p:blipFill>
          <a:blip r:embed="rId1"/>
          <a:stretch/>
        </p:blipFill>
        <p:spPr>
          <a:xfrm>
            <a:off x="4800600" y="2895480"/>
            <a:ext cx="2762280" cy="36576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Цели обучения, воспитания и развития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циональные способы построения графиков функц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тие пространственного и логического мышления учащих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питание творческого подхода к решению задач алгеб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Задача1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образить в координатной плоскости ХОУ заданные соотношения между переменными х и у, есл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x| +|y| = 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Рисунок 7" descr="ху"/>
          <p:cNvPicPr/>
          <p:nvPr/>
        </p:nvPicPr>
        <p:blipFill>
          <a:blip r:embed="rId1"/>
          <a:stretch/>
        </p:blipFill>
        <p:spPr>
          <a:xfrm>
            <a:off x="685800" y="2467080"/>
            <a:ext cx="3809880" cy="3141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Способ первый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вый способ построения графика функции – это построение требуемого графика путем преобразований на координатной плоск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нная функци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x|+|y|=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разим у через 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y|=-|x|+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лее составим алгоритм построения графика функци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y|=-|x|+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9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7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Алгоритм построения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х –прямая – биссектриса 1 и 3 четверти координатной плоскост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x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строим путем отображения графика функции 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носительно оси (ох) в верхнюю полуплоскость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x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отображаем график функции 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относительно оси (ох) в нижнюю полуплоскость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x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+ 1 –параллельный перенос графика функции 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по оси (оу) на 1 ввер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y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x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+ 1 –отбрасываем часть графика 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в нижней полуплоскости и оставшуюся часть отображаем  относительно оси (ох) в нижнюю полуплоскость, тогда получим требуемый график заданной функци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y| + |x| = 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3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7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Демонстрация алгоритма построения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22" name="Рисунок 5" descr="Копия ху"/>
          <p:cNvPicPr/>
          <p:nvPr/>
        </p:nvPicPr>
        <p:blipFill>
          <a:blip r:embed="rId1"/>
          <a:stretch/>
        </p:blipFill>
        <p:spPr>
          <a:xfrm>
            <a:off x="1981080" y="1981080"/>
            <a:ext cx="5265720" cy="43434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7" descr="х=у"/>
          <p:cNvPicPr/>
          <p:nvPr/>
        </p:nvPicPr>
        <p:blipFill>
          <a:blip r:embed="rId2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8" descr="MOD(х)=у"/>
          <p:cNvPicPr/>
          <p:nvPr/>
        </p:nvPicPr>
        <p:blipFill>
          <a:blip r:embed="rId3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9" descr="-MOD(х)=у"/>
          <p:cNvPicPr/>
          <p:nvPr/>
        </p:nvPicPr>
        <p:blipFill>
          <a:blip r:embed="rId4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1" descr="-MOD(х)+1=у"/>
          <p:cNvPicPr/>
          <p:nvPr/>
        </p:nvPicPr>
        <p:blipFill>
          <a:blip r:embed="rId5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0" descr="-MOD(х)+1=у_"/>
          <p:cNvPicPr/>
          <p:nvPr/>
        </p:nvPicPr>
        <p:blipFill>
          <a:blip r:embed="rId6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2" descr="y+x=1"/>
          <p:cNvPicPr/>
          <p:nvPr/>
        </p:nvPicPr>
        <p:blipFill>
          <a:blip r:embed="rId7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8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9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.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Способ второй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Прямоуг. 5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торой способ построения графика функции – это раскрытие модулей в четвертях  координатной плоскости с учётом знаков координатных осей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Прямоуг. 6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32" name="Рисунок 9" descr="хуII"/>
          <p:cNvPicPr/>
          <p:nvPr/>
        </p:nvPicPr>
        <p:blipFill>
          <a:blip r:embed="rId1"/>
          <a:stretch/>
        </p:blipFill>
        <p:spPr>
          <a:xfrm>
            <a:off x="4788000" y="2349360"/>
            <a:ext cx="3527280" cy="29098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Алгоритм построения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          , то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учим Х+У=1 или У=-Х+1, строим прямую, проходящую через точки с координатами (1,0) и (0,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Объект 4"/>
              <p:cNvSpPr txBox="1"/>
              <p:nvPr/>
            </p:nvSpPr>
            <p:spPr>
              <a:xfrm>
                <a:off x="1908000" y="1844640"/>
                <a:ext cx="8175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Y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mr>
                    </m:m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6" name="Рисунок 6" descr="х=у II"/>
          <p:cNvPicPr/>
          <p:nvPr/>
        </p:nvPicPr>
        <p:blipFill>
          <a:blip r:embed="rId1"/>
          <a:stretch/>
        </p:blipFill>
        <p:spPr>
          <a:xfrm>
            <a:off x="4643280" y="2060640"/>
            <a:ext cx="3889440" cy="34560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0:51:19Z</dcterms:created>
  <dc:creator>Крутась К.П.</dc:creator>
  <dc:description/>
  <dc:language>en-US</dc:language>
  <cp:lastModifiedBy>Admin</cp:lastModifiedBy>
  <dcterms:modified xsi:type="dcterms:W3CDTF">2010-02-16T18:15:03Z</dcterms:modified>
  <cp:revision>6</cp:revision>
  <dc:subject>График функции</dc:subject>
  <dc:title>Алгебра и начала анализа.</dc:title>
</cp:coreProperties>
</file>