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9FE7-20CD-4A63-876A-CF21244D6B37}" type="slidenum">
              <a:rPr b="0" lang="ru-RU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7FA1-E5EC-42B7-8405-41D9E0E5B543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DE15-334F-4555-9582-56098608D0BF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79D5-0C73-4D2C-B458-DF504DBD2B89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03C8-09F3-4FA3-A8D4-11935719A6A7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16D7-CFC1-4D2A-A4AA-120A91920DEB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2FAA-82A7-44E5-8177-DD31041B7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31D7-BCA8-4664-BFA5-505CAF1A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9984-6FEE-4764-B42B-961B9CCFC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EFE1-0D02-447A-ABEF-BD88B7D36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4628-35BD-410F-B055-450B8B9C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433E-98BA-4796-9D65-E1886B02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1B0B-6288-42E6-A34F-6E6E6B19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E10A-ACC9-4412-BD6F-CD527EEE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EB9F-1BB3-48FE-933D-F6B83AF5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6C13-6BB0-4AB9-B0E0-4CBA6F34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DE73-A2DB-480F-8673-F9D6C363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5E70-5F2E-4288-9E4E-520F0E1A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9A92-92DB-441F-88FE-E753B2B18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5892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Тригонометрические урав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ения тригонометрических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737280" y="1676520"/>
            <a:ext cx="43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нгенсом угла х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685440" y="2060640"/>
            <a:ext cx="43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отношение синуса к косинусу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5076720" y="2133720"/>
            <a:ext cx="345132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ратные тригонометрически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466200" y="2637000"/>
            <a:ext cx="52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ол, принадлежащий промежутку 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97080" y="1989000"/>
            <a:ext cx="55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ктангенсомом чис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7"/>
              <p:cNvSpPr txBox="1"/>
              <p:nvPr/>
            </p:nvSpPr>
            <p:spPr>
              <a:xfrm>
                <a:off x="2268360" y="3213000"/>
                <a:ext cx="14511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5" name="Rectangle 9"/>
          <p:cNvSpPr/>
          <p:nvPr/>
        </p:nvSpPr>
        <p:spPr>
          <a:xfrm>
            <a:off x="687600" y="436572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нгенс которого раве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1"/>
          <a:stretch/>
        </p:blipFill>
        <p:spPr>
          <a:xfrm>
            <a:off x="5003640" y="2637000"/>
            <a:ext cx="392436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6"/>
              <p:cNvSpPr txBox="1"/>
              <p:nvPr/>
            </p:nvSpPr>
            <p:spPr>
              <a:xfrm>
                <a:off x="611280" y="2349360"/>
                <a:ext cx="23050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0" name="Picture 9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4"/>
              <p:cNvSpPr txBox="1"/>
              <p:nvPr/>
            </p:nvSpPr>
            <p:spPr>
              <a:xfrm>
                <a:off x="468360" y="1773360"/>
                <a:ext cx="3457440" cy="18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-252360" y="1197000"/>
            <a:ext cx="993780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4"/>
              <p:cNvSpPr txBox="1"/>
              <p:nvPr/>
            </p:nvSpPr>
            <p:spPr>
              <a:xfrm>
                <a:off x="365040" y="2349360"/>
                <a:ext cx="27990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4"/>
              <p:cNvSpPr txBox="1"/>
              <p:nvPr/>
            </p:nvSpPr>
            <p:spPr>
              <a:xfrm>
                <a:off x="447840" y="2430360"/>
                <a:ext cx="263340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  <p:sp>
        <p:nvSpPr>
          <p:cNvPr id="104" name="Line 9"/>
          <p:cNvSpPr/>
          <p:nvPr/>
        </p:nvSpPr>
        <p:spPr>
          <a:xfrm>
            <a:off x="6588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210360" y="38084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 flipH="1">
            <a:off x="5796000" y="2852640"/>
            <a:ext cx="79200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5796000" y="4005360"/>
            <a:ext cx="79200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5942520" y="35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611280" y="1700280"/>
                <a:ext cx="391932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тоды решения уравнений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ые тригонометрические формул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ы при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476360" y="3068640"/>
            <a:ext cx="302436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едение к одной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ункции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4427640" y="3068640"/>
            <a:ext cx="302400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лож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множители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5651640" y="3284640"/>
            <a:ext cx="3492360" cy="3019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684360" y="1916280"/>
                <a:ext cx="5111640" cy="12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Rectangle 8"/>
          <p:cNvSpPr/>
          <p:nvPr/>
        </p:nvSpPr>
        <p:spPr>
          <a:xfrm>
            <a:off x="253800" y="4074840"/>
            <a:ext cx="562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авнение однородное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 к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епени слагаемых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держащих переменные одинаковые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ения тригонометрических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36560" y="1647720"/>
            <a:ext cx="40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нусом угла х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82920" y="2060640"/>
            <a:ext cx="398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ордина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очки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диничной окружности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ученной из точки (1; 0)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оротом на угол х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38472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611280" y="333360"/>
                <a:ext cx="554508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5651640" y="3284640"/>
            <a:ext cx="349236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755640" y="549360"/>
                <a:ext cx="585936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343080" y="76392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539640" y="1268280"/>
                <a:ext cx="60962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4957920" y="3238560"/>
            <a:ext cx="4186080" cy="36194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198720" y="25920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6"/>
              <p:cNvSpPr txBox="1"/>
              <p:nvPr/>
            </p:nvSpPr>
            <p:spPr>
              <a:xfrm>
                <a:off x="395280" y="620640"/>
                <a:ext cx="6095880" cy="14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,5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343080" y="76392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2" name="Object 6"/>
              <p:cNvSpPr txBox="1"/>
              <p:nvPr/>
            </p:nvSpPr>
            <p:spPr>
              <a:xfrm>
                <a:off x="684360" y="1268280"/>
                <a:ext cx="208728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421920" y="763920"/>
            <a:ext cx="31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равен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6012000" y="4149720"/>
            <a:ext cx="3132000" cy="2708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5" name="Object 6"/>
              <p:cNvSpPr txBox="1"/>
              <p:nvPr/>
            </p:nvSpPr>
            <p:spPr>
              <a:xfrm>
                <a:off x="539640" y="1268280"/>
                <a:ext cx="316872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-108000" y="692280"/>
            <a:ext cx="10009080" cy="41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5364000" y="2349360"/>
            <a:ext cx="3257640" cy="2538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312480" y="3357720"/>
            <a:ext cx="65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ол, принадлежащий промежутку                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469080" y="2781360"/>
            <a:ext cx="48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усом чис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8"/>
              <p:cNvSpPr txBox="1"/>
              <p:nvPr/>
            </p:nvSpPr>
            <p:spPr>
              <a:xfrm>
                <a:off x="1835280" y="3860640"/>
                <a:ext cx="13698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ратные тригонометрически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13080" y="4941720"/>
            <a:ext cx="35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нус которого раве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3"/>
              <p:cNvSpPr txBox="1"/>
              <p:nvPr/>
            </p:nvSpPr>
            <p:spPr>
              <a:xfrm>
                <a:off x="1403280" y="5589720"/>
                <a:ext cx="20163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2556000" y="765000"/>
            <a:ext cx="2744640" cy="46818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242360" y="107172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y=arcsinx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ения тригонометрических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736200" y="1676520"/>
            <a:ext cx="43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синусом угла х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82920" y="2060640"/>
            <a:ext cx="398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абсцис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очки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диничной окружности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ученной из точки (1; 0)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оротом на угол х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5724360" y="1916280"/>
            <a:ext cx="265140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-325440" y="684360"/>
            <a:ext cx="1137744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321840" y="3357720"/>
            <a:ext cx="52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ол, принадлежащий промежутку 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69440" y="2781360"/>
            <a:ext cx="50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косинусом чис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ратные тригонометрически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9"/>
              <p:cNvSpPr txBox="1"/>
              <p:nvPr/>
            </p:nvSpPr>
            <p:spPr>
              <a:xfrm>
                <a:off x="1692360" y="5516640"/>
                <a:ext cx="20160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Rectangle 8"/>
          <p:cNvSpPr/>
          <p:nvPr/>
        </p:nvSpPr>
        <p:spPr>
          <a:xfrm>
            <a:off x="613440" y="4941720"/>
            <a:ext cx="38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инус которого раве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10"/>
              <p:cNvSpPr txBox="1"/>
              <p:nvPr/>
            </p:nvSpPr>
            <p:spPr>
              <a:xfrm>
                <a:off x="1908000" y="4076640"/>
                <a:ext cx="10717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74" name="Picture 12" descr=""/>
          <p:cNvPicPr/>
          <p:nvPr/>
        </p:nvPicPr>
        <p:blipFill>
          <a:blip r:embed="rId1"/>
          <a:stretch/>
        </p:blipFill>
        <p:spPr>
          <a:xfrm>
            <a:off x="5364000" y="2205000"/>
            <a:ext cx="352764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3059280" y="1700280"/>
            <a:ext cx="2900160" cy="40608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883080" y="1143000"/>
            <a:ext cx="16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y=arccosx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2:03:29Z</dcterms:created>
  <dc:creator>Николай Бирюков / Nikolai Biryukov</dc:creator>
  <dc:description/>
  <dc:language>en-US</dc:language>
  <cp:lastModifiedBy>Питерская</cp:lastModifiedBy>
  <dcterms:modified xsi:type="dcterms:W3CDTF">2011-12-25T10:48:46Z</dcterms:modified>
  <cp:revision>12</cp:revision>
  <dc:subject/>
  <dc:title>Тригонометрические уравнения</dc:title>
</cp:coreProperties>
</file>