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FE0E-802F-49C7-AA2F-36D8EFA2EDD3}" type="slidenum">
              <a:rPr b="0" lang="ru-RU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5ACF-140E-480D-A27D-F3D67C8A4C8E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B68D-F04D-4EB6-935C-E194A5DBF687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51B6-ACB0-4A5C-9041-3A46447A0007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00E0-9A6A-4375-A2B6-9FDAA3D3D10B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56A2-9580-4016-A25E-C48AA7A6694B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6151-8AA8-4339-95C6-A90D8206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9279-D0D3-41E8-8462-93470CA9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7F81-745A-4E75-9FA9-5FC7B948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53E7-49D0-479C-9FE6-191EA243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7A6B-701E-4327-ABEE-16B148C9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4832-05CC-4ABA-BA65-267FB725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EA9C-C778-4650-8EE4-E8C06366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867D-D45E-46E0-87A1-540F8EC5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53D2-B420-4303-A33F-8C7F851E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C0BA-C16B-4118-A818-01001755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641C-9EF8-45FB-9411-D0FEAF14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5FAB-5F7D-48A6-BFF6-3F954111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893A-C331-45BB-970E-A56380C6C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5892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Тригонометрические урав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37280" y="167652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нген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685440" y="206064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тношение синуса к косинусу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5076720" y="2133720"/>
            <a:ext cx="34513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66200" y="263700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97080" y="1989000"/>
            <a:ext cx="55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тангенсом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7"/>
              <p:cNvSpPr txBox="1"/>
              <p:nvPr/>
            </p:nvSpPr>
            <p:spPr>
              <a:xfrm>
                <a:off x="2268360" y="3213000"/>
                <a:ext cx="14511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" name="Rectangle 9"/>
          <p:cNvSpPr/>
          <p:nvPr/>
        </p:nvSpPr>
        <p:spPr>
          <a:xfrm>
            <a:off x="687600" y="436572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нген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39243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6"/>
              <p:cNvSpPr txBox="1"/>
              <p:nvPr/>
            </p:nvSpPr>
            <p:spPr>
              <a:xfrm>
                <a:off x="611280" y="2349360"/>
                <a:ext cx="23050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" name="Picture 9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468360" y="1773360"/>
                <a:ext cx="3457440" cy="18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-252360" y="1197000"/>
            <a:ext cx="99378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365040" y="2349360"/>
                <a:ext cx="2799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447840" y="2430360"/>
                <a:ext cx="26334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p:sp>
        <p:nvSpPr>
          <p:cNvPr id="104" name="Line 9"/>
          <p:cNvSpPr/>
          <p:nvPr/>
        </p:nvSpPr>
        <p:spPr>
          <a:xfrm>
            <a:off x="6588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210360" y="38084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 flipH="1">
            <a:off x="5796000" y="2852640"/>
            <a:ext cx="79200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796000" y="4005360"/>
            <a:ext cx="792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594252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611280" y="1700280"/>
                <a:ext cx="391932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тоды решения уравнений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е тригонометрические формул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ы при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476360" y="3068640"/>
            <a:ext cx="302436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дение к одной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427640" y="3068640"/>
            <a:ext cx="30240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лож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множители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5651640" y="3284640"/>
            <a:ext cx="3492360" cy="3019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684360" y="1916280"/>
                <a:ext cx="511164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8"/>
          <p:cNvSpPr/>
          <p:nvPr/>
        </p:nvSpPr>
        <p:spPr>
          <a:xfrm>
            <a:off x="253800" y="4074840"/>
            <a:ext cx="562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внение однородное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 к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епени слагаемых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щих переменные одинаковые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36560" y="1647720"/>
            <a:ext cx="40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у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82920" y="2060640"/>
            <a:ext cx="398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рдин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очки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ичной окружности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енной из точки (1; 0)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оротом на угол х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38472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611280" y="333360"/>
                <a:ext cx="554508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5651640" y="3284640"/>
            <a:ext cx="34923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755640" y="549360"/>
                <a:ext cx="585936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343080" y="76392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539640" y="1268280"/>
                <a:ext cx="6096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4957920" y="3238560"/>
            <a:ext cx="4186080" cy="36194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198720" y="25920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6"/>
              <p:cNvSpPr txBox="1"/>
              <p:nvPr/>
            </p:nvSpPr>
            <p:spPr>
              <a:xfrm>
                <a:off x="395280" y="620640"/>
                <a:ext cx="609588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5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43080" y="76392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Object 6"/>
              <p:cNvSpPr txBox="1"/>
              <p:nvPr/>
            </p:nvSpPr>
            <p:spPr>
              <a:xfrm>
                <a:off x="684360" y="1268280"/>
                <a:ext cx="208728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421920" y="76392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равен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6012000" y="4149720"/>
            <a:ext cx="3132000" cy="270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Object 6"/>
              <p:cNvSpPr txBox="1"/>
              <p:nvPr/>
            </p:nvSpPr>
            <p:spPr>
              <a:xfrm>
                <a:off x="539640" y="1268280"/>
                <a:ext cx="31687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08000" y="692280"/>
            <a:ext cx="1000908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5364000" y="2349360"/>
            <a:ext cx="3257640" cy="2538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312480" y="3357720"/>
            <a:ext cx="65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              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69080" y="2781360"/>
            <a:ext cx="48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ус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1835280" y="3860640"/>
                <a:ext cx="1369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13080" y="494172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у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3"/>
              <p:cNvSpPr txBox="1"/>
              <p:nvPr/>
            </p:nvSpPr>
            <p:spPr>
              <a:xfrm>
                <a:off x="1403280" y="5589720"/>
                <a:ext cx="20163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2744640" cy="46818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242360" y="10717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y=arcsin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36200" y="1676520"/>
            <a:ext cx="43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ину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82920" y="2060640"/>
            <a:ext cx="398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абсцис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очки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ичной окружности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енной из точки (1; 0)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оротом на угол х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5724360" y="1916280"/>
            <a:ext cx="265140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-325440" y="684360"/>
            <a:ext cx="1137744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21840" y="335772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69440" y="2781360"/>
            <a:ext cx="50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осинус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9"/>
              <p:cNvSpPr txBox="1"/>
              <p:nvPr/>
            </p:nvSpPr>
            <p:spPr>
              <a:xfrm>
                <a:off x="1692360" y="5516640"/>
                <a:ext cx="20160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Rectangle 8"/>
          <p:cNvSpPr/>
          <p:nvPr/>
        </p:nvSpPr>
        <p:spPr>
          <a:xfrm>
            <a:off x="613440" y="494172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ину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10"/>
              <p:cNvSpPr txBox="1"/>
              <p:nvPr/>
            </p:nvSpPr>
            <p:spPr>
              <a:xfrm>
                <a:off x="1908000" y="4076640"/>
                <a:ext cx="1071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4" name="Picture 12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352764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059280" y="1700280"/>
            <a:ext cx="2900160" cy="4060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83080" y="114300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y=arccos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2:03:29Z</dcterms:created>
  <dc:creator>Николай Бирюков / Nikolai Biryukov</dc:creator>
  <dc:description/>
  <dc:language>en-US</dc:language>
  <cp:lastModifiedBy>Питерская</cp:lastModifiedBy>
  <dcterms:modified xsi:type="dcterms:W3CDTF">2011-12-25T10:48:46Z</dcterms:modified>
  <cp:revision>12</cp:revision>
  <dc:subject/>
  <dc:title>Тригонометрические уравнения</dc:title>
</cp:coreProperties>
</file>