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98EA-87DB-41E1-90EA-C2BC8D4B677C}" type="slidenum">
              <a:rPr b="0" lang="ru-RU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7FCE-BB2E-42D7-8DD4-840A0089488B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4FDB-2966-4925-A8DD-0740BAF5C1C1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DC98-6EC7-45A1-9FD4-C87F16BE49A5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312F-D698-4CE4-BE23-9C50F0995C57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696D-7A93-444F-B388-0B422C67387E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08C-1D49-478C-9CEA-0F6B6769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88A-8CF9-45C8-8615-A592B774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F4F-A0B9-4770-845C-5AFA93C5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D27-F25A-41ED-897A-7BED63E3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1B9-7572-49FF-8B0B-7279448D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26A-84EB-436F-9007-5EF17075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CD8-668E-4DE3-9002-4F8C4D9B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42F-2C52-4D06-9F17-157E9C26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B48-F753-42F3-A3E3-8D7BD1F9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AD7-AD8D-4EA1-AA43-C66C84D8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361-4A84-4F2A-88D1-B1C57859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62A-FB2E-4CE9-9A0C-EDB4919B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E7FA-2E5F-49FC-909F-0E9C33651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Тригонометрически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37280" y="16765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нген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85440" y="206064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тношение синуса к косинусу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4513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66200" y="263700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7080" y="198900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тангенсом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7"/>
              <p:cNvSpPr txBox="1"/>
              <p:nvPr/>
            </p:nvSpPr>
            <p:spPr>
              <a:xfrm>
                <a:off x="2268360" y="3213000"/>
                <a:ext cx="1451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Rectangle 9"/>
          <p:cNvSpPr/>
          <p:nvPr/>
        </p:nvSpPr>
        <p:spPr>
          <a:xfrm>
            <a:off x="687600" y="43657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ген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9243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611280" y="2349360"/>
                <a:ext cx="23050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468360" y="1773360"/>
                <a:ext cx="345744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-252360" y="1197000"/>
            <a:ext cx="99378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365040" y="2349360"/>
                <a:ext cx="2799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447840" y="2430360"/>
                <a:ext cx="2633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6588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210360" y="380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H="1">
            <a:off x="5796000" y="2852640"/>
            <a:ext cx="792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796000" y="4005360"/>
            <a:ext cx="792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942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611280" y="1700280"/>
                <a:ext cx="39193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решения уравнений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тригонометрические формул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ы при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476360" y="3068640"/>
            <a:ext cx="30243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ение к одной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427640" y="3068640"/>
            <a:ext cx="3024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ж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ножител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684360" y="1916280"/>
                <a:ext cx="51116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8"/>
          <p:cNvSpPr/>
          <p:nvPr/>
        </p:nvSpPr>
        <p:spPr>
          <a:xfrm>
            <a:off x="253800" y="4074840"/>
            <a:ext cx="56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однородное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пени слагаемых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щих переменные одинаковые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36560" y="164772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рди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3847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611280" y="333360"/>
                <a:ext cx="55450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755640" y="549360"/>
                <a:ext cx="58593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39640" y="1268280"/>
                <a:ext cx="6096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957920" y="323856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98720" y="2592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395280" y="620640"/>
                <a:ext cx="609588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5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684360" y="1268280"/>
                <a:ext cx="208728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21920" y="7639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равен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3132000" cy="270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539640" y="1268280"/>
                <a:ext cx="31687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8000" y="692280"/>
            <a:ext cx="1000908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257640" cy="253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12480" y="335772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              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9080" y="278136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1835280" y="3860640"/>
                <a:ext cx="1369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13080" y="49417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1403280" y="5589720"/>
                <a:ext cx="2016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2744640" cy="4681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242360" y="1071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sin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36200" y="167652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абсцис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6514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325440" y="684360"/>
            <a:ext cx="11377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1840" y="33577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9440" y="2781360"/>
            <a:ext cx="50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ос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1692360" y="5516640"/>
                <a:ext cx="2016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8"/>
          <p:cNvSpPr/>
          <p:nvPr/>
        </p:nvSpPr>
        <p:spPr>
          <a:xfrm>
            <a:off x="613440" y="49417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1908000" y="4076640"/>
                <a:ext cx="1071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" name="Picture 12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52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900160" cy="4060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83080" y="1143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cos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2:03:29Z</dcterms:created>
  <dc:creator>Николай Бирюков / Nikolai Biryukov</dc:creator>
  <dc:description/>
  <dc:language>en-US</dc:language>
  <cp:lastModifiedBy>Питерская</cp:lastModifiedBy>
  <dcterms:modified xsi:type="dcterms:W3CDTF">2011-12-25T10:48:46Z</dcterms:modified>
  <cp:revision>12</cp:revision>
  <dc:subject/>
  <dc:title>Тригонометрические уравнения</dc:title>
</cp:coreProperties>
</file>