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4F6C-947B-45D0-A2F6-315BA73FDAA0}" type="slidenum">
              <a:rPr b="0" lang="ru-RU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2568-B9F2-4394-AF66-66EFDFC73976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5875-CE82-4908-A0FD-FB80C305E4AD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03C39-23FD-4182-9D9C-709A5EBDACE9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B5BC-BAEF-4B06-A7C1-B5AFA685D7D0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7E6C-4B21-4084-9F13-557689CCDFA5}" type="slidenum">
              <a:rPr b="0" lang="ru-RU" sz="12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08CD-3B04-421C-8D9E-6B7DA505F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0FBC-7978-4E54-9DC4-8D700EA6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6A3B-673A-43D2-9950-62222E29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29DC-30CD-4C66-9D52-2B992E9A2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C378-EE2F-4689-B6E2-90297BB9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8BB0-6E83-4CBA-983A-142275988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1A66-634A-4BFA-B56D-CFF1D986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2384-448D-42A8-9ECF-DE2071D5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4BFE-EDA6-4198-8C58-C4DE1788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D751-88A2-44AE-B303-CF477793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5CB7-5D22-4116-93E9-637083AB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82EF-CE6A-44BD-BCB6-716C89262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5FA1-216B-4922-98E7-7C175A2BE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5892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Тригонометрические уравн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ения тригонометрических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737280" y="1676520"/>
            <a:ext cx="43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нгенсом угла х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685440" y="2060640"/>
            <a:ext cx="43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отношение синуса к косинусу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5076720" y="2133720"/>
            <a:ext cx="345132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ратные тригонометрически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466200" y="2637000"/>
            <a:ext cx="52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ол, принадлежащий промежутку 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397080" y="1989000"/>
            <a:ext cx="55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ктангенсомом чис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7"/>
              <p:cNvSpPr txBox="1"/>
              <p:nvPr/>
            </p:nvSpPr>
            <p:spPr>
              <a:xfrm>
                <a:off x="2268360" y="3213000"/>
                <a:ext cx="14511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5" name="Rectangle 9"/>
          <p:cNvSpPr/>
          <p:nvPr/>
        </p:nvSpPr>
        <p:spPr>
          <a:xfrm>
            <a:off x="687600" y="4365720"/>
            <a:ext cx="38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нгенс которого раве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1"/>
          <a:stretch/>
        </p:blipFill>
        <p:spPr>
          <a:xfrm>
            <a:off x="5003640" y="2637000"/>
            <a:ext cx="392436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6"/>
              <p:cNvSpPr txBox="1"/>
              <p:nvPr/>
            </p:nvSpPr>
            <p:spPr>
              <a:xfrm>
                <a:off x="611280" y="2349360"/>
                <a:ext cx="23050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0" name="Picture 9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4"/>
              <p:cNvSpPr txBox="1"/>
              <p:nvPr/>
            </p:nvSpPr>
            <p:spPr>
              <a:xfrm>
                <a:off x="468360" y="1773360"/>
                <a:ext cx="3457440" cy="18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-252360" y="1197000"/>
            <a:ext cx="993780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4"/>
              <p:cNvSpPr txBox="1"/>
              <p:nvPr/>
            </p:nvSpPr>
            <p:spPr>
              <a:xfrm>
                <a:off x="365040" y="2349360"/>
                <a:ext cx="279900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9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4"/>
              <p:cNvSpPr txBox="1"/>
              <p:nvPr/>
            </p:nvSpPr>
            <p:spPr>
              <a:xfrm>
                <a:off x="447840" y="2430360"/>
                <a:ext cx="263340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  <p:sp>
        <p:nvSpPr>
          <p:cNvPr id="104" name="Line 9"/>
          <p:cNvSpPr/>
          <p:nvPr/>
        </p:nvSpPr>
        <p:spPr>
          <a:xfrm>
            <a:off x="6588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210360" y="380844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6" name="Line 11"/>
          <p:cNvSpPr/>
          <p:nvPr/>
        </p:nvSpPr>
        <p:spPr>
          <a:xfrm flipH="1">
            <a:off x="5796000" y="2852640"/>
            <a:ext cx="79200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>
            <a:off x="5796000" y="4005360"/>
            <a:ext cx="79200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5942520" y="3500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611280" y="1700280"/>
                <a:ext cx="391932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етоды решения уравнений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новные тригонометрические формулы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улы при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476360" y="3068640"/>
            <a:ext cx="302436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едение к одной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ункции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4427640" y="3068640"/>
            <a:ext cx="3024000" cy="129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лож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множители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611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шение простейших уравнений</a:t>
            </a:r>
            <a:endParaRPr b="0" lang="en-US" sz="40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43080" y="134028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5651640" y="3284640"/>
            <a:ext cx="3492360" cy="3019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9" name="Object 6"/>
              <p:cNvSpPr txBox="1"/>
              <p:nvPr/>
            </p:nvSpPr>
            <p:spPr>
              <a:xfrm>
                <a:off x="684360" y="1916280"/>
                <a:ext cx="5111640" cy="12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Rectangle 8"/>
          <p:cNvSpPr/>
          <p:nvPr/>
        </p:nvSpPr>
        <p:spPr>
          <a:xfrm>
            <a:off x="253800" y="4074840"/>
            <a:ext cx="562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авнение однородное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 ка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епени слагаемых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держащих переменные одинаковые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ения тригонометрических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36560" y="1647720"/>
            <a:ext cx="409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нусом угла х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682920" y="2060640"/>
            <a:ext cx="398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ордина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точки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диничной окружности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ученной из точки (1; 0)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оротом на угол х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38472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1" name="Object 4"/>
              <p:cNvSpPr txBox="1"/>
              <p:nvPr/>
            </p:nvSpPr>
            <p:spPr>
              <a:xfrm>
                <a:off x="611280" y="333360"/>
                <a:ext cx="554508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2" name="Picture 6" descr=""/>
          <p:cNvPicPr/>
          <p:nvPr/>
        </p:nvPicPr>
        <p:blipFill>
          <a:blip r:embed="rId1"/>
          <a:stretch/>
        </p:blipFill>
        <p:spPr>
          <a:xfrm>
            <a:off x="5651640" y="3284640"/>
            <a:ext cx="349236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755640" y="549360"/>
                <a:ext cx="585936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π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343080" y="76392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539640" y="1268280"/>
                <a:ext cx="6096240" cy="6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с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4957920" y="3238560"/>
            <a:ext cx="4186080" cy="36194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198720" y="25920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6"/>
              <p:cNvSpPr txBox="1"/>
              <p:nvPr/>
            </p:nvSpPr>
            <p:spPr>
              <a:xfrm>
                <a:off x="395280" y="620640"/>
                <a:ext cx="6095880" cy="14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,5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343080" y="76392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уравнение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3780000" y="2205000"/>
            <a:ext cx="4186080" cy="3619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2" name="Object 6"/>
              <p:cNvSpPr txBox="1"/>
              <p:nvPr/>
            </p:nvSpPr>
            <p:spPr>
              <a:xfrm>
                <a:off x="684360" y="1268280"/>
                <a:ext cx="2087280" cy="12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421920" y="763920"/>
            <a:ext cx="312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и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равен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6012000" y="4149720"/>
            <a:ext cx="3132000" cy="2708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5" name="Object 6"/>
              <p:cNvSpPr txBox="1"/>
              <p:nvPr/>
            </p:nvSpPr>
            <p:spPr>
              <a:xfrm>
                <a:off x="539640" y="1268280"/>
                <a:ext cx="316872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-108000" y="692280"/>
            <a:ext cx="10009080" cy="41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5364000" y="2349360"/>
            <a:ext cx="3257640" cy="2538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312480" y="3357720"/>
            <a:ext cx="65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ол, принадлежащий промежутку                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469080" y="2781360"/>
            <a:ext cx="48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усом чис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8"/>
              <p:cNvSpPr txBox="1"/>
              <p:nvPr/>
            </p:nvSpPr>
            <p:spPr>
              <a:xfrm>
                <a:off x="1835280" y="3860640"/>
                <a:ext cx="13698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;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ратные тригонометрически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613080" y="4941720"/>
            <a:ext cx="35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нус которого раве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3"/>
              <p:cNvSpPr txBox="1"/>
              <p:nvPr/>
            </p:nvSpPr>
            <p:spPr>
              <a:xfrm>
                <a:off x="1403280" y="5589720"/>
                <a:ext cx="20163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2556000" y="765000"/>
            <a:ext cx="2744640" cy="46818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242360" y="107172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y=arcsinx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ределения тригонометрических функц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736200" y="1676520"/>
            <a:ext cx="43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синусом угла х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82920" y="2060640"/>
            <a:ext cx="398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абсцис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точки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диничной окружности,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ученной из точки (1; 0)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воротом на угол х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5724360" y="1916280"/>
            <a:ext cx="265140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-325440" y="684360"/>
            <a:ext cx="1137744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321840" y="3357720"/>
            <a:ext cx="52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ол, принадлежащий промежутку  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469440" y="2781360"/>
            <a:ext cx="50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косинусом чис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зывается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братные тригонометрические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9"/>
              <p:cNvSpPr txBox="1"/>
              <p:nvPr/>
            </p:nvSpPr>
            <p:spPr>
              <a:xfrm>
                <a:off x="1692360" y="5516640"/>
                <a:ext cx="20160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Rectangle 8"/>
          <p:cNvSpPr/>
          <p:nvPr/>
        </p:nvSpPr>
        <p:spPr>
          <a:xfrm>
            <a:off x="613440" y="4941720"/>
            <a:ext cx="38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синус которого равен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10"/>
              <p:cNvSpPr txBox="1"/>
              <p:nvPr/>
            </p:nvSpPr>
            <p:spPr>
              <a:xfrm>
                <a:off x="1908000" y="4076640"/>
                <a:ext cx="10717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74" name="Picture 12" descr=""/>
          <p:cNvPicPr/>
          <p:nvPr/>
        </p:nvPicPr>
        <p:blipFill>
          <a:blip r:embed="rId1"/>
          <a:stretch/>
        </p:blipFill>
        <p:spPr>
          <a:xfrm>
            <a:off x="5364000" y="2205000"/>
            <a:ext cx="352764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3059280" y="1700280"/>
            <a:ext cx="2900160" cy="40608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883080" y="1143000"/>
            <a:ext cx="16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"/>
              </a:rPr>
              <a:t>y=arccosx</a:t>
            </a:r>
            <a:endParaRPr b="0" lang="en-US" sz="2400" spc="-1" strike="noStrike">
              <a:solidFill>
                <a:srgbClr val="00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2:03:29Z</dcterms:created>
  <dc:creator>Николай Бирюков / Nikolai Biryukov</dc:creator>
  <dc:description/>
  <dc:language>en-US</dc:language>
  <cp:lastModifiedBy>Питерская</cp:lastModifiedBy>
  <dcterms:modified xsi:type="dcterms:W3CDTF">2011-12-25T10:48:46Z</dcterms:modified>
  <cp:revision>12</cp:revision>
  <dc:subject/>
  <dc:title>Тригонометрические уравнения</dc:title>
</cp:coreProperties>
</file>