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3BFE-08AF-4C03-BEB7-4AFE9E73CA63}" type="slidenum">
              <a:rPr b="0" lang="ru-RU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C2E3-0FAE-40E2-A142-03A4384A665E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BB6B-81E7-4227-B0C0-08E96FF2B97F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4EEC-0CEA-4A2E-BD28-4B0F16EBFC66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1D5F-2C0D-43D9-8F62-AE8F3EF8ECE5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2D26-6FD2-4CAC-9AC8-CA24E36C2C0C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92C-A0BB-4514-9266-1847FF9E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9CBD-FF3B-441D-B38B-9FA262D9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8458-65C9-4FB6-A44B-0B6417BB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034-A629-4D3F-83AF-4FBB9638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BF55-C765-49DC-8DD8-504928C2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DEED-594B-467F-87A9-A02C5BF7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A4A9-5926-486E-BF2F-38A455D4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8D3-6AF5-4FB4-8EA0-59291E54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6A9-1E96-47A3-8CFC-F9FA84F0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765-4B38-4D4B-AA0A-CDBDAC71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C033-3C63-4136-8264-FAB61A64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633E-D58E-4F6B-AD00-B0288F8A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65EE-0EEB-48B5-849F-C8403ECC1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92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Тригонометрические у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37280" y="167652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нген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85440" y="206064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тношение синуса к косинусу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4513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66200" y="263700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97080" y="198900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тангенсом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7"/>
              <p:cNvSpPr txBox="1"/>
              <p:nvPr/>
            </p:nvSpPr>
            <p:spPr>
              <a:xfrm>
                <a:off x="2268360" y="3213000"/>
                <a:ext cx="14511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" name="Rectangle 9"/>
          <p:cNvSpPr/>
          <p:nvPr/>
        </p:nvSpPr>
        <p:spPr>
          <a:xfrm>
            <a:off x="687600" y="436572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нген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9243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611280" y="2349360"/>
                <a:ext cx="23050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468360" y="1773360"/>
                <a:ext cx="3457440" cy="18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-252360" y="1197000"/>
            <a:ext cx="99378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365040" y="2349360"/>
                <a:ext cx="2799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447840" y="2430360"/>
                <a:ext cx="26334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p:sp>
        <p:nvSpPr>
          <p:cNvPr id="104" name="Line 9"/>
          <p:cNvSpPr/>
          <p:nvPr/>
        </p:nvSpPr>
        <p:spPr>
          <a:xfrm>
            <a:off x="6588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210360" y="38084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 flipH="1">
            <a:off x="5796000" y="2852640"/>
            <a:ext cx="79200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796000" y="4005360"/>
            <a:ext cx="792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594252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611280" y="1700280"/>
                <a:ext cx="39193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 решения уравнений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тригонометрические формул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ы при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476360" y="3068640"/>
            <a:ext cx="302436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ение к одной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427640" y="3068640"/>
            <a:ext cx="3024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ож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множители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3492360" cy="3019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684360" y="1916280"/>
                <a:ext cx="511164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8"/>
          <p:cNvSpPr/>
          <p:nvPr/>
        </p:nvSpPr>
        <p:spPr>
          <a:xfrm>
            <a:off x="253800" y="4074840"/>
            <a:ext cx="56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ение однородное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 к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пени слагаемых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щих переменные одинаковые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36560" y="164772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у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82920" y="2060640"/>
            <a:ext cx="398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рди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очки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ичной окружности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ной из точки (1; 0)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оротом на угол х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3847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611280" y="333360"/>
                <a:ext cx="55450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34923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755640" y="549360"/>
                <a:ext cx="585936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343080" y="763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539640" y="1268280"/>
                <a:ext cx="6096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957920" y="3238560"/>
            <a:ext cx="4186080" cy="3619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198720" y="25920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395280" y="620640"/>
                <a:ext cx="609588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5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43080" y="763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Object 6"/>
              <p:cNvSpPr txBox="1"/>
              <p:nvPr/>
            </p:nvSpPr>
            <p:spPr>
              <a:xfrm>
                <a:off x="684360" y="1268280"/>
                <a:ext cx="208728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21920" y="76392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равен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6012000" y="4149720"/>
            <a:ext cx="3132000" cy="270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539640" y="1268280"/>
                <a:ext cx="31687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08000" y="692280"/>
            <a:ext cx="1000908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364000" y="2349360"/>
            <a:ext cx="3257640" cy="2538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12480" y="335772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              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69080" y="2781360"/>
            <a:ext cx="48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ус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1835280" y="3860640"/>
                <a:ext cx="1369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13080" y="494172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у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3"/>
              <p:cNvSpPr txBox="1"/>
              <p:nvPr/>
            </p:nvSpPr>
            <p:spPr>
              <a:xfrm>
                <a:off x="1403280" y="5589720"/>
                <a:ext cx="20163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2744640" cy="46818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242360" y="10717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y=arcsin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36200" y="1676520"/>
            <a:ext cx="43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ину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82920" y="2060640"/>
            <a:ext cx="398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абсцис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очки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ичной окружности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ной из точки (1; 0)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оротом на угол х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265140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-325440" y="684360"/>
            <a:ext cx="113774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21840" y="335772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9440" y="2781360"/>
            <a:ext cx="50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осинус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9"/>
              <p:cNvSpPr txBox="1"/>
              <p:nvPr/>
            </p:nvSpPr>
            <p:spPr>
              <a:xfrm>
                <a:off x="1692360" y="5516640"/>
                <a:ext cx="20160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Rectangle 8"/>
          <p:cNvSpPr/>
          <p:nvPr/>
        </p:nvSpPr>
        <p:spPr>
          <a:xfrm>
            <a:off x="613440" y="494172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ину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10"/>
              <p:cNvSpPr txBox="1"/>
              <p:nvPr/>
            </p:nvSpPr>
            <p:spPr>
              <a:xfrm>
                <a:off x="1908000" y="4076640"/>
                <a:ext cx="1071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4" name="Picture 12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35276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059280" y="1700280"/>
            <a:ext cx="2900160" cy="4060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83080" y="114300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y=arccos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2:03:29Z</dcterms:created>
  <dc:creator>Николай Бирюков / Nikolai Biryukov</dc:creator>
  <dc:description/>
  <dc:language>en-US</dc:language>
  <cp:lastModifiedBy>Питерская</cp:lastModifiedBy>
  <dcterms:modified xsi:type="dcterms:W3CDTF">2011-12-25T10:48:46Z</dcterms:modified>
  <cp:revision>12</cp:revision>
  <dc:subject/>
  <dc:title>Тригонометрические уравнения</dc:title>
</cp:coreProperties>
</file>