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A60-B1F9-4314-957B-035AA45A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9EC-0BB0-40B1-AE04-A89E3388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285-9935-4B1D-89F7-E7A4A3C3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7F9E-EF35-41BC-83E5-D4F929B8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3FC-8F0C-4EFC-804A-0853A10B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FCF-4999-4C53-9BAF-465F1F03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B74-F5D5-4406-8F6D-0E63E3DB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27E-18F0-4E6E-9E47-D6B1D5B2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D9A-01BA-4E10-BF53-5165C0AA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E81-5DCC-4B2B-AB4E-973CF3E5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0A8-B7BA-427B-8581-E6AA68AD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BF26-643A-4114-9F72-C7C9AEF2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C323-B933-485A-9DD7-00E6993E85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0-02-16T18:11:51Z</dcterms:modified>
  <cp:revision>3</cp:revision>
  <dc:subject/>
  <dc:title>Факториал</dc:title>
</cp:coreProperties>
</file>