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AA7D-D77A-4989-BBA6-5FAC3016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901-8333-454E-87F0-FAD29D69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35F-9548-4CB1-BBD0-132E711A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142-5489-453B-9EF4-9AD139E2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8DA-7FB5-4F60-8035-C3A7CAA3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96B-B989-4A85-B2F5-756C6920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1FB-6540-47B7-81D7-ABD98CEB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44A-85E2-439B-B4B7-47EFE01B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FFD-DCD6-40E1-AA66-F4BFD176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27E-7948-4E52-AFA6-38DDFAE8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C27-F699-464D-8256-DF9AFB6D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922-421A-4367-885E-0723C6E7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6158-F335-4313-B284-93B1B90141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Admin</cp:lastModifiedBy>
  <dcterms:modified xsi:type="dcterms:W3CDTF">2010-02-16T18:11:51Z</dcterms:modified>
  <cp:revision>3</cp:revision>
  <dc:subject/>
  <dc:title>Факториал</dc:title>
</cp:coreProperties>
</file>