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343-29AE-4905-8817-16858AC9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E6B-8D7E-49D8-97D2-77250511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06D2-2D88-47F7-8506-FFC1620C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CAD3-3E43-4FBA-9D5A-4A23790A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5BE8-537F-434A-87F5-341BC705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4EF7-B65D-4AA0-95E4-90A23B5D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616D-D71D-4D93-B0CB-46B640EA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EC82-337D-4671-9A52-9D527756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F367-4000-4C55-85C5-9195A2CA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A845-2EC9-4627-AD56-D45D7C50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A8F8-53F8-4BDB-B6F9-937662BA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B5C-6562-4345-93FA-9FF8D2EF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CD0D-79B7-4D55-BD45-ED192D2A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337D-B86B-4DD6-8DA0-5B9D6FA5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1945-9998-4796-B164-3D182C94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85E4-5864-4A8F-A39C-725C3936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43FD-9BD6-4104-B105-BB0D8275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14B9C-6BD0-44E7-829C-351F4217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36C00-ACC1-4B8F-9461-800AE111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4D016-E18A-4C8F-84ED-4AB9255A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5E5B82-8762-4931-9304-73333524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16437-B5CB-420B-8F4E-5CF7DB4B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98C-EBA9-47D3-88CF-462A5DF6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AFA7B-83E6-4AEC-B496-5B3DA2B9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2F466-AE02-474B-ACE7-2059A9AF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03376-3AB5-49EC-98F8-51B54087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E5020-124D-44D8-B379-A5F13481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C094F-23E6-4F46-8799-DFC3C1D8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F1DCD-3FD7-4746-AA7C-56408B13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8C862-3C2C-4446-B330-D56A451C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9EF5-5F14-4FFE-8D8E-DF62F053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887E0-DDD4-4DEC-9567-F43F5E2F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87C29-53A0-45E3-BDF7-809AFFC5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535-E880-4D60-97B0-FCDA72CC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9372B-EABD-4BBA-8100-D8C221C7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7626E-422A-4A45-94C1-6C3BCB9E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95161-5B51-4EC4-84CB-0EF5BF56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7DDED-D27F-4FFC-93E0-F5094EF1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A9AC2-E98F-4D8F-8096-7CB6C383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FBB0E-EE37-456B-B288-68C142A4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4BD92-0C7D-4F4B-8114-4AEB15D2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E6AD4-4190-4B76-8BA8-15C222AD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7B553-87A0-41BB-AAC5-4BB60D381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636FB-5C14-42EE-B295-16981EB4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A6F-A98E-41C4-9CE5-69F597EF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A9A63-ECFC-4529-B41D-15B6D6AF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CD92D5-31B7-44FB-9468-E28E5415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5662C-3587-4C80-AB88-71EB2531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B6A46-D34C-49CD-8198-A6E75713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1B8EC-EB44-472C-A29C-F3A3095B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17EFC9-447B-46BC-8AC8-715EA11B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7664B-4B86-4EF8-855D-4036700D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A8581A-D08C-44F8-8DA1-CDCC6576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F6B96-2269-4452-9EE2-CBEFE6AC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74E46-968D-467D-970F-00F4212D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255-D597-494F-8B2A-DC67B293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12C00-3584-4011-A687-C0E6959D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F63E34-0702-40A1-A30D-988DCD32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39E14E-C358-42CA-8B3F-6E465B8D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3EB671-B9A1-4D85-8DED-C1FE2FE9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000F1-30D3-46F4-A61C-FCCC2AD2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1A5C3-EE08-4BC0-9F6E-AED7FEE6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C02E6-3F57-4B63-9FED-3DE2BCC1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C001A-6708-489D-99F9-3BC291B4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0E2A1-F0C0-47DA-824D-86980CF7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A456B-5F9C-454A-9CC6-A4B4B817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899-5766-43FA-AB6D-D4F24DBD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5E3E36-941E-4BF5-9636-B7F19384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65A6CD-2397-4B8C-8690-3758CF26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64AE95-4443-4122-A901-DAF16C5D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41481-9E92-4216-9D9D-7D0C3852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A75CD9-66C8-4851-AA9C-23371F02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8116D-4213-4790-9086-27614EA2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545F30-64AC-4D97-B0B6-5A8855E9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5FB161-5039-4412-B6C9-E4970C70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990460-344A-4DB1-8446-1EA5D398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79E99E-EA3B-4EBB-8EF3-768C8320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287-8353-42F5-ADE7-E4D28418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EAAEA-D685-4830-9DFB-FD533692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7F5D4-9C84-4B83-9E72-608952B8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5BE6C7-D036-444B-BF08-D37EAD3A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DE9034-CA16-4AE2-AD2F-44422239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7A8146-1E3E-488E-9A80-9ACB4FD1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A7B-78FD-439E-B623-CCD34ED1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80BD-1916-423F-A8DA-4499DAF0D9E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746E-4907-461E-BF27-864DB97DD85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3ECE-2814-47D3-B54A-8D3795F6FF0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254D-CBC2-4ACE-90D7-9D6520648A1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D79F-471A-4809-8E86-095532F1116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7191-CBB0-4EED-B4EE-6DF14696CA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0659-E2D2-4F90-8DD1-4BFAD865621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93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5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6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67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68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9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0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1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2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13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14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5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6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47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48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49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50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20T07:35:57Z</dcterms:modified>
  <cp:revision>19</cp:revision>
  <dc:subject/>
  <dc:title>Слайд 1</dc:title>
</cp:coreProperties>
</file>