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29C-1312-4073-A280-8A895574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F28-B36A-4CEC-898E-C62DAAAC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0415-239F-4615-B9A1-C2ABA750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CF3-EAF9-4A3F-AE5C-F96B8664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3FC9-B0B9-4881-A41E-E061355D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86B7-EBE3-4A41-92DE-0DBE015A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4936-59FA-4948-BAA8-1FC80CB1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4566-69A2-4437-B4C4-B788C08E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E62B-CD5A-4ED5-A8C6-90AD2E52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C85B-40A9-4CBF-811E-8F9C252B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662E-B6D8-424E-A529-B8263886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112-5F32-439C-8EAF-001C67F9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1639-B861-443B-9C8E-29E6B453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92B9-E44B-420A-955A-C1523AEE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D991-95CA-4A5E-9998-16398B41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2E79-9895-4282-8D03-4F4F103D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1B71-D828-43E2-9F68-A9D1D192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B41D9-A808-4391-A2AC-14B5BEC1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2EBCD-18C8-46F0-8CE8-FEACE992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B3CFE-04CA-4B80-8DD7-745CCDEF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560D4-95B4-448A-BEAF-DF9B708F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62E55-6E9F-4E01-B815-EB39D7A8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AE2-2C9C-43A6-BCC3-DDF75DD8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46D25-5712-4CF8-AE69-F121D0D6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352D0-2AF3-4931-BA69-57A7A6BC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81DAF-22B6-4A27-97D3-3D6F5598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164F1-3161-4974-8459-9E6DDD18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29607-88A1-48EA-A740-3B84F87C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C5CDA-E914-46C5-A552-D3B08FBD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BFB7F-BA45-405A-B6C6-3278F943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C39A7-23F3-480E-8895-241EFD53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25579-C3FD-4936-A3BE-2303D3AB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5074F-8F2E-4343-AD94-58E31015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92A1-D12D-4F84-A84E-A5A1877C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D5B87-B58D-4CD1-AFEB-3E05F19E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E3991-BEEE-4D52-AA3E-F605F2B0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342DD-2358-4D56-A118-F90D292E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EC950-35C6-4752-9723-5403118F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5B68F-857F-49D3-B59B-F7073B0B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F516F-2FFD-468E-BEB0-CA5A1600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C9CC4-47DA-4ED9-B7E1-5042DE4A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7268B-9DE4-4AF1-9AB9-39F8D6E5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9B29A-7C01-40E3-B965-4A599B71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8E1A9D-C065-4940-B0AD-EB1BA8CC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BD86-0660-4C6F-8274-4FDC33C4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915B7B-E6B3-48D5-9F3B-FDF5AAC0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62BEC-E054-44E6-B07E-1C92AD15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E15505-6B4D-4B12-8119-BAC6C306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D73FD9-3495-44D1-A2E0-88A2B0EB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2A0583-7134-48EE-9F25-5025A0AA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E4F76F-8803-4D29-BBC9-B4CCCFBA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FD3341-B9AD-439C-8423-A8D1F6EE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989D1-75A9-449D-9429-FBA869B9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F17CDE-4A13-4146-8C84-450A8576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1226A-EDDA-4F52-B007-2B3D987C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7795-0D30-44F9-A02D-6B4AC50F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B76F76-6354-438D-859A-AF783E56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84F885-D15F-4218-8878-B3273EE1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326C3F-368F-479E-B7C5-23BE0F82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F1F8D1-426A-4854-9078-9993840F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BD5777-7237-4191-8C06-C495590A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4AB80B-3481-4594-9E86-20337E88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058DC8-C3D7-430F-BB32-3AE94FC7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C200D8-14A5-41F5-A03F-109CE5BF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05E576-F35A-4487-B2B6-CE9BD298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8C4E96-61DF-45FE-BB24-E6CEAC5A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BA1A-235B-45D9-AED1-92CFD0E2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7125AD-681F-446F-B98E-DB2355C2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CD2DB-0405-40A1-866A-B57CA38E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1430B0-A07D-4C6D-ADAA-C7B6BE8F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C9B67-9BBC-458E-9DAD-7815E14F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386732-1F97-4577-9A90-FCAC5941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222BDA-E87F-4B69-9B78-4EA64320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353FA9-C8E1-4EA8-88A3-2352445A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A253E2-45EC-466F-AB80-A2F93DA0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BBC4C8-8CAE-4B97-9459-91DDB6DE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5239C-C5AF-4DED-8D33-B766BC40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971-B9E3-4496-A591-2A00BC03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B19E6E-47ED-4CF2-B5E9-0FC0CFC8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526A1D-8128-4C4E-A55E-EB4FF3D2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E431D0-0937-410E-99C9-48D0B0C9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AA5DC6-5B0D-41CB-9FB5-094469B4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F49543-9B99-4868-B74A-2F37AA32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F423-3B47-4DD2-BEDF-FC969A12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F2AE-DCF8-475E-ABA8-F7E6EC3D874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B08F-D93C-4693-9943-2B5283D3B87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91AB-F3F7-4A58-94AF-4AE1E251A40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7FCE-70B5-4407-B516-DAD8B56B8D7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8851-E5B5-408D-BF19-4EE78B2E0F4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B322-2F45-4C71-A300-A3FBA8360A8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ACFE-F1D3-4662-B86C-600FC29163F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0" y="2642760"/>
            <a:ext cx="6500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617220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Преподаватель ФГОУ  СПО «СТК» Л.Г.Якимчу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3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2"/>
              <p:cNvSpPr txBox="1"/>
              <p:nvPr/>
            </p:nvSpPr>
            <p:spPr>
              <a:xfrm>
                <a:off x="1571760" y="1643040"/>
                <a:ext cx="4929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500040" y="3000240"/>
                <a:ext cx="8050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4"/>
              <p:cNvSpPr txBox="1"/>
              <p:nvPr/>
            </p:nvSpPr>
            <p:spPr>
              <a:xfrm>
                <a:off x="1992240" y="4000680"/>
                <a:ext cx="4086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2759040" y="5322960"/>
                <a:ext cx="2997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93" name="Picture 4" descr=""/>
          <p:cNvPicPr/>
          <p:nvPr/>
        </p:nvPicPr>
        <p:blipFill>
          <a:blip r:embed="rId1"/>
          <a:stretch/>
        </p:blipFill>
        <p:spPr>
          <a:xfrm>
            <a:off x="6357960" y="50007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i="1" lang="ru-RU" sz="2800" spc="-1" strike="noStrike">
                <a:solidFill>
                  <a:srgbClr val="3668c4"/>
                </a:solidFill>
                <a:latin typeface="Century Schoolbook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2800" spc="-1" strike="noStrike">
                <a:solidFill>
                  <a:srgbClr val="3668c4"/>
                </a:solidFill>
                <a:latin typeface="Century Schoolbook"/>
              </a:rPr>
              <a:t>&lt; 90</a:t>
            </a:r>
            <a:r>
              <a:rPr b="0" i="1" lang="en-US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</a:t>
            </a:r>
            <a:r>
              <a:rPr b="0" i="1" lang="ru-RU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2857680" y="4572000"/>
                <a:ext cx="1895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X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НЕ МЕНЯЕ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Прямая со стрелкой 2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5" name="Прямая со стрелкой 30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6" name="Прямая со стрелкой 31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7" name="Прямая со стрелкой 32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68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7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8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10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1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2"/>
              <p:cNvSpPr txBox="1"/>
              <p:nvPr/>
            </p:nvSpPr>
            <p:spPr>
              <a:xfrm>
                <a:off x="4500720" y="500040"/>
                <a:ext cx="434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3"/>
              <p:cNvSpPr txBox="1"/>
              <p:nvPr/>
            </p:nvSpPr>
            <p:spPr>
              <a:xfrm>
                <a:off x="219240" y="3675240"/>
                <a:ext cx="237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4"/>
              <p:cNvSpPr txBox="1"/>
              <p:nvPr/>
            </p:nvSpPr>
            <p:spPr>
              <a:xfrm>
                <a:off x="5286240" y="1928880"/>
                <a:ext cx="1643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5"/>
              <p:cNvSpPr txBox="1"/>
              <p:nvPr/>
            </p:nvSpPr>
            <p:spPr>
              <a:xfrm>
                <a:off x="5560920" y="3313080"/>
                <a:ext cx="1378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А 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Y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МЕНЯЕТСЯ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НА СХОДНО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857240" y="5715000"/>
                <a:ext cx="411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4786200" y="500040"/>
                <a:ext cx="435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5643720" y="2571840"/>
                <a:ext cx="135720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5643720" y="4000680"/>
                <a:ext cx="1380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96" name="Прямая со стрелкой 40"/>
          <p:cNvCxnSpPr/>
          <p:nvPr/>
        </p:nvCxnSpPr>
        <p:spPr>
          <a:xfrm flipH="1">
            <a:off x="1213560" y="2000160"/>
            <a:ext cx="71532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7" name="Прямая со стрелкой 44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8" name="Прямая со стрелкой 46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9" name="Прямая со стрелкой 48"/>
          <p:cNvCxnSpPr/>
          <p:nvPr/>
        </p:nvCxnSpPr>
        <p:spPr>
          <a:xfrm flipH="1" flipV="1">
            <a:off x="1071720" y="5428440"/>
            <a:ext cx="64332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00" name="Object 11"/>
              <p:cNvSpPr txBox="1"/>
              <p:nvPr/>
            </p:nvSpPr>
            <p:spPr>
              <a:xfrm>
                <a:off x="4098960" y="1285920"/>
                <a:ext cx="373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2"/>
              <p:cNvSpPr txBox="1"/>
              <p:nvPr/>
            </p:nvSpPr>
            <p:spPr>
              <a:xfrm>
                <a:off x="4643280" y="1785960"/>
                <a:ext cx="2428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228600" y="3930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5410080" y="394488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Прямая со стрелкой 1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1" name="Прямая со стрелкой 21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2" name="Прямая со стрелкой 23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3" name="Прямая со стрелкой 25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414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214200" y="364320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4714920" y="1428840"/>
                <a:ext cx="1843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6572160" y="1428840"/>
                <a:ext cx="1135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4863960" y="2071800"/>
                <a:ext cx="1629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6600960" y="2143080"/>
                <a:ext cx="946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5076720" y="4286160"/>
                <a:ext cx="1462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6643800" y="4286160"/>
                <a:ext cx="5713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0"/>
              <p:cNvSpPr txBox="1"/>
              <p:nvPr/>
            </p:nvSpPr>
            <p:spPr>
              <a:xfrm>
                <a:off x="4786200" y="2928960"/>
                <a:ext cx="18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1"/>
              <p:cNvSpPr txBox="1"/>
              <p:nvPr/>
            </p:nvSpPr>
            <p:spPr>
              <a:xfrm>
                <a:off x="6643800" y="2928960"/>
                <a:ext cx="942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1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1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6"/>
              <p:cNvSpPr txBox="1"/>
              <p:nvPr/>
            </p:nvSpPr>
            <p:spPr>
              <a:xfrm>
                <a:off x="4929120" y="5000760"/>
                <a:ext cx="1741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7"/>
              <p:cNvSpPr txBox="1"/>
              <p:nvPr/>
            </p:nvSpPr>
            <p:spPr>
              <a:xfrm>
                <a:off x="6643800" y="5000760"/>
                <a:ext cx="922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6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5" name="Прямая со стрелкой 16"/>
          <p:cNvCxnSpPr/>
          <p:nvPr/>
        </p:nvCxnSpPr>
        <p:spPr>
          <a:xfrm flipH="1">
            <a:off x="114264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6" name="Прямая со стрелкой 17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7" name="Прямая со стрелкой 18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48" name="Object 7"/>
              <p:cNvSpPr txBox="1"/>
              <p:nvPr/>
            </p:nvSpPr>
            <p:spPr>
              <a:xfrm>
                <a:off x="1857240" y="5715000"/>
                <a:ext cx="428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9" name="Прямая со стрелкой 22"/>
          <p:cNvCxnSpPr/>
          <p:nvPr/>
        </p:nvCxnSpPr>
        <p:spPr>
          <a:xfrm flipH="1" flipV="1">
            <a:off x="928080" y="5285520"/>
            <a:ext cx="85788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50" name="Object 16"/>
              <p:cNvSpPr txBox="1"/>
              <p:nvPr/>
            </p:nvSpPr>
            <p:spPr>
              <a:xfrm>
                <a:off x="4786200" y="1849320"/>
                <a:ext cx="17859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7"/>
              <p:cNvSpPr txBox="1"/>
              <p:nvPr/>
            </p:nvSpPr>
            <p:spPr>
              <a:xfrm>
                <a:off x="6702480" y="2181240"/>
                <a:ext cx="7412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8"/>
              <p:cNvSpPr txBox="1"/>
              <p:nvPr/>
            </p:nvSpPr>
            <p:spPr>
              <a:xfrm>
                <a:off x="4786200" y="2643120"/>
                <a:ext cx="199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9"/>
              <p:cNvSpPr txBox="1"/>
              <p:nvPr/>
            </p:nvSpPr>
            <p:spPr>
              <a:xfrm>
                <a:off x="6715080" y="2857680"/>
                <a:ext cx="1203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0"/>
              <p:cNvSpPr txBox="1"/>
              <p:nvPr/>
            </p:nvSpPr>
            <p:spPr>
              <a:xfrm>
                <a:off x="5000760" y="3643200"/>
                <a:ext cx="16812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1"/>
              <p:cNvSpPr txBox="1"/>
              <p:nvPr/>
            </p:nvSpPr>
            <p:spPr>
              <a:xfrm>
                <a:off x="6697800" y="3962520"/>
                <a:ext cx="92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2"/>
              <p:cNvSpPr txBox="1"/>
              <p:nvPr/>
            </p:nvSpPr>
            <p:spPr>
              <a:xfrm>
                <a:off x="6946920" y="4890960"/>
                <a:ext cx="696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23"/>
              <p:cNvSpPr txBox="1"/>
              <p:nvPr/>
            </p:nvSpPr>
            <p:spPr>
              <a:xfrm>
                <a:off x="4786200" y="4643280"/>
                <a:ext cx="1971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668c4"/>
                </a:solidFill>
                <a:latin typeface="Century Schoolbook"/>
              </a:rPr>
              <a:t>ЗАПИШИТЕ ФОРМУЛЫ ПРИВЕД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1857240" y="1643040"/>
                <a:ext cx="197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928880" y="2214720"/>
                <a:ext cx="2165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2000160" y="292896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5"/>
              <p:cNvSpPr txBox="1"/>
              <p:nvPr/>
            </p:nvSpPr>
            <p:spPr>
              <a:xfrm>
                <a:off x="1928880" y="3786120"/>
                <a:ext cx="2214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6"/>
              <p:cNvSpPr txBox="1"/>
              <p:nvPr/>
            </p:nvSpPr>
            <p:spPr>
              <a:xfrm>
                <a:off x="2000160" y="478620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7"/>
              <p:cNvSpPr txBox="1"/>
              <p:nvPr/>
            </p:nvSpPr>
            <p:spPr>
              <a:xfrm>
                <a:off x="1916280" y="5572080"/>
                <a:ext cx="217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8"/>
              <p:cNvSpPr txBox="1"/>
              <p:nvPr/>
            </p:nvSpPr>
            <p:spPr>
              <a:xfrm>
                <a:off x="4071960" y="1785960"/>
                <a:ext cx="858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4143240" y="235728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10"/>
              <p:cNvSpPr txBox="1"/>
              <p:nvPr/>
            </p:nvSpPr>
            <p:spPr>
              <a:xfrm>
                <a:off x="4071960" y="300024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1"/>
              <p:cNvSpPr txBox="1"/>
              <p:nvPr/>
            </p:nvSpPr>
            <p:spPr>
              <a:xfrm>
                <a:off x="4214880" y="392904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2"/>
              <p:cNvSpPr txBox="1"/>
              <p:nvPr/>
            </p:nvSpPr>
            <p:spPr>
              <a:xfrm>
                <a:off x="4156200" y="4889520"/>
                <a:ext cx="1003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13"/>
              <p:cNvSpPr txBox="1"/>
              <p:nvPr/>
            </p:nvSpPr>
            <p:spPr>
              <a:xfrm>
                <a:off x="4071960" y="5643720"/>
                <a:ext cx="10033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2700" spc="-1" strike="noStrike">
                <a:solidFill>
                  <a:srgbClr val="e75c01"/>
                </a:solidFill>
                <a:latin typeface="Century Schoolbook"/>
              </a:rPr>
              <a:t>1.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ВЫРАЗИТЕ ТРИГОНОМЕТРИЧЕСКИЕ ФУНКЦИИ ЧЕРЕЗ УГОЛ МЕНЬШЕ 45</a:t>
            </a:r>
            <a:r>
              <a:rPr b="0" i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1143000" y="1673280"/>
                <a:ext cx="126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2500200" y="1643040"/>
                <a:ext cx="2884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1071720" y="2357280"/>
                <a:ext cx="1293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2500200" y="2357280"/>
                <a:ext cx="3033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1143000" y="3071880"/>
                <a:ext cx="111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8"/>
              <p:cNvSpPr txBox="1"/>
              <p:nvPr/>
            </p:nvSpPr>
            <p:spPr>
              <a:xfrm>
                <a:off x="1158840" y="5475240"/>
                <a:ext cx="169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5"/>
              <p:cNvSpPr txBox="1"/>
              <p:nvPr/>
            </p:nvSpPr>
            <p:spPr>
              <a:xfrm>
                <a:off x="2571840" y="314316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0"/>
              <p:cNvSpPr txBox="1"/>
              <p:nvPr/>
            </p:nvSpPr>
            <p:spPr>
              <a:xfrm>
                <a:off x="1214280" y="3929040"/>
                <a:ext cx="1144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1"/>
              <p:cNvSpPr txBox="1"/>
              <p:nvPr/>
            </p:nvSpPr>
            <p:spPr>
              <a:xfrm>
                <a:off x="2571840" y="3929040"/>
                <a:ext cx="2585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3"/>
              <p:cNvSpPr txBox="1"/>
              <p:nvPr/>
            </p:nvSpPr>
            <p:spPr>
              <a:xfrm>
                <a:off x="2857680" y="4572000"/>
                <a:ext cx="3406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4"/>
              <p:cNvSpPr txBox="1"/>
              <p:nvPr/>
            </p:nvSpPr>
            <p:spPr>
              <a:xfrm>
                <a:off x="1143000" y="4572000"/>
                <a:ext cx="1666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5"/>
              <p:cNvSpPr txBox="1"/>
              <p:nvPr/>
            </p:nvSpPr>
            <p:spPr>
              <a:xfrm>
                <a:off x="2867040" y="5500800"/>
                <a:ext cx="315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2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2"/>
              <p:cNvSpPr txBox="1"/>
              <p:nvPr/>
            </p:nvSpPr>
            <p:spPr>
              <a:xfrm>
                <a:off x="214200" y="2071800"/>
                <a:ext cx="843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1071720" y="3286080"/>
                <a:ext cx="650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Picture 4" descr=""/>
          <p:cNvPicPr/>
          <p:nvPr/>
        </p:nvPicPr>
        <p:blipFill>
          <a:blip r:embed="rId1"/>
          <a:stretch/>
        </p:blipFill>
        <p:spPr>
          <a:xfrm>
            <a:off x="364320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20T07:35:57Z</dcterms:modified>
  <cp:revision>19</cp:revision>
  <dc:subject/>
  <dc:title>Слайд 1</dc:title>
</cp:coreProperties>
</file>