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A122-9F2B-4E51-A358-666AC89C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A5D9-A02A-4FC1-B8CB-4A920BC7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4992-803D-4ADD-8A93-87010FD6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BBC9-9F7A-47CB-B2D5-FA1C6248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D969-6C88-475D-A7B6-02BAAA55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BE4A-CB29-48A1-BED1-86319673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152D-CD69-49C5-A0C3-6172556A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E20D-A26F-411A-A63F-BFB99014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CF9D-0405-454C-A276-AD186EF8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D5C1-C717-4DD6-9955-843CA3B3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680F-CF07-48D1-8EEE-4F742035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7D3-F3CE-4F12-B1E0-A996A203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A905-7F51-436C-9F5B-B2B26266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8264-C5E2-4775-B76F-11E7A480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6738-FD43-4DEF-98DB-846CC24D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FDE4-0C76-4773-A50F-0E64FDB5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CD67-E88E-4159-A4AD-819D52D2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E240F1-B032-4757-ABD8-8ECC0BA3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C18A3-D214-4151-9669-872885F1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C59FF-1C40-4939-81D8-E1C37B5E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9B3EF-F8C9-453B-956C-2919DA1D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B9C96-D7B1-4037-B7CC-2F8942ED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143-655A-4A8B-9AAA-3530D321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82D871-4FBB-4C0D-B107-D6E1B1D3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615FA-E7F5-4C16-AEF3-6BF11B3C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13E1AA-352E-4954-808B-882A05AD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145027-770B-41D6-B751-8107C273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FD637C-80F4-40DA-A370-89248718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BA241B-6386-40B0-8284-AFF9FDC7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18FF8-BC7E-4DF1-9F82-CEF3EE5A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237F9-1342-48A4-A955-1599497D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2254A-A7F0-41D3-B047-11E25B99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7C7CC-0EA5-4834-B565-91061C6F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8E88-F8ED-42FA-9BDE-38356C5C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F5E87-EA8F-4B53-9E01-E5FF5F8F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B2B36-A1E1-4FD4-A371-A239A0F5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5F555-B45B-439C-8833-7B431DE1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D8891-EC08-4FC4-B386-113A2B41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2BFDE-8B4E-4068-A9F9-18CA31F2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3E5B2-FA8E-43BA-A74B-39CCEF07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F3007-9FEA-43EF-A665-6EEEFF13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DDD58-593D-4654-BDA2-29F8F4DC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33737-65E9-4C99-AC80-C6D6D80D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1549E4-311B-4C6D-BA5B-D9BC7EE5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24C4-E15A-41F1-A982-C9C272D5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36E717-D4AA-4862-AA70-41870C74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2CDF28-007B-4C3C-8AAB-821546B3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46E728-74B2-4D95-ADF4-C67811A2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A00317-C277-41FE-B39A-6FBBDCB9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E7F1C8-5D2E-406E-AA2A-A8192687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541877-5255-423F-A5E3-4B6596DB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4C3EA8-51FE-46D6-B021-8FCC0CCE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48E032-5A37-40CC-B528-227B49D4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35B2BD-8289-4ED6-AB80-B3F541BF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BDBC10-11AC-49A0-9B88-DBEDBA14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AD0-4866-4E83-B209-07240D67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7E0916-89AB-407E-829B-1FF3E231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BDEB2C-4CFE-4868-8335-24D32F42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1AACE7-9E49-4B23-A301-4C1047D2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829579-61A4-4B55-A102-31D8ED3F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83456A-9BDB-4BF8-8F83-59E7F4BF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8D1FFC-F4EE-470E-AF35-4E11FB56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E42C4A-F91B-4D6B-A6E2-7A2FFB87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C2DA1C-98F2-46FF-B39D-529B648E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AB6CA5-C9E5-47BA-9DAA-8C9862C4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8ED3C2-82B7-408D-9DFC-E8D656DF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F0B-E788-4D8E-8E90-7AA5951F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F149B8-5F59-4D51-94E5-A9CCC208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FA6CE1-C37B-4A43-AA62-95288734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E72205-2914-46FB-8C70-1A266F88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0ACC52-0553-4FF3-B423-ABF6F514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7C7C84-5C54-499F-B85C-994D7048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ABBC7C-0CA5-495A-8102-F5734A72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8F6932-9C7A-4952-932E-2C6950AA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89995D-50B3-4E5E-84B2-E060C8B5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55CBD4-9C12-4701-BDC4-2F304688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16701E-E294-4E3E-A289-EC45D50E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DA4F-AE09-4D36-9996-0B9FBF7A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B4C732-212E-4263-ACED-AD835A84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73DBA8-E999-49AA-AF48-EB68DDD6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2AA23D-EE9F-4111-A838-4F81915F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2AC84A-9ED6-4B2F-8619-C6261240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E0E709-399E-496A-A063-26E2700C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B7F6-F79C-427A-84F8-08463F77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E613-1817-4299-9933-6E8756C5C30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EC4A-4937-4FED-8274-BDE18355B29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0AE5-8168-4595-8EA6-2774BE0F557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4554-37E5-4B9F-81B7-BB20CD318F5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2717-B079-40BB-B055-C5B00E7A372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4449-4EEF-4588-9A1A-B58CE56CA10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0A9D-65A1-46A8-BF43-367D9D8F0E4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0" y="2642760"/>
            <a:ext cx="65008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643720"/>
            <a:ext cx="617220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Преподаватель ФГОУ  СПО «СТК» Л.Г.Якимчу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3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2"/>
              <p:cNvSpPr txBox="1"/>
              <p:nvPr/>
            </p:nvSpPr>
            <p:spPr>
              <a:xfrm>
                <a:off x="1571760" y="1643040"/>
                <a:ext cx="4929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8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3"/>
              <p:cNvSpPr txBox="1"/>
              <p:nvPr/>
            </p:nvSpPr>
            <p:spPr>
              <a:xfrm>
                <a:off x="500040" y="3000240"/>
                <a:ext cx="8050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4"/>
              <p:cNvSpPr txBox="1"/>
              <p:nvPr/>
            </p:nvSpPr>
            <p:spPr>
              <a:xfrm>
                <a:off x="1992240" y="4000680"/>
                <a:ext cx="40863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5"/>
              <p:cNvSpPr txBox="1"/>
              <p:nvPr/>
            </p:nvSpPr>
            <p:spPr>
              <a:xfrm>
                <a:off x="2759040" y="5322960"/>
                <a:ext cx="29973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493" name="Picture 4" descr=""/>
          <p:cNvPicPr/>
          <p:nvPr/>
        </p:nvPicPr>
        <p:blipFill>
          <a:blip r:embed="rId1"/>
          <a:stretch/>
        </p:blipFill>
        <p:spPr>
          <a:xfrm>
            <a:off x="6357960" y="50007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2071800"/>
            <a:ext cx="746748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i="1" lang="ru-RU" sz="2800" spc="-1" strike="noStrike">
                <a:solidFill>
                  <a:srgbClr val="3668c4"/>
                </a:solidFill>
                <a:latin typeface="Century Schoolbook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2800" spc="-1" strike="noStrike">
                <a:solidFill>
                  <a:srgbClr val="3668c4"/>
                </a:solidFill>
                <a:latin typeface="Century Schoolbook"/>
              </a:rPr>
              <a:t>&lt; 90</a:t>
            </a:r>
            <a:r>
              <a:rPr b="0" i="1" lang="en-US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</a:t>
            </a:r>
            <a:r>
              <a:rPr b="0" i="1" lang="ru-RU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2857680" y="4572000"/>
                <a:ext cx="18954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X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НЕ МЕНЯЕТСЯ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Прямая со стрелкой 2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5" name="Прямая со стрелкой 30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6" name="Прямая со стрелкой 31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7" name="Прямая со стрелкой 32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68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7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8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9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10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1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2"/>
              <p:cNvSpPr txBox="1"/>
              <p:nvPr/>
            </p:nvSpPr>
            <p:spPr>
              <a:xfrm>
                <a:off x="4500720" y="500040"/>
                <a:ext cx="434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3"/>
              <p:cNvSpPr txBox="1"/>
              <p:nvPr/>
            </p:nvSpPr>
            <p:spPr>
              <a:xfrm>
                <a:off x="219240" y="3675240"/>
                <a:ext cx="2379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4"/>
              <p:cNvSpPr txBox="1"/>
              <p:nvPr/>
            </p:nvSpPr>
            <p:spPr>
              <a:xfrm>
                <a:off x="5286240" y="1928880"/>
                <a:ext cx="1643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5"/>
              <p:cNvSpPr txBox="1"/>
              <p:nvPr/>
            </p:nvSpPr>
            <p:spPr>
              <a:xfrm>
                <a:off x="5560920" y="3313080"/>
                <a:ext cx="1378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А 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Y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МЕНЯЕТСЯ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НА СХОДНОЕ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1857240" y="5715000"/>
                <a:ext cx="411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4786200" y="500040"/>
                <a:ext cx="435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5643720" y="2571840"/>
                <a:ext cx="135720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0"/>
              <p:cNvSpPr txBox="1"/>
              <p:nvPr/>
            </p:nvSpPr>
            <p:spPr>
              <a:xfrm>
                <a:off x="5643720" y="4000680"/>
                <a:ext cx="1380960" cy="13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96" name="Прямая со стрелкой 40"/>
          <p:cNvCxnSpPr/>
          <p:nvPr/>
        </p:nvCxnSpPr>
        <p:spPr>
          <a:xfrm flipH="1">
            <a:off x="1213560" y="2000160"/>
            <a:ext cx="71532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7" name="Прямая со стрелкой 44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8" name="Прямая со стрелкой 46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9" name="Прямая со стрелкой 48"/>
          <p:cNvCxnSpPr/>
          <p:nvPr/>
        </p:nvCxnSpPr>
        <p:spPr>
          <a:xfrm flipH="1" flipV="1">
            <a:off x="1071720" y="5428440"/>
            <a:ext cx="64332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00" name="Object 11"/>
              <p:cNvSpPr txBox="1"/>
              <p:nvPr/>
            </p:nvSpPr>
            <p:spPr>
              <a:xfrm>
                <a:off x="4098960" y="1285920"/>
                <a:ext cx="3732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2"/>
              <p:cNvSpPr txBox="1"/>
              <p:nvPr/>
            </p:nvSpPr>
            <p:spPr>
              <a:xfrm>
                <a:off x="4643280" y="1785960"/>
                <a:ext cx="2428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228600" y="3930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5410080" y="394488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Прямая со стрелкой 1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1" name="Прямая со стрелкой 21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2" name="Прямая со стрелкой 23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3" name="Прямая со стрелкой 25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414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214200" y="3643200"/>
                <a:ext cx="2383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4"/>
              <p:cNvSpPr txBox="1"/>
              <p:nvPr/>
            </p:nvSpPr>
            <p:spPr>
              <a:xfrm>
                <a:off x="4714920" y="1428840"/>
                <a:ext cx="1843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6572160" y="1428840"/>
                <a:ext cx="1135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4863960" y="2071800"/>
                <a:ext cx="1629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7"/>
              <p:cNvSpPr txBox="1"/>
              <p:nvPr/>
            </p:nvSpPr>
            <p:spPr>
              <a:xfrm>
                <a:off x="6600960" y="2143080"/>
                <a:ext cx="946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8"/>
              <p:cNvSpPr txBox="1"/>
              <p:nvPr/>
            </p:nvSpPr>
            <p:spPr>
              <a:xfrm>
                <a:off x="5076720" y="4286160"/>
                <a:ext cx="14623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9"/>
              <p:cNvSpPr txBox="1"/>
              <p:nvPr/>
            </p:nvSpPr>
            <p:spPr>
              <a:xfrm>
                <a:off x="6643800" y="4286160"/>
                <a:ext cx="5713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0"/>
              <p:cNvSpPr txBox="1"/>
              <p:nvPr/>
            </p:nvSpPr>
            <p:spPr>
              <a:xfrm>
                <a:off x="4786200" y="2928960"/>
                <a:ext cx="18576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1"/>
              <p:cNvSpPr txBox="1"/>
              <p:nvPr/>
            </p:nvSpPr>
            <p:spPr>
              <a:xfrm>
                <a:off x="6643800" y="2928960"/>
                <a:ext cx="9428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1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1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1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16"/>
              <p:cNvSpPr txBox="1"/>
              <p:nvPr/>
            </p:nvSpPr>
            <p:spPr>
              <a:xfrm>
                <a:off x="4929120" y="5000760"/>
                <a:ext cx="17416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17"/>
              <p:cNvSpPr txBox="1"/>
              <p:nvPr/>
            </p:nvSpPr>
            <p:spPr>
              <a:xfrm>
                <a:off x="6643800" y="5000760"/>
                <a:ext cx="922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6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45" name="Прямая со стрелкой 16"/>
          <p:cNvCxnSpPr/>
          <p:nvPr/>
        </p:nvCxnSpPr>
        <p:spPr>
          <a:xfrm flipH="1">
            <a:off x="114264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46" name="Прямая со стрелкой 17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47" name="Прямая со стрелкой 18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48" name="Object 7"/>
              <p:cNvSpPr txBox="1"/>
              <p:nvPr/>
            </p:nvSpPr>
            <p:spPr>
              <a:xfrm>
                <a:off x="1857240" y="5715000"/>
                <a:ext cx="428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49" name="Прямая со стрелкой 22"/>
          <p:cNvCxnSpPr/>
          <p:nvPr/>
        </p:nvCxnSpPr>
        <p:spPr>
          <a:xfrm flipH="1" flipV="1">
            <a:off x="928080" y="5285520"/>
            <a:ext cx="85788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50" name="Object 16"/>
              <p:cNvSpPr txBox="1"/>
              <p:nvPr/>
            </p:nvSpPr>
            <p:spPr>
              <a:xfrm>
                <a:off x="4786200" y="1849320"/>
                <a:ext cx="17859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7"/>
              <p:cNvSpPr txBox="1"/>
              <p:nvPr/>
            </p:nvSpPr>
            <p:spPr>
              <a:xfrm>
                <a:off x="6702480" y="2181240"/>
                <a:ext cx="7412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8"/>
              <p:cNvSpPr txBox="1"/>
              <p:nvPr/>
            </p:nvSpPr>
            <p:spPr>
              <a:xfrm>
                <a:off x="4786200" y="2643120"/>
                <a:ext cx="1990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9"/>
              <p:cNvSpPr txBox="1"/>
              <p:nvPr/>
            </p:nvSpPr>
            <p:spPr>
              <a:xfrm>
                <a:off x="6715080" y="2857680"/>
                <a:ext cx="12034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20"/>
              <p:cNvSpPr txBox="1"/>
              <p:nvPr/>
            </p:nvSpPr>
            <p:spPr>
              <a:xfrm>
                <a:off x="5000760" y="3643200"/>
                <a:ext cx="168120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1"/>
              <p:cNvSpPr txBox="1"/>
              <p:nvPr/>
            </p:nvSpPr>
            <p:spPr>
              <a:xfrm>
                <a:off x="6697800" y="3962520"/>
                <a:ext cx="920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22"/>
              <p:cNvSpPr txBox="1"/>
              <p:nvPr/>
            </p:nvSpPr>
            <p:spPr>
              <a:xfrm>
                <a:off x="6946920" y="4890960"/>
                <a:ext cx="6969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23"/>
              <p:cNvSpPr txBox="1"/>
              <p:nvPr/>
            </p:nvSpPr>
            <p:spPr>
              <a:xfrm>
                <a:off x="4786200" y="4643280"/>
                <a:ext cx="19717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668c4"/>
                </a:solidFill>
                <a:latin typeface="Century Schoolbook"/>
              </a:rPr>
              <a:t>ЗАПИШИТЕ ФОРМУЛЫ ПРИВЕД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1857240" y="1643040"/>
                <a:ext cx="1970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928880" y="2214720"/>
                <a:ext cx="2165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4"/>
              <p:cNvSpPr txBox="1"/>
              <p:nvPr/>
            </p:nvSpPr>
            <p:spPr>
              <a:xfrm>
                <a:off x="2000160" y="292896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5"/>
              <p:cNvSpPr txBox="1"/>
              <p:nvPr/>
            </p:nvSpPr>
            <p:spPr>
              <a:xfrm>
                <a:off x="1928880" y="3786120"/>
                <a:ext cx="2214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6"/>
              <p:cNvSpPr txBox="1"/>
              <p:nvPr/>
            </p:nvSpPr>
            <p:spPr>
              <a:xfrm>
                <a:off x="2000160" y="478620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7"/>
              <p:cNvSpPr txBox="1"/>
              <p:nvPr/>
            </p:nvSpPr>
            <p:spPr>
              <a:xfrm>
                <a:off x="1916280" y="5572080"/>
                <a:ext cx="2170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8"/>
              <p:cNvSpPr txBox="1"/>
              <p:nvPr/>
            </p:nvSpPr>
            <p:spPr>
              <a:xfrm>
                <a:off x="4071960" y="1785960"/>
                <a:ext cx="858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9"/>
              <p:cNvSpPr txBox="1"/>
              <p:nvPr/>
            </p:nvSpPr>
            <p:spPr>
              <a:xfrm>
                <a:off x="4143240" y="235728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10"/>
              <p:cNvSpPr txBox="1"/>
              <p:nvPr/>
            </p:nvSpPr>
            <p:spPr>
              <a:xfrm>
                <a:off x="4071960" y="300024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11"/>
              <p:cNvSpPr txBox="1"/>
              <p:nvPr/>
            </p:nvSpPr>
            <p:spPr>
              <a:xfrm>
                <a:off x="4214880" y="392904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12"/>
              <p:cNvSpPr txBox="1"/>
              <p:nvPr/>
            </p:nvSpPr>
            <p:spPr>
              <a:xfrm>
                <a:off x="4156200" y="4889520"/>
                <a:ext cx="1003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13"/>
              <p:cNvSpPr txBox="1"/>
              <p:nvPr/>
            </p:nvSpPr>
            <p:spPr>
              <a:xfrm>
                <a:off x="4071960" y="5643720"/>
                <a:ext cx="100332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2700" spc="-1" strike="noStrike">
                <a:solidFill>
                  <a:srgbClr val="e75c01"/>
                </a:solidFill>
                <a:latin typeface="Century Schoolbook"/>
              </a:rPr>
              <a:t>1.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ВЫРАЗИТЕ ТРИГОНОМЕТРИЧЕСКИЕ ФУНКЦИИ ЧЕРЕЗ УГОЛ МЕНЬШЕ 45</a:t>
            </a:r>
            <a:r>
              <a:rPr b="0" i="1" lang="ru-RU" sz="27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1143000" y="1673280"/>
                <a:ext cx="1268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2500200" y="1643040"/>
                <a:ext cx="2884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1071720" y="2357280"/>
                <a:ext cx="1293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5"/>
              <p:cNvSpPr txBox="1"/>
              <p:nvPr/>
            </p:nvSpPr>
            <p:spPr>
              <a:xfrm>
                <a:off x="2500200" y="2357280"/>
                <a:ext cx="3033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6"/>
              <p:cNvSpPr txBox="1"/>
              <p:nvPr/>
            </p:nvSpPr>
            <p:spPr>
              <a:xfrm>
                <a:off x="1143000" y="3071880"/>
                <a:ext cx="1119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8"/>
              <p:cNvSpPr txBox="1"/>
              <p:nvPr/>
            </p:nvSpPr>
            <p:spPr>
              <a:xfrm>
                <a:off x="1158840" y="5475240"/>
                <a:ext cx="169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5"/>
              <p:cNvSpPr txBox="1"/>
              <p:nvPr/>
            </p:nvSpPr>
            <p:spPr>
              <a:xfrm>
                <a:off x="2571840" y="3143160"/>
                <a:ext cx="2560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10"/>
              <p:cNvSpPr txBox="1"/>
              <p:nvPr/>
            </p:nvSpPr>
            <p:spPr>
              <a:xfrm>
                <a:off x="1214280" y="3929040"/>
                <a:ext cx="1144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1"/>
              <p:cNvSpPr txBox="1"/>
              <p:nvPr/>
            </p:nvSpPr>
            <p:spPr>
              <a:xfrm>
                <a:off x="2571840" y="3929040"/>
                <a:ext cx="2585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13"/>
              <p:cNvSpPr txBox="1"/>
              <p:nvPr/>
            </p:nvSpPr>
            <p:spPr>
              <a:xfrm>
                <a:off x="2857680" y="4572000"/>
                <a:ext cx="3406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4"/>
              <p:cNvSpPr txBox="1"/>
              <p:nvPr/>
            </p:nvSpPr>
            <p:spPr>
              <a:xfrm>
                <a:off x="1143000" y="4572000"/>
                <a:ext cx="1666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5"/>
              <p:cNvSpPr txBox="1"/>
              <p:nvPr/>
            </p:nvSpPr>
            <p:spPr>
              <a:xfrm>
                <a:off x="2867040" y="5500800"/>
                <a:ext cx="315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2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2"/>
              <p:cNvSpPr txBox="1"/>
              <p:nvPr/>
            </p:nvSpPr>
            <p:spPr>
              <a:xfrm>
                <a:off x="214200" y="2071800"/>
                <a:ext cx="843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1071720" y="3286080"/>
                <a:ext cx="6500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Picture 4" descr=""/>
          <p:cNvPicPr/>
          <p:nvPr/>
        </p:nvPicPr>
        <p:blipFill>
          <a:blip r:embed="rId1"/>
          <a:stretch/>
        </p:blipFill>
        <p:spPr>
          <a:xfrm>
            <a:off x="364320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20T07:35:57Z</dcterms:modified>
  <cp:revision>19</cp:revision>
  <dc:subject/>
  <dc:title>Слайд 1</dc:title>
</cp:coreProperties>
</file>