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F19-CD9C-4122-8F91-A64EC873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87F-7D84-4E83-893F-65AF3B32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FF3-B321-41D3-862D-268C27B2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D45-865B-478E-9D40-ADBD5E24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F6D8-D9BB-4853-809A-4FC6AA48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15DE-1C43-4E83-9344-77F8E110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CF62-0E48-4BD6-B8F8-F22EDD11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16BE-FD00-4CDB-B327-017867F1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4946-F300-47F5-A1BF-242E4640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7608-504C-4250-ABE8-353BECAF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4AD4-3388-45BE-B274-12C320A1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126-5799-4427-B6EC-2BA3CB1E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7938-DC37-4242-B94D-F07C3396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BC6A-93F3-45E5-A79E-18DABB44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DAE8-D3BA-4D24-B90A-DA7E09A5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7359-6DE1-43E5-9C4F-A87B33C2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ABED-3CE9-4362-AAD5-2F78293A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02097-323C-49E1-83AF-F21DD658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0F83E-C75B-4397-A835-A1FC6C49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6142B-A9BD-474E-A9C4-48804E8B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915E5-2E11-4EDF-BF22-91EC1172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21E76-9194-4EF2-9E2E-D5A0B2F1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D7A-C588-4E8F-9A81-CC74B152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DBAD1-1F7A-48C8-979B-BEDCB9F5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AEEE0-30D1-4D53-8EC0-3AEE395D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BBE2F-0736-46FC-8AC0-69E2BC44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B6B12-EECB-4BE9-B4FD-7064E828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68D52-42AD-436E-A72F-928E82A8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C38D3-4139-4EDA-A95A-B215CD38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5C088-19A3-4D45-B92E-466F4767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8860-E7D0-42D8-8B7A-A181EC55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9DC64-2903-47B0-86C4-872D98A8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B7D18-5D93-4373-891E-0367FC40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C33-40F4-460A-B3A2-8B949FEE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A3651-0FF1-471C-A13F-2638918D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FA146-C282-4510-B618-F5244CC7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3D673-7687-4FF6-8866-37894262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86360-EEB6-43C0-8CBF-99711222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ABE42-212D-4865-8258-45728A05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721AB-C4FF-417B-8533-A506008B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58909-261C-40B7-ADC4-A92524E9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839E5-43D7-4696-BE65-BE17445D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4F394-2FC6-4666-8699-8CAECE97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018EB-95AB-4545-B3D0-523F5376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F44-4D62-494C-80A9-D7677B37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4ECC5D-6834-428C-8F79-D4544D32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F78168-59F1-4D7C-A040-F7FDC3A7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1EF5B-CB7B-4911-8506-F28F319E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F754B5-71E7-4442-9E2D-515AB1B3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303D7-E3E0-4F64-B061-2C0CD53C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7CB1E-A9A5-42A9-9F27-41D40A99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76CC7-7BB1-4179-8912-CEE43012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65774-88CD-4ED2-9DCD-EEC4DC85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94B57-DCFE-477C-8C4A-F2230C20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8F1D2-6DBD-4E65-BF91-221429C8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304-3AD5-467E-9F88-510F2F60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B37C08-D060-4963-8BD9-5AB38CD9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B73A40-9D42-4B4A-92DD-3ABAD20E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5FBB9-1899-4D91-BFCD-25E7D55D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8D5AE-DB2F-4853-BA4B-495D5C52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B72A1-D7AE-4D52-8155-2B87EB2C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274887-1348-4F5A-A9C5-EF4960B4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6F0572-E82E-4367-A74B-32886080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2CEFCE-A207-426F-B955-A364A581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7C80E9-BE75-44CF-8FA6-109D8E29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CCE0B-F814-44D5-84C8-A0C814B2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584-EE2D-4C26-8099-A312215B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17FAA-17AF-4BB5-8785-06C799B5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4B2B9C-7550-46F0-AE08-0EA8C4AD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C50215-7C16-4BBF-A49C-F4170295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BFC66B-D0F1-4696-8B12-192F77D3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0B004D-4C79-450C-86CA-61DE0F1D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420D3E-79C6-49F7-84B4-5BDC949E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D7DB50-72E5-4747-8786-545D3E26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C8F6F-454F-4C8A-9C4F-4D418C11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2FBAE-F93C-4A94-8039-40485FE0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E510F-12BE-4704-9D70-1CA677F2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DAF-145D-4D7F-BCE3-4E7BA4AF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923E7-5F4E-415B-8FD2-154924D5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296881-F6A0-4759-9296-F6B14E72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1E2F4E-32A2-4711-AFD1-BA0702E0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A36D20-B7B5-4DFD-A4A2-895D34F6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E3090-2895-4B92-A516-9CB0B232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2BD-469D-4E9D-8693-96F21CF0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1BEA-C4E4-459D-92AE-6A46B703B7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3835-2934-44E7-975E-1120632CB80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1099-79B3-4BAD-9866-B279A7C705F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CD20-3ED5-4689-B973-59F0EEC72F5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DF3D-1A90-4A47-9C01-45BFD9E1ED3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01E8-8A7F-4AE4-A5E6-24D1FBC1065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8261-89FB-439A-A3DF-79F1AE8D1B5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5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6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7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68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1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2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3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14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5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6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7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9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50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0T07:35:57Z</dcterms:modified>
  <cp:revision>19</cp:revision>
  <dc:subject/>
  <dc:title>Слайд 1</dc:title>
</cp:coreProperties>
</file>