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3.jpeg" ContentType="image/jpeg"/>
  <Override PartName="/ppt/media/TYPE.WAV" ContentType="audio/x-wav"/>
  <Override PartName="/ppt/media/image4.png" ContentType="image/png"/>
  <Override PartName="/ppt/media/image1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2.gif" ContentType="image/gif"/>
  <Override PartName="/ppt/media/image5.png" ContentType="image/png"/>
  <Override PartName="/ppt/media/image10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FD34-5741-4FD9-A8F6-038BAB5C76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E70E-21C5-4056-A8F6-3BE636651F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5DD9-3AA5-4BAE-9593-0720DC8C13F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8C8-C536-463D-B0C3-1DB36B4A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228-45A1-4377-864F-37BC6339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C5C-E0D0-4D61-8E4C-1CAB4721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216-8DD5-4FB8-88F3-BE5288F3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497E-2F33-4E9B-AEBE-450F0215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3DD8-5689-41A8-80BF-64A33BFC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F937-9354-4D55-B02E-9885E1ED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4F91-CFE8-45E9-B2E7-A1D07BD3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8B79-C49F-41D1-895B-893799C8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78B4-A76D-4AD6-BC8F-A2041CF3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0EFF-8A8B-4978-8823-964F168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4A9-EEC6-4455-A246-E804CCE7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4E67-5251-4B94-BA31-E7C15BCC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CFAD-5483-4743-8D62-29279D32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A90A-9725-41C0-AB04-856D7831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E24F-EDBB-48E0-8A7A-ED1E4347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3660-50C7-4A97-8CC5-2BF8BF02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9C7-924D-40AC-896E-D082CFC1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0CE-1502-48AC-BCA9-69743782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B0B-5B2A-464C-89F5-30E7DE50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EF0-1C72-4684-8376-C9652875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2F9-62E0-4FB7-8430-2E47A01E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ADA-365C-4275-88F2-E75C1A5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CAB-6DDB-419B-B9E6-5A6DAD68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8552-24D5-4CC6-A1A4-0792BB907B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8D51-B4C0-4CC6-83F4-AB46E325A6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подавателя математики Санышевой Л. 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1" name="Поле 5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Линия 6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8" descr="M-Sch1"/>
          <p:cNvPicPr/>
          <p:nvPr/>
        </p:nvPicPr>
        <p:blipFill>
          <a:blip r:embed="rId2"/>
          <a:stretch/>
        </p:blipFill>
        <p:spPr>
          <a:xfrm>
            <a:off x="3809880" y="3200400"/>
            <a:ext cx="1463760" cy="9716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. 11"/>
          <p:cNvSpPr/>
          <p:nvPr/>
        </p:nvSpPr>
        <p:spPr>
          <a:xfrm>
            <a:off x="3278520" y="6248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4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235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238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242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247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250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253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256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259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08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60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63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66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69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72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75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3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84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85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86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03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340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344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348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62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80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86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93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401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75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75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75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75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75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Объект WordArt 2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35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Рисунок 20" descr="start111"/>
          <p:cNvPicPr/>
          <p:nvPr/>
        </p:nvPicPr>
        <p:blipFill>
          <a:blip r:embed="rId1"/>
          <a:stretch/>
        </p:blipFill>
        <p:spPr>
          <a:xfrm>
            <a:off x="6365880" y="3809880"/>
            <a:ext cx="2778120" cy="2868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образовательное учебное за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МГ матема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е 1030"/>
          <p:cNvSpPr/>
          <p:nvPr/>
        </p:nvSpPr>
        <p:spPr>
          <a:xfrm>
            <a:off x="3124080" y="5181480"/>
            <a:ext cx="2971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, Тольят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45057, Приморский б-р,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. (8482) 34-51-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кс (8482) 4074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Рисунок 103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8" name="Поле 1032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Линия 1033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1035" descr="M-Sch2"/>
          <p:cNvPicPr/>
          <p:nvPr/>
        </p:nvPicPr>
        <p:blipFill>
          <a:blip r:embed="rId2"/>
          <a:stretch/>
        </p:blipFill>
        <p:spPr>
          <a:xfrm>
            <a:off x="7696080" y="4876920"/>
            <a:ext cx="57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2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авнение – это равенство, содержащее одну или несколько перем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Группа 25"/>
          <p:cNvGrpSpPr/>
          <p:nvPr/>
        </p:nvGrpSpPr>
        <p:grpSpPr>
          <a:xfrm>
            <a:off x="1828800" y="2971800"/>
            <a:ext cx="914400" cy="536040"/>
            <a:chOff x="1828800" y="2971800"/>
            <a:chExt cx="914400" cy="536040"/>
          </a:xfrm>
        </p:grpSpPr>
        <p:sp>
          <p:nvSpPr>
            <p:cNvPr id="136" name="Прямоуг. 15"/>
            <p:cNvSpPr/>
            <p:nvPr/>
          </p:nvSpPr>
          <p:spPr>
            <a:xfrm>
              <a:off x="1828800" y="2971800"/>
              <a:ext cx="914400" cy="53352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Поле 13"/>
            <p:cNvSpPr/>
            <p:nvPr/>
          </p:nvSpPr>
          <p:spPr>
            <a:xfrm>
              <a:off x="1828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=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Группа 26"/>
          <p:cNvGrpSpPr/>
          <p:nvPr/>
        </p:nvGrpSpPr>
        <p:grpSpPr>
          <a:xfrm>
            <a:off x="2666880" y="3733920"/>
            <a:ext cx="1447920" cy="535680"/>
            <a:chOff x="2666880" y="3733920"/>
            <a:chExt cx="1447920" cy="535680"/>
          </a:xfrm>
        </p:grpSpPr>
        <p:sp>
          <p:nvSpPr>
            <p:cNvPr id="139" name="Прямоуг. 16"/>
            <p:cNvSpPr/>
            <p:nvPr/>
          </p:nvSpPr>
          <p:spPr>
            <a:xfrm>
              <a:off x="2666880" y="3733920"/>
              <a:ext cx="1295640" cy="5331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Поле 14"/>
            <p:cNvSpPr/>
            <p:nvPr/>
          </p:nvSpPr>
          <p:spPr>
            <a:xfrm>
              <a:off x="2666880" y="3809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+by=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Поле 19"/>
          <p:cNvSpPr/>
          <p:nvPr/>
        </p:nvSpPr>
        <p:spPr>
          <a:xfrm>
            <a:off x="4038480" y="2971800"/>
            <a:ext cx="2667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й перем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оле 20"/>
          <p:cNvSpPr/>
          <p:nvPr/>
        </p:nvSpPr>
        <p:spPr>
          <a:xfrm>
            <a:off x="5257800" y="3733920"/>
            <a:ext cx="26668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умя перемен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Автофигура 21"/>
          <p:cNvSpPr/>
          <p:nvPr/>
        </p:nvSpPr>
        <p:spPr>
          <a:xfrm>
            <a:off x="3048120" y="3200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Автофигура 22"/>
          <p:cNvSpPr/>
          <p:nvPr/>
        </p:nvSpPr>
        <p:spPr>
          <a:xfrm>
            <a:off x="426708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. 23"/>
          <p:cNvSpPr/>
          <p:nvPr/>
        </p:nvSpPr>
        <p:spPr>
          <a:xfrm>
            <a:off x="76212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йства уравн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в уравнении перенести слагаемое из одной части в другую, изменив его знак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обе части уравнения умножить или разделить на одно и то же отличное от нуля число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Уравнение и его свойств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3" name="Объект 3"/>
          <p:cNvGraphicFramePr/>
          <p:nvPr/>
        </p:nvGraphicFramePr>
        <p:xfrm>
          <a:off x="277920" y="2362320"/>
          <a:ext cx="88660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362320"/>
                    <a:ext cx="8866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Автофигура 4"/>
          <p:cNvSpPr/>
          <p:nvPr/>
        </p:nvSpPr>
        <p:spPr>
          <a:xfrm>
            <a:off x="3733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Автофигура 6">
            <a:hlinkClick r:id="rId3" action="ppaction://hlinksldjump"/>
          </p:cNvPr>
          <p:cNvSpPr/>
          <p:nvPr/>
        </p:nvSpPr>
        <p:spPr>
          <a:xfrm>
            <a:off x="91440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Автофигура 7">
            <a:hlinkClick r:id="rId4" action="ppaction://hlinksldjump"/>
          </p:cNvPr>
          <p:cNvSpPr/>
          <p:nvPr/>
        </p:nvSpPr>
        <p:spPr>
          <a:xfrm>
            <a:off x="26668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Автофигура 8">
            <a:hlinkClick r:id="rId5" action="ppaction://hlinksldjump"/>
          </p:cNvPr>
          <p:cNvSpPr/>
          <p:nvPr/>
        </p:nvSpPr>
        <p:spPr>
          <a:xfrm>
            <a:off x="44956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Автофигура 9">
            <a:hlinkClick r:id="rId6" action="ppaction://hlinksldjump"/>
          </p:cNvPr>
          <p:cNvSpPr/>
          <p:nvPr/>
        </p:nvSpPr>
        <p:spPr>
          <a:xfrm>
            <a:off x="6248520" y="5257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Автофигура 10"/>
          <p:cNvSpPr/>
          <p:nvPr/>
        </p:nvSpPr>
        <p:spPr>
          <a:xfrm>
            <a:off x="81532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Автофигура 11"/>
          <p:cNvSpPr/>
          <p:nvPr/>
        </p:nvSpPr>
        <p:spPr>
          <a:xfrm>
            <a:off x="44956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64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67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70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73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74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77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80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86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89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0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93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1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202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205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208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216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220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21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223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226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Admin</cp:lastModifiedBy>
  <dcterms:modified xsi:type="dcterms:W3CDTF">2010-02-16T18:14:27Z</dcterms:modified>
  <cp:revision>63</cp:revision>
  <dc:subject/>
  <dc:title>АЛГЕБРА 6 КЛАСС</dc:title>
</cp:coreProperties>
</file>