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drumroll.wav" ContentType="audio/x-wav"/>
  <Override PartName="/ppt/media/image15.png" ContentType="image/png"/>
  <Override PartName="/ppt/media/cashreg.wav" ContentType="audio/x-wav"/>
  <Override PartName="/ppt/media/image13.png" ContentType="image/png"/>
  <Override PartName="/ppt/media/image10.png" ContentType="image/png"/>
  <Override PartName="/ppt/media/image14.png" ContentType="image/png"/>
  <Override PartName="/ppt/media/image1.png" ContentType="image/png"/>
  <Override PartName="/ppt/media/image3.gif" ContentType="image/gif"/>
  <Override PartName="/ppt/media/image6.wmf" ContentType="image/x-wmf"/>
  <Override PartName="/ppt/media/image11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12.png" ContentType="image/png"/>
  <Override PartName="/ppt/media/image7.wmf" ContentType="image/x-wmf"/>
  <Override PartName="/ppt/media/image8.png" ContentType="image/pn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B06-30BD-434C-A7F8-6620A7D0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21F-76C8-427D-B2B7-C3653B30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499-DD90-483A-80AF-359B5749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B69-2C99-49D9-99BA-D875E34F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DE8-2706-49D7-8016-1458BB34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A24-0A9F-4F0C-9319-8D5BEED3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ACC-FC2E-4D69-B719-2C6C3E6D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EA6-4EA8-464B-8C26-52E2BC1F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AA8-79E1-47CE-9F4B-8B99A0C8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2B9-E1DB-4F64-91AB-AD152445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644-6D86-4C6C-8A8E-7B0BE79E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5C6-3A9D-4EBA-8559-2CF78219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DDF5-3DEB-4A48-B152-778D88C5F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гебра 8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1909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476360" y="2852640"/>
            <a:ext cx="568800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24720" y="404640"/>
            <a:ext cx="1143000" cy="108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Решение приме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8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95280" y="762120"/>
            <a:ext cx="4641840" cy="457200"/>
            <a:chOff x="1295280" y="762120"/>
            <a:chExt cx="4641840" cy="457200"/>
          </a:xfrm>
        </p:grpSpPr>
        <p:sp>
          <p:nvSpPr>
            <p:cNvPr id="98" name=""/>
            <p:cNvSpPr/>
            <p:nvPr/>
          </p:nvSpPr>
          <p:spPr>
            <a:xfrm>
              <a:off x="1295280" y="762120"/>
              <a:ext cx="55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9320" y="762120"/>
              <a:ext cx="408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86000" y="3352680"/>
            <a:ext cx="4641840" cy="457200"/>
            <a:chOff x="2286000" y="3352680"/>
            <a:chExt cx="4641840" cy="457200"/>
          </a:xfrm>
        </p:grpSpPr>
        <p:sp>
          <p:nvSpPr>
            <p:cNvPr id="101" name=""/>
            <p:cNvSpPr/>
            <p:nvPr/>
          </p:nvSpPr>
          <p:spPr>
            <a:xfrm>
              <a:off x="2286000" y="3352680"/>
              <a:ext cx="5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2360" y="3352680"/>
              <a:ext cx="406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0" y="3886200"/>
            <a:ext cx="4641840" cy="457200"/>
            <a:chOff x="2286000" y="3886200"/>
            <a:chExt cx="4641840" cy="457200"/>
          </a:xfrm>
        </p:grpSpPr>
        <p:sp>
          <p:nvSpPr>
            <p:cNvPr id="104" name=""/>
            <p:cNvSpPr/>
            <p:nvPr/>
          </p:nvSpPr>
          <p:spPr>
            <a:xfrm>
              <a:off x="2286000" y="3886200"/>
              <a:ext cx="33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800" y="3886200"/>
              <a:ext cx="430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51080" y="4253040"/>
            <a:ext cx="4641840" cy="533160"/>
            <a:chOff x="2251080" y="4253040"/>
            <a:chExt cx="4641840" cy="533160"/>
          </a:xfrm>
        </p:grpSpPr>
        <p:sp>
          <p:nvSpPr>
            <p:cNvPr id="107" name=""/>
            <p:cNvSpPr/>
            <p:nvPr/>
          </p:nvSpPr>
          <p:spPr>
            <a:xfrm>
              <a:off x="2251080" y="4253040"/>
              <a:ext cx="585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6800" y="4253040"/>
              <a:ext cx="4056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05120" y="5486400"/>
            <a:ext cx="3275280" cy="914040"/>
            <a:chOff x="1905120" y="5486400"/>
            <a:chExt cx="3275280" cy="914040"/>
          </a:xfrm>
        </p:grpSpPr>
        <p:sp>
          <p:nvSpPr>
            <p:cNvPr id="110" name=""/>
            <p:cNvSpPr/>
            <p:nvPr/>
          </p:nvSpPr>
          <p:spPr>
            <a:xfrm>
              <a:off x="1905120" y="5486400"/>
              <a:ext cx="104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09880" y="5486400"/>
              <a:ext cx="1355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66000" y="5486400"/>
              <a:ext cx="18144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320040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320040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981080" y="2895480"/>
            <a:ext cx="3200400" cy="64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057400" y="3733920"/>
            <a:ext cx="312408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66880" y="4572000"/>
            <a:ext cx="1795680" cy="668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505320" y="57150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апример решаю квадратное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равнение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3Х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–18Х+24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057400"/>
            <a:ext cx="6172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К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ас=9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24=72=9</a:t>
            </a:r>
            <a:r>
              <a:rPr b="0" lang="en-US" sz="2400" spc="-1" strike="noStrike">
                <a:solidFill>
                  <a:srgbClr val="14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90920" y="3048120"/>
                <a:ext cx="20509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609200" y="3124080"/>
            <a:ext cx="90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267080"/>
            <a:ext cx="4562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en-US" sz="2400" spc="-1" strike="noStrike" baseline="-25000">
                <a:solidFill>
                  <a:srgbClr val="d6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14600" y="4114800"/>
                <a:ext cx="2438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83680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5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85345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Необходимость решать уравнения  не только первой, но и второй степени ёщё в древности была вызвана потребностью решать задачи, связанные с нахождением площадей земельных участков и с земляными работами военного характера, а также с развитием астрономии и самой математики. Квадратные уравнения умели решать около 2000 лет до нашей веры вавилоняне. Применяя современную алгебраическую запись, можно сказать, что в их  клинописных текстах  встречаются, кроме неполных, и такие, например, полные квадратные уравнения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762120"/>
            <a:ext cx="76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Квадратные уравнения в Древнем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Вавил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28800" y="0"/>
            <a:ext cx="251460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емного из истории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0880"/>
            <a:ext cx="815328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авило решения этих уравнений, изложенное в вавилонских текстах, совпадает с современным, однако неизвестно, каким образом дошли вавилоняне до этого правила. Почти все найденные до сих пор клинописные тексты приводя только задачи с решениями, изложенными в виде рецептов, без указаний относительно того, каким образом они были найдены. Несмотря на высокий уровень развития алгебры в Вавилонии, в клинописных текстах отсутствуют понятие отрицательного числа и общие методы решения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4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Франсуа Ви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Теорема Ви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00280"/>
            <a:ext cx="8066160" cy="3852360"/>
          </a:xfrm>
          <a:prstGeom prst="rect">
            <a:avLst/>
          </a:prstGeom>
          <a:solidFill>
            <a:srgbClr val="f3dd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Если приведенное квадратное уравнение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+px+q=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имеет действительные корни, то их сумма равна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-p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а произведение равн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то есть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-p ,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сумма корней приведенного квадратного уравнения равна второму коэффициенту, взятому с противоположным знаком, а произведение корней равно свободному члену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523880"/>
            <a:ext cx="495324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14Х + 2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=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ac = 196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96 = 1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2,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14, 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70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Не верите? Проверь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1366920" cy="1801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33920" y="495288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523880"/>
            <a:ext cx="762012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3Х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, значит корни имеют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3, значит больший по мод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корень  - отриц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Подбором находим корни: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5,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Угадываем кор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70360" cy="11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76720" y="457200"/>
            <a:ext cx="2133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 "Домино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2361960"/>
          <a:ext cx="4392720" cy="533520"/>
        </p:xfrm>
        <a:graphic>
          <a:graphicData uri="http://schemas.openxmlformats.org/drawingml/2006/table">
            <a:tbl>
              <a:tblPr/>
              <a:tblGrid>
                <a:gridCol w="218304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7х + 12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2362320"/>
          <a:ext cx="3962520" cy="53316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3, х =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8х + 32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0920" y="3352680"/>
          <a:ext cx="4244760" cy="425520"/>
        </p:xfrm>
        <a:graphic>
          <a:graphicData uri="http://schemas.openxmlformats.org/drawingml/2006/table">
            <a:tbl>
              <a:tblPr/>
              <a:tblGrid>
                <a:gridCol w="2041560"/>
                <a:gridCol w="2203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 16, х = -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5х – 14 = 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352680"/>
          <a:ext cx="3975120" cy="457200"/>
        </p:xfrm>
        <a:graphic>
          <a:graphicData uri="http://schemas.openxmlformats.org/drawingml/2006/table">
            <a:tbl>
              <a:tblPr/>
              <a:tblGrid>
                <a:gridCol w="1731960"/>
                <a:gridCol w="22431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2, х = 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6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50920" y="4292640"/>
          <a:ext cx="4259160" cy="517320"/>
        </p:xfrm>
        <a:graphic>
          <a:graphicData uri="http://schemas.openxmlformats.org/drawingml/2006/table">
            <a:tbl>
              <a:tblPr/>
              <a:tblGrid>
                <a:gridCol w="1944720"/>
                <a:gridCol w="2314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3, х = -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8х + 12 = 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643280" y="4292640"/>
          <a:ext cx="4029120" cy="517320"/>
        </p:xfrm>
        <a:graphic>
          <a:graphicData uri="http://schemas.openxmlformats.org/drawingml/2006/table">
            <a:tbl>
              <a:tblPr/>
              <a:tblGrid>
                <a:gridCol w="16668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2, х = 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ru-RU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57200" y="5486400"/>
          <a:ext cx="4114800" cy="533520"/>
        </p:xfrm>
        <a:graphic>
          <a:graphicData uri="http://schemas.openxmlformats.org/drawingml/2006/table">
            <a:tbl>
              <a:tblPr/>
              <a:tblGrid>
                <a:gridCol w="190512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4, х = -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5х – 6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5486400"/>
          <a:ext cx="3962520" cy="517680"/>
        </p:xfrm>
        <a:graphic>
          <a:graphicData uri="http://schemas.openxmlformats.org/drawingml/2006/table">
            <a:tbl>
              <a:tblPr/>
              <a:tblGrid>
                <a:gridCol w="1787400"/>
                <a:gridCol w="217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1, х = 6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1523880" y="1447920"/>
            <a:ext cx="50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Реши устно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 квадратного уравнени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вадратным уравнением называется уравнение вид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bx+c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переменная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 b,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некоторые числа, приче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0" y="858240"/>
            <a:ext cx="91440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Алгоритм решения квадратного урав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057400"/>
            <a:ext cx="4681080" cy="473040"/>
            <a:chOff x="304920" y="2057400"/>
            <a:chExt cx="4681080" cy="473040"/>
          </a:xfrm>
        </p:grpSpPr>
        <p:sp>
          <p:nvSpPr>
            <p:cNvPr id="79" name=""/>
            <p:cNvSpPr/>
            <p:nvPr/>
          </p:nvSpPr>
          <p:spPr>
            <a:xfrm>
              <a:off x="304920" y="2057400"/>
              <a:ext cx="2523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7280" y="2057400"/>
              <a:ext cx="4428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йти число, называемое дискриминантом квадратного уравнения и равно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47920" y="2971800"/>
            <a:ext cx="3391920" cy="457200"/>
            <a:chOff x="1447920" y="2971800"/>
            <a:chExt cx="3391920" cy="457200"/>
          </a:xfrm>
        </p:grpSpPr>
        <p:sp>
          <p:nvSpPr>
            <p:cNvPr id="82" name=""/>
            <p:cNvSpPr/>
            <p:nvPr/>
          </p:nvSpPr>
          <p:spPr>
            <a:xfrm>
              <a:off x="1447920" y="2971800"/>
              <a:ext cx="267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5760" y="297180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не имеет корне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743200" y="3657600"/>
            <a:ext cx="4910040" cy="898560"/>
            <a:chOff x="2743200" y="3657600"/>
            <a:chExt cx="4910040" cy="898560"/>
          </a:xfrm>
        </p:grpSpPr>
        <p:sp>
          <p:nvSpPr>
            <p:cNvPr id="85" name=""/>
            <p:cNvSpPr/>
            <p:nvPr/>
          </p:nvSpPr>
          <p:spPr>
            <a:xfrm>
              <a:off x="2743200" y="3657600"/>
              <a:ext cx="2476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90880" y="3657600"/>
              <a:ext cx="46623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имеет единственный корень, который равен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371600" y="5913360"/>
            <a:ext cx="4284720" cy="944640"/>
            <a:chOff x="1371600" y="5913360"/>
            <a:chExt cx="4284720" cy="944640"/>
          </a:xfrm>
        </p:grpSpPr>
        <p:sp>
          <p:nvSpPr>
            <p:cNvPr id="88" name=""/>
            <p:cNvSpPr/>
            <p:nvPr/>
          </p:nvSpPr>
          <p:spPr>
            <a:xfrm>
              <a:off x="1371600" y="5913360"/>
              <a:ext cx="1810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52680" y="5913360"/>
              <a:ext cx="41036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  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990720" cy="676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1245960" cy="51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343400" y="57913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49528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то данное квадратное уравнение име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0720" y="533412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а корня,которые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6:12Z</dcterms:created>
  <dc:creator>User</dc:creator>
  <dc:description/>
  <dc:language>en-US</dc:language>
  <cp:lastModifiedBy>Гость</cp:lastModifiedBy>
  <dcterms:modified xsi:type="dcterms:W3CDTF">2007-04-14T04:42:52Z</dcterms:modified>
  <cp:revision>4</cp:revision>
  <dc:subject/>
  <dc:title>Алгебра 8 класс.</dc:title>
</cp:coreProperties>
</file>