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7.wmf" ContentType="image/x-wmf"/>
  <Override PartName="/ppt/media/drumroll.wav" ContentType="audio/x-wav"/>
  <Override PartName="/ppt/media/image15.png" ContentType="image/png"/>
  <Override PartName="/ppt/media/cashreg.wav" ContentType="audio/x-wav"/>
  <Override PartName="/ppt/media/image13.png" ContentType="image/png"/>
  <Override PartName="/ppt/media/image10.png" ContentType="image/png"/>
  <Override PartName="/ppt/media/image14.png" ContentType="image/png"/>
  <Override PartName="/ppt/media/image1.png" ContentType="image/png"/>
  <Override PartName="/ppt/media/image3.gif" ContentType="image/gif"/>
  <Override PartName="/ppt/media/image6.wmf" ContentType="image/x-wmf"/>
  <Override PartName="/ppt/media/image11.png" ContentType="image/png"/>
  <Override PartName="/ppt/media/image4.png" ContentType="image/png"/>
  <Override PartName="/ppt/media/image16.png" ContentType="image/png"/>
  <Override PartName="/ppt/media/chimes.wav" ContentType="audio/x-wav"/>
  <Override PartName="/ppt/media/image12.png" ContentType="image/png"/>
  <Override PartName="/ppt/media/image7.wmf" ContentType="image/x-wmf"/>
  <Override PartName="/ppt/media/image8.png" ContentType="image/png"/>
  <Override PartName="/ppt/media/image2.gif" ContentType="image/gif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059F-8A42-478E-B77C-120808FF7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2617-49EC-4B3B-B985-219A787F3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1C552-B8E4-4312-B8DF-328638F30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A144-0105-4DA6-93DB-D5C342082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BEAF-EA0C-4AB1-B49A-9E9DCD3F6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C875-7061-418F-9A88-381A6EE6F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BB24-2A13-4C70-A4CE-1092A4948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6A92-E253-447D-8153-F4A9CC106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2824-8B53-432B-BC15-6D1AFAA15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7B8B-0D15-4785-987C-F02C9385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5DAB-616C-4ADD-B621-55C98020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4A16-1AFF-4E64-A241-AAF0539E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64889-F697-49D5-87FE-03E9A20024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audio" Target="file:///tmp/home/.config/libreoffice/4/user/gallery/chimes.wav" TargetMode="External"/><Relationship Id="rId5" Type="http://schemas.microsoft.com/office/2007/relationships/media" Target="file:///tmp/home/.config/libreoffice/4/user/gallery/chimes.wav" TargetMode="Externa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shreg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.gif"/><Relationship Id="rId3" Type="http://schemas.openxmlformats.org/officeDocument/2006/relationships/audio" Target="../media/chimes.wav"/><Relationship Id="rId4" Type="http://schemas.openxmlformats.org/officeDocument/2006/relationships/audio" Target="../media/drumroll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Алгебра 8 класс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52280" y="1219320"/>
            <a:ext cx="8534520" cy="19098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1476360" y="2852640"/>
            <a:ext cx="5688000" cy="3456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7524720" y="404640"/>
            <a:ext cx="1143000" cy="1086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" action="ppaction://media"/>
          </p:cNvPr>
          <p:cNvPicPr/>
          <p:nvPr>
            <a:audi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8305920" y="6324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5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80880" y="45720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Решение примера.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981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295280" y="762120"/>
            <a:ext cx="4641840" cy="457200"/>
            <a:chOff x="1295280" y="762120"/>
            <a:chExt cx="4641840" cy="457200"/>
          </a:xfrm>
        </p:grpSpPr>
        <p:sp>
          <p:nvSpPr>
            <p:cNvPr id="98" name=""/>
            <p:cNvSpPr/>
            <p:nvPr/>
          </p:nvSpPr>
          <p:spPr>
            <a:xfrm>
              <a:off x="1295280" y="762120"/>
              <a:ext cx="554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849320" y="762120"/>
              <a:ext cx="4087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2286000" y="3352680"/>
            <a:ext cx="4641840" cy="457200"/>
            <a:chOff x="2286000" y="3352680"/>
            <a:chExt cx="4641840" cy="457200"/>
          </a:xfrm>
        </p:grpSpPr>
        <p:sp>
          <p:nvSpPr>
            <p:cNvPr id="101" name=""/>
            <p:cNvSpPr/>
            <p:nvPr/>
          </p:nvSpPr>
          <p:spPr>
            <a:xfrm>
              <a:off x="2286000" y="3352680"/>
              <a:ext cx="576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862360" y="3352680"/>
              <a:ext cx="406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5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286000" y="3886200"/>
            <a:ext cx="4641840" cy="457200"/>
            <a:chOff x="2286000" y="3886200"/>
            <a:chExt cx="4641840" cy="457200"/>
          </a:xfrm>
        </p:grpSpPr>
        <p:sp>
          <p:nvSpPr>
            <p:cNvPr id="104" name=""/>
            <p:cNvSpPr/>
            <p:nvPr/>
          </p:nvSpPr>
          <p:spPr>
            <a:xfrm>
              <a:off x="2286000" y="3886200"/>
              <a:ext cx="334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620800" y="3886200"/>
              <a:ext cx="43070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251080" y="4253040"/>
            <a:ext cx="4641840" cy="533160"/>
            <a:chOff x="2251080" y="4253040"/>
            <a:chExt cx="4641840" cy="533160"/>
          </a:xfrm>
        </p:grpSpPr>
        <p:sp>
          <p:nvSpPr>
            <p:cNvPr id="107" name=""/>
            <p:cNvSpPr/>
            <p:nvPr/>
          </p:nvSpPr>
          <p:spPr>
            <a:xfrm>
              <a:off x="2251080" y="4253040"/>
              <a:ext cx="5857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36800" y="4253040"/>
              <a:ext cx="40561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905120" y="5486400"/>
            <a:ext cx="3275280" cy="914040"/>
            <a:chOff x="1905120" y="5486400"/>
            <a:chExt cx="3275280" cy="914040"/>
          </a:xfrm>
        </p:grpSpPr>
        <p:sp>
          <p:nvSpPr>
            <p:cNvPr id="110" name=""/>
            <p:cNvSpPr/>
            <p:nvPr/>
          </p:nvSpPr>
          <p:spPr>
            <a:xfrm>
              <a:off x="1905120" y="5486400"/>
              <a:ext cx="10476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09880" y="5486400"/>
              <a:ext cx="135576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Ответ: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366000" y="5486400"/>
              <a:ext cx="181440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           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905120" y="1295280"/>
            <a:ext cx="3200400" cy="5605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981080" y="2057400"/>
            <a:ext cx="3200400" cy="6094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981080" y="2895480"/>
            <a:ext cx="3200400" cy="6447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2057400" y="3733920"/>
            <a:ext cx="3124080" cy="666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2666880" y="4572000"/>
            <a:ext cx="1795680" cy="668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6"/>
          <a:stretch/>
        </p:blipFill>
        <p:spPr>
          <a:xfrm>
            <a:off x="3505320" y="57150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762120" y="380880"/>
            <a:ext cx="7772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Arial"/>
              </a:rPr>
              <a:t>Например решаю квадратное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уравнение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.</a:t>
            </a:r>
            <a:br>
              <a:rPr sz="2800"/>
            </a:b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3Х</a:t>
            </a:r>
            <a:r>
              <a:rPr b="0" lang="en-US" sz="4400" spc="-1" strike="noStrike" baseline="30000">
                <a:solidFill>
                  <a:srgbClr val="ff0066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ff0066"/>
                </a:solidFill>
                <a:latin typeface="Arial"/>
              </a:rPr>
              <a:t> –18Х+24=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9480" y="2057400"/>
            <a:ext cx="61722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00"/>
                </a:solidFill>
                <a:latin typeface="Times New Roman"/>
              </a:rPr>
              <a:t>D</a:t>
            </a:r>
            <a:r>
              <a:rPr b="0" lang="ru-RU" sz="2400" spc="-1" strike="noStrike" baseline="-25000">
                <a:solidFill>
                  <a:srgbClr val="d6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d60000"/>
                </a:solidFill>
                <a:latin typeface="Times New Roman"/>
              </a:rPr>
              <a:t>=</a:t>
            </a:r>
            <a:r>
              <a:rPr b="0" lang="ru-RU" sz="2400" spc="-1" strike="noStrike">
                <a:solidFill>
                  <a:srgbClr val="140000"/>
                </a:solidFill>
                <a:latin typeface="Times New Roman"/>
              </a:rPr>
              <a:t>К</a:t>
            </a:r>
            <a:r>
              <a:rPr b="0" lang="ru-RU" sz="2400" spc="-1" strike="noStrike" baseline="30000">
                <a:solidFill>
                  <a:srgbClr val="14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140000"/>
                </a:solidFill>
                <a:latin typeface="Times New Roman"/>
              </a:rPr>
              <a:t>-ас=9</a:t>
            </a:r>
            <a:r>
              <a:rPr b="0" lang="ru-RU" sz="2400" spc="-1" strike="noStrike" baseline="30000">
                <a:solidFill>
                  <a:srgbClr val="14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140000"/>
                </a:solidFill>
                <a:latin typeface="Times New Roman"/>
              </a:rPr>
              <a:t>-3</a:t>
            </a:r>
            <a:r>
              <a:rPr b="0" lang="ru-RU" sz="2400" spc="-1" strike="noStrike">
                <a:solidFill>
                  <a:srgbClr val="140000"/>
                </a:solidFill>
                <a:latin typeface="Times New Roman"/>
                <a:ea typeface="Times New Roman"/>
              </a:rPr>
              <a:t>•</a:t>
            </a:r>
            <a:r>
              <a:rPr b="0" lang="ru-RU" sz="2400" spc="-1" strike="noStrike">
                <a:solidFill>
                  <a:srgbClr val="140000"/>
                </a:solidFill>
                <a:latin typeface="Times New Roman"/>
              </a:rPr>
              <a:t>24=72=9</a:t>
            </a:r>
            <a:r>
              <a:rPr b="0" lang="en-US" sz="2400" spc="-1" strike="noStrike">
                <a:solidFill>
                  <a:srgbClr val="140000"/>
                </a:solidFill>
                <a:latin typeface="Times New Roman"/>
              </a:rPr>
              <a:t>&gt;</a:t>
            </a:r>
            <a:r>
              <a:rPr b="0" lang="ru-RU" sz="2400" spc="-1" strike="noStrike">
                <a:solidFill>
                  <a:srgbClr val="14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590920" y="3048120"/>
                <a:ext cx="205092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к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rad>
                      </m:num>
                      <m:den>
                        <m:r>
                          <m:t xml:space="preserve">а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1609200" y="3124080"/>
            <a:ext cx="902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60000"/>
                </a:solidFill>
                <a:latin typeface="Times New Roman"/>
              </a:rPr>
              <a:t>Х</a:t>
            </a:r>
            <a:r>
              <a:rPr b="0" lang="ru-RU" sz="2400" spc="-1" strike="noStrike" baseline="-25000">
                <a:solidFill>
                  <a:srgbClr val="d60000"/>
                </a:solidFill>
                <a:latin typeface="Times New Roman"/>
              </a:rPr>
              <a:t>1</a:t>
            </a:r>
            <a:r>
              <a:rPr b="0" lang="ru-RU" sz="2400" spc="-1" strike="noStrike">
                <a:solidFill>
                  <a:srgbClr val="d6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3880" y="4267080"/>
            <a:ext cx="456264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60000"/>
                </a:solidFill>
                <a:latin typeface="Times New Roman"/>
              </a:rPr>
              <a:t>Х</a:t>
            </a:r>
            <a:r>
              <a:rPr b="0" lang="en-US" sz="2400" spc="-1" strike="noStrike" baseline="-25000">
                <a:solidFill>
                  <a:srgbClr val="d6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d6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514600" y="4114800"/>
                <a:ext cx="243828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−</m:t>
                        </m:r>
                        <m:r>
                          <m:t xml:space="preserve">К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rad>
                      </m:num>
                      <m:den>
                        <m:r>
                          <m:t xml:space="preserve">а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943600" y="1752480"/>
            <a:ext cx="2836800" cy="396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500"/>
                            </p:stCondLst>
                            <p:childTnLst>
                              <p:par>
                                <p:cTn id="257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cmd type="call" cmd="">
                                      <p:cBhvr>
                                        <p:cTn id="258" fill="hold">
                                          <p:stCondLst>
                                            <p:cond evt="begin"/>
                                          </p:stCondLst>
                                        </p:cTn>
                                      </p:cBhvr>
                                    </p:cmd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0" dur="3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6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1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1142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219320"/>
            <a:ext cx="8534520" cy="60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Times New Roman"/>
              </a:rPr>
              <a:t>Необходимость решать уравнения  не только первой, но и второй степени ёщё в древности была вызвана потребностью решать задачи, связанные с нахождением площадей земельных участков и с земляными работами военного характера, а также с развитием астрономии и самой математики. Квадратные уравнения умели решать около 2000 лет до нашей веры вавилоняне. Применяя современную алгебраическую запись, можно сказать, что в их  клинописных текстах  встречаются, кроме неполных, и такие, например, полные квадратные уравнения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Times New Roman"/>
              </a:rPr>
              <a:t> </a:t>
            </a:r>
            <a:r>
              <a:rPr b="0" lang="ru-RU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762120"/>
            <a:ext cx="7619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ff"/>
                </a:solidFill>
                <a:latin typeface="Times New Roman"/>
              </a:rPr>
              <a:t>Квадратные уравнения в Древнем</a:t>
            </a:r>
            <a:r>
              <a:rPr b="0" lang="en-US" sz="3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3000" spc="-1" strike="noStrike">
                <a:solidFill>
                  <a:srgbClr val="0000ff"/>
                </a:solidFill>
                <a:latin typeface="Times New Roman"/>
              </a:rPr>
              <a:t>Вавилон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828800" y="0"/>
            <a:ext cx="2514600" cy="85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Немного из истории</a:t>
            </a:r>
            <a:endParaRPr b="1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1142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380880"/>
            <a:ext cx="8153280" cy="59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80"/>
                </a:solidFill>
                <a:latin typeface="Times New Roman"/>
              </a:rPr>
              <a:t> </a:t>
            </a:r>
            <a:r>
              <a:rPr b="0" lang="ru-RU" sz="1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Правило решения этих уравнений, изложенное в вавилонских текстах, совпадает с современным, однако неизвестно, каким образом дошли вавилоняне до этого правила. Почти все найденные до сих пор клинописные тексты приводя только задачи с решениями, изложенными в виде рецептов, без указаний относительно того, каким образом они были найдены. Несмотря на высокий уровень развития алгебры в Вавилонии, в клинописных текстах отсутствуют понятие отрицательного числа и общие методы решения квадратных уравн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11426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534520" cy="5240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14400" y="304920"/>
            <a:ext cx="7086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Франсуа Ви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8589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Теорема Виет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9480" y="1700280"/>
            <a:ext cx="8066160" cy="3852360"/>
          </a:xfrm>
          <a:prstGeom prst="rect">
            <a:avLst/>
          </a:prstGeom>
          <a:solidFill>
            <a:srgbClr val="f3dd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Если приведенное квадратное уравнение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i="1" lang="en-US" sz="24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+px+q=0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имеет действительные корни, то их сумма равна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-p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, а произведение равно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, то есть</a:t>
            </a:r>
            <a:br>
              <a:rPr sz="2400"/>
            </a:b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 + x</a:t>
            </a:r>
            <a:r>
              <a:rPr b="0" i="1" lang="en-US" sz="24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 = -p ,</a:t>
            </a:r>
            <a:br>
              <a:rPr sz="2400"/>
            </a:b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 x</a:t>
            </a:r>
            <a:r>
              <a:rPr b="0" i="1" lang="en-US" sz="24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 = q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(сумма корней приведенного квадратного уравнения равна второму коэффициенту, взятому с противоположным знаком, а произведение корней равно свободному члену)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09480" y="1523880"/>
            <a:ext cx="4953240" cy="490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Х</a:t>
            </a:r>
            <a:r>
              <a:rPr b="1" lang="ru-RU" sz="2800" spc="-1" strike="noStrike" baseline="30000">
                <a:solidFill>
                  <a:srgbClr val="0000ff"/>
                </a:solidFill>
                <a:latin typeface="Times New Roman"/>
              </a:rPr>
              <a:t>2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14Х + 24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=b</a:t>
            </a:r>
            <a:r>
              <a:rPr b="1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ru-RU" sz="2800" spc="-1" strike="noStrike" baseline="30000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4ac = 196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</a:t>
            </a: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96 = 100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</a:rPr>
              <a:t>1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 2,  X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=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+ X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= 14,   X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•X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= 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6680" y="12708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Arial"/>
              </a:rPr>
              <a:t>Не верите? Проверьте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781680" y="1371600"/>
            <a:ext cx="1366920" cy="18018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733920" y="4952880"/>
            <a:ext cx="1589040" cy="123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3" presetSubtype="10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16" presetSubtype="4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14400" y="1523880"/>
            <a:ext cx="7620120" cy="44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Х</a:t>
            </a:r>
            <a:r>
              <a:rPr b="0" lang="en-US" sz="32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+ 3Х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10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Х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·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Х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10, значит корни имеют раз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                   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зна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Х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+ Х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3, значит больший по модул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                        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корень  - отрицатель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Подбором находим корни: Х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5, Х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 = 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228600"/>
            <a:ext cx="7619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Угадываем кор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553080" y="228600"/>
            <a:ext cx="2070360" cy="1174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3000"/>
                            </p:stCondLst>
                            <p:childTnLst>
                              <p:par>
                                <p:cTn id="84" nodeType="afterEffect" fill="hold" presetClass="entr" presetID="3" presetSubtype="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3276720" y="457200"/>
            <a:ext cx="21333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Игра "Домино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179280" y="2361960"/>
          <a:ext cx="4392720" cy="533520"/>
        </p:xfrm>
        <a:graphic>
          <a:graphicData uri="http://schemas.openxmlformats.org/drawingml/2006/table">
            <a:tbl>
              <a:tblPr/>
              <a:tblGrid>
                <a:gridCol w="2183040"/>
                <a:gridCol w="22096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– 7х + 12 = 0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4724280" y="2362320"/>
          <a:ext cx="3962520" cy="533160"/>
        </p:xfrm>
        <a:graphic>
          <a:graphicData uri="http://schemas.openxmlformats.org/drawingml/2006/table">
            <a:tbl>
              <a:tblPr/>
              <a:tblGrid>
                <a:gridCol w="1600200"/>
                <a:gridCol w="23623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 = 3, х = 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+ 18х + 32 = 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250920" y="3352680"/>
          <a:ext cx="4244760" cy="425520"/>
        </p:xfrm>
        <a:graphic>
          <a:graphicData uri="http://schemas.openxmlformats.org/drawingml/2006/table">
            <a:tbl>
              <a:tblPr/>
              <a:tblGrid>
                <a:gridCol w="2041560"/>
                <a:gridCol w="22032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 = - 16, х = -2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– 5х – 14 = 0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4724280" y="3352680"/>
          <a:ext cx="3975120" cy="457200"/>
        </p:xfrm>
        <a:graphic>
          <a:graphicData uri="http://schemas.openxmlformats.org/drawingml/2006/table">
            <a:tbl>
              <a:tblPr/>
              <a:tblGrid>
                <a:gridCol w="1731960"/>
                <a:gridCol w="2243160"/>
              </a:tblGrid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 = -2, х = 7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+ 5х + 6 = 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250920" y="4292640"/>
          <a:ext cx="4259160" cy="517320"/>
        </p:xfrm>
        <a:graphic>
          <a:graphicData uri="http://schemas.openxmlformats.org/drawingml/2006/table">
            <a:tbl>
              <a:tblPr/>
              <a:tblGrid>
                <a:gridCol w="1944720"/>
                <a:gridCol w="2314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 = -3, х = -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– 8х + 12 = 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4643280" y="4292640"/>
          <a:ext cx="4029120" cy="517320"/>
        </p:xfrm>
        <a:graphic>
          <a:graphicData uri="http://schemas.openxmlformats.org/drawingml/2006/table">
            <a:tbl>
              <a:tblPr/>
              <a:tblGrid>
                <a:gridCol w="1666800"/>
                <a:gridCol w="2362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 = 2, х = 6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х</a:t>
                      </a:r>
                      <a:r>
                        <a:rPr b="0" lang="ru-RU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+ 5х +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= 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457200" y="5486400"/>
          <a:ext cx="4114800" cy="533520"/>
        </p:xfrm>
        <a:graphic>
          <a:graphicData uri="http://schemas.openxmlformats.org/drawingml/2006/table">
            <a:tbl>
              <a:tblPr/>
              <a:tblGrid>
                <a:gridCol w="1905120"/>
                <a:gridCol w="22096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 = -4, х = -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</a:t>
                      </a:r>
                      <a:r>
                        <a:rPr b="0" lang="en-US" sz="22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– 5х – 6 = 0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4800600" y="5486400"/>
          <a:ext cx="3962520" cy="517680"/>
        </p:xfrm>
        <a:graphic>
          <a:graphicData uri="http://schemas.openxmlformats.org/drawingml/2006/table">
            <a:tbl>
              <a:tblPr/>
              <a:tblGrid>
                <a:gridCol w="1787400"/>
                <a:gridCol w="2175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х = -1, х = 6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1523880" y="1447920"/>
            <a:ext cx="504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Реши устно уравн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ff993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52280" y="152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Определение квадратного уравнения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6094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вадратным уравнением называется уравнение вида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x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+bx+c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, где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переменная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, b, c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некоторые числа, причем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0" y="858240"/>
            <a:ext cx="9144000" cy="4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ff"/>
                </a:solidFill>
                <a:uFillTx/>
                <a:latin typeface="Times New Roman"/>
              </a:rPr>
              <a:t>. </a:t>
            </a:r>
            <a:br>
              <a:rPr sz="11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3716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Times New Roman"/>
              </a:rPr>
              <a:t>Алгоритм решения квадратного уравн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04920" y="2057400"/>
            <a:ext cx="4681080" cy="473040"/>
            <a:chOff x="304920" y="2057400"/>
            <a:chExt cx="4681080" cy="473040"/>
          </a:xfrm>
        </p:grpSpPr>
        <p:sp>
          <p:nvSpPr>
            <p:cNvPr id="79" name=""/>
            <p:cNvSpPr/>
            <p:nvPr/>
          </p:nvSpPr>
          <p:spPr>
            <a:xfrm>
              <a:off x="304920" y="2057400"/>
              <a:ext cx="252360" cy="4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57280" y="2057400"/>
              <a:ext cx="4428720" cy="47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Найти число, называемое дискриминантом квадратного уравнения и равное 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ac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1447920" y="2971800"/>
            <a:ext cx="3391920" cy="457200"/>
            <a:chOff x="1447920" y="2971800"/>
            <a:chExt cx="3391920" cy="457200"/>
          </a:xfrm>
        </p:grpSpPr>
        <p:sp>
          <p:nvSpPr>
            <p:cNvPr id="82" name=""/>
            <p:cNvSpPr/>
            <p:nvPr/>
          </p:nvSpPr>
          <p:spPr>
            <a:xfrm>
              <a:off x="1447920" y="2971800"/>
              <a:ext cx="267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715760" y="2971800"/>
              <a:ext cx="3124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 если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&lt;0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то данное квадратное уравнение не имеет корней;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743200" y="3657600"/>
            <a:ext cx="4910040" cy="898560"/>
            <a:chOff x="2743200" y="3657600"/>
            <a:chExt cx="4910040" cy="898560"/>
          </a:xfrm>
        </p:grpSpPr>
        <p:sp>
          <p:nvSpPr>
            <p:cNvPr id="85" name=""/>
            <p:cNvSpPr/>
            <p:nvPr/>
          </p:nvSpPr>
          <p:spPr>
            <a:xfrm>
              <a:off x="2743200" y="3657600"/>
              <a:ext cx="24768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990880" y="3657600"/>
              <a:ext cx="466236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- если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=0</a:t>
              </a: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, то данное квадратное уравнение имеет единственный корень, который равен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1371600" y="5913360"/>
            <a:ext cx="4284720" cy="944640"/>
            <a:chOff x="1371600" y="5913360"/>
            <a:chExt cx="4284720" cy="944640"/>
          </a:xfrm>
        </p:grpSpPr>
        <p:sp>
          <p:nvSpPr>
            <p:cNvPr id="88" name=""/>
            <p:cNvSpPr/>
            <p:nvPr/>
          </p:nvSpPr>
          <p:spPr>
            <a:xfrm>
              <a:off x="1371600" y="5913360"/>
              <a:ext cx="18108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2)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552680" y="5913360"/>
              <a:ext cx="4103640" cy="94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                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800600" y="4191120"/>
            <a:ext cx="990720" cy="6760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133720" y="5791320"/>
            <a:ext cx="1245960" cy="514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4343400" y="5791320"/>
            <a:ext cx="1143000" cy="514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828800" y="4952880"/>
            <a:ext cx="58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если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gt;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то данное квадратное уравнение име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80720" y="5334120"/>
            <a:ext cx="293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два корня,которые рав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1:16:12Z</dcterms:created>
  <dc:creator>User</dc:creator>
  <dc:description/>
  <dc:language>en-US</dc:language>
  <cp:lastModifiedBy>Гость</cp:lastModifiedBy>
  <dcterms:modified xsi:type="dcterms:W3CDTF">2007-04-14T04:42:52Z</dcterms:modified>
  <cp:revision>4</cp:revision>
  <dc:subject/>
  <dc:title>Алгебра 8 класс.</dc:title>
</cp:coreProperties>
</file>