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CE2-6D1F-479C-AE4B-DA487EEC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686-2123-4F32-BAD7-53261AE3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3B4-D865-441D-AE43-CB03617B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F9C-FD08-4B02-85DC-03F7EA71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4A98-4CDD-4670-9216-42E31989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10EB-8A5A-4B21-A9C7-73EBC4B9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C4FE-9D64-42FC-A779-3DED8DF8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EE0F-0FAB-4097-93AD-CC26A525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FD28-C12E-4CE8-B6F4-916B4FA3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CCB3-09BC-4ABE-AD2F-6C73095E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1046-2F93-48BD-8CA6-D470EFBE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B0B-2CAB-404B-9AE5-1DF7ED41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579A-BF03-4E9D-B5FB-EC46EAE5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79F1-55C5-416E-BEDB-B8B871FB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4B1C-CF84-4C3B-AB03-BF7B4E07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7428-2C69-45B5-AEE9-C0F6326A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547D-2035-48A8-9AC2-715DF290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C9C-DB27-474E-8EBA-85A87436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E64-45D1-4B59-BB21-92170F7D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E8D-7CDD-4D03-A1D8-BB580151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0EF-DA3B-4E70-AF7D-1338AA69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8D6-B1BF-49B6-873D-DAD45FB0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E64-23E7-4469-9234-997C371B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C13-F435-412A-BD5C-37B8C97D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2559-E264-4961-8A1F-38135E46415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5D7D-C6D7-4AE3-AB30-E27E79B98EB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омплексные числ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2920" y="429228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одуль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2276640"/>
            <a:ext cx="2087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-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242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256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ПРЯЖ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349360"/>
            <a:ext cx="208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3284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Z) =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046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омплексно сопряженные числа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236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86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  =  A + B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003640" y="4724280"/>
                <a:ext cx="18860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05092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гонометрическая форма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19280" cy="4133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284720" y="2060640"/>
            <a:ext cx="37432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=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 комплекс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=r 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 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0 аргумент не опреде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.к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Z  =r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940360" y="2492280"/>
                <a:ext cx="1231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547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2349360"/>
            <a:ext cx="720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=                cos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i              sin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771640" y="981000"/>
                <a:ext cx="1211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276720" y="2492280"/>
                <a:ext cx="1211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26920" y="3573360"/>
                <a:ext cx="2629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816440" y="3645000"/>
                <a:ext cx="2570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780000" y="4941720"/>
                <a:ext cx="1655640" cy="11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жение и умнож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5258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гебраическая фор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1773360"/>
            <a:ext cx="3525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еометрическ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2565360"/>
            <a:ext cx="295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у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+ (C+iD)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C)+(B+D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357720"/>
            <a:ext cx="4679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·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cos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+isin 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005360"/>
            <a:ext cx="309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· (C+iD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-BD)+(AD+BC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05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то получ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²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² (cos2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2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³= Z²·Z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·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= r³ (cos3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3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908000" y="4419720"/>
                <a:ext cx="55436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835280" y="400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Формула Муав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57340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любог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≠0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любого натурального числа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137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исл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ыва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орнем степени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n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обозначается      ), ес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(*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данного определения вытекает, что каждое решение уравн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вляется корнем степен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643280" y="620640"/>
                <a:ext cx="503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ω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64000" y="141300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372360" y="54936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258920" y="2708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2708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3213000"/>
                <a:ext cx="532944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ρ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и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nϕ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m>
                          <m:mr>
                            <m:e/>
                            <m:e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ad>
                                <m:deg>
                                  <m:r>
                                    <m:t xml:space="preserve">n</m:t>
                                  </m:r>
                                </m:deg>
                                <m:e>
                                  <m:r>
                                    <m:t xml:space="preserve">ρ</m:t>
                                  </m:r>
                                  <m:m>
                                    <m:mr>
                                      <m:e/>
                                    </m:mr>
                                  </m:m>
                                </m:e>
                              </m:rad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,</m:t>
                              </m:r>
                              <m:m>
                                <m:mr>
                                  <m:e>
                                    <m:r>
                                      <m:t xml:space="preserve">ϕ</m:t>
                                    </m:r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t xml:space="preserve">ψ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835280" y="5013360"/>
                <a:ext cx="6624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ρ</m:t>
                        </m:r>
                      </m:e>
                    </m:ra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,</m:t>
                    </m:r>
                    <m:m>
                      <m:mr>
                        <m:e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Z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835280" y="4869000"/>
            <a:ext cx="676908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6165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пределяет все корни двучленного уравнения степе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332000" y="1916280"/>
                <a:ext cx="6913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</m:sub>
                              </m:sSub>
                            </m:e>
                          </m:mr>
                        </m: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задан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копмплекс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116000" y="407664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ждое алгебраическое уравнение  степен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меет  в множестве комплексных чисел ровн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314172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Теорема Гаусс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каждое алгебраическое уравнение имеет в множестве комплексных чисел по крайне мере один 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692280"/>
            <a:ext cx="377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ть уравн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08000" y="1268280"/>
                <a:ext cx="6120000" cy="516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гда</m:t>
                        </m:r>
                        <m:m>
                          <m:mr>
                            <m:e/>
                            <m:e>
                              <m:r>
                                <m:t xml:space="preserve">3</m:t>
                              </m:r>
                              <m:r>
                                <m:t xml:space="preserve">ϕ</m:t>
                              </m:r>
                              <m:r>
                                <m:t xml:space="preserve">=</m:t>
                              </m:r>
                            </m:e>
                          </m:mr>
                        </m:m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e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сложения и умно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мести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чета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ы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242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0364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4941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35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3500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суммы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34192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БЯЗАТЕЛЬНЫЙ МИНИМУМ СОДЕРЖ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СНОВНЫХ ОБРАЗОВАТЕЛЬНЫХ ПРОГРАМ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6048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ЧИСЛОВЫЕ И БУКВЕННЫЕ ВЫРАЖЕНИЯ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Комплексные числа. Геометрическая интерпретация комплексных чисел. Действительная и мнимая часть, модуль и аргумент комплексного числа. Алгебраическая и тригонометрическая формы записи комплексных чисел. Арифметические действия над комплексными числами в разных формах записи. Комплексно сопряженные числа.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Возведение в натуральную степень (формула Муавра). Основная теорема алгебры.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читание и дел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177336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ычитание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ерация, обратная сл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2637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3068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раз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3860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операция, обратная умн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8000" y="43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4941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делив обе части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771640" y="5651640"/>
                <a:ext cx="28083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m>
                      <m:m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разности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9202" t="1182" r="43953" b="62978"/>
          <a:stretch/>
        </p:blipFill>
        <p:spPr>
          <a:xfrm>
            <a:off x="1187280" y="1773360"/>
            <a:ext cx="41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15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йти разность и частное комплексных чисе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40000" y="2349360"/>
                <a:ext cx="2736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611280" y="278136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79640" y="3357720"/>
                <a:ext cx="59752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тератур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798660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имов Ш.А., Колягин Ю.М., Сидоров Ю.В. и др/ Алгебра и начала анализа 10-11кл, Просвещение 2005г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магоров А.Н., Абрамов, Дудицин/ Алгебра и начала анализа 10-11кл, Просвещение 2005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ольскийС.М., Потапов Н.К, и др. Алгебра и начала анализа 10-11кл, Просвещение 2005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нятие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13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+А=В -   недостаточно положитель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 + В=0 (А≠0) – разрешимы 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ожестве рац.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2 или 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5  - корни - иррациональны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492280"/>
            <a:ext cx="2376360" cy="503280"/>
          </a:xfrm>
          <a:prstGeom prst="cloudCallout">
            <a:avLst>
              <a:gd name="adj1" fmla="val -32097"/>
              <a:gd name="adj2" fmla="val 4684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+5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476360" y="1125360"/>
            <a:ext cx="6191280" cy="4319640"/>
            <a:chOff x="1476360" y="1125360"/>
            <a:chExt cx="6191280" cy="4319640"/>
          </a:xfrm>
        </p:grpSpPr>
        <p:sp>
          <p:nvSpPr>
            <p:cNvPr id="159" name=""/>
            <p:cNvSpPr/>
            <p:nvPr/>
          </p:nvSpPr>
          <p:spPr>
            <a:xfrm>
              <a:off x="4716360" y="2060640"/>
              <a:ext cx="223200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8360" y="2060640"/>
              <a:ext cx="223236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76360" y="1125360"/>
              <a:ext cx="6191280" cy="431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443700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квадратных урав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+ В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Х+ С 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&lt;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действительных корней 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547640" y="3716280"/>
            <a:ext cx="5616720" cy="2879640"/>
            <a:chOff x="1547640" y="3716280"/>
            <a:chExt cx="5616720" cy="2879640"/>
          </a:xfrm>
        </p:grpSpPr>
        <p:sp>
          <p:nvSpPr>
            <p:cNvPr id="166" name=""/>
            <p:cNvSpPr/>
            <p:nvPr/>
          </p:nvSpPr>
          <p:spPr>
            <a:xfrm>
              <a:off x="3419640" y="43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3640" y="43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7640" y="37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68520" y="59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6000" y="45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516720" y="40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258920" y="1916280"/>
            <a:ext cx="5616720" cy="2879640"/>
            <a:chOff x="1258920" y="1916280"/>
            <a:chExt cx="5616720" cy="2879640"/>
          </a:xfrm>
        </p:grpSpPr>
        <p:sp>
          <p:nvSpPr>
            <p:cNvPr id="173" name=""/>
            <p:cNvSpPr/>
            <p:nvPr/>
          </p:nvSpPr>
          <p:spPr>
            <a:xfrm>
              <a:off x="3130920" y="25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4920" y="25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58920" y="19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79800" y="41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7280" y="27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228000" y="22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5280" y="1125360"/>
            <a:ext cx="8280360" cy="4680000"/>
          </a:xfrm>
          <a:prstGeom prst="ellipse">
            <a:avLst/>
          </a:prstGeom>
          <a:noFill/>
          <a:ln w="7632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5013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омплекс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ид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-корень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ное число, такое , ч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4437000"/>
            <a:ext cx="2087280" cy="936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5445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ПИСЬ КОМПЛЕКСНОГО ЧИСЛА В ОБЩЕ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и В – действительные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который симво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акой, что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– действительн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– мним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– мнимая еди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еометрическая интерпретация комплексного чис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0" b="12201"/>
          <a:stretch/>
        </p:blipFill>
        <p:spPr>
          <a:xfrm>
            <a:off x="1042920" y="2133720"/>
            <a:ext cx="3121200" cy="3313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4196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3:16:18Z</dcterms:created>
  <dc:creator>User</dc:creator>
  <dc:description/>
  <dc:language>en-US</dc:language>
  <cp:lastModifiedBy>User</cp:lastModifiedBy>
  <dcterms:modified xsi:type="dcterms:W3CDTF">2006-12-25T12:07:04Z</dcterms:modified>
  <cp:revision>17</cp:revision>
  <dc:subject/>
  <dc:title>Комплексные числа</dc:title>
</cp:coreProperties>
</file>