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CB5E-74D5-4BD9-B299-0BAC9CF9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9417-C4EB-4674-AC1E-08B5E6A6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E32D-038F-4EAE-8FC2-3C3AE29B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20C0-52BA-4647-A147-1D2E01843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AE46-032A-43A6-B556-120CE932D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9A46-6FAE-4639-AD65-A51E573B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4B1F-D1DC-4A6E-84BA-06C01DB5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8F0C-A6EA-438E-86A0-82FB59D9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F287-3F48-4A9D-A815-613FD2FB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FB9F-A740-4F69-A79D-4A936689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EADF-FE68-48AF-9C76-B7852073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3717-8103-44A1-942F-F5D6A04B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801C-6632-45DB-BE76-7310FF8E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3197-155B-445D-A738-2DAD3BC1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A56E-3C05-4E05-8270-2E9127B7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0023-9614-4269-8186-2B3544D6B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CD0E-C01F-4B35-AE7B-E0A38A28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8253-DD03-4800-A00B-F5FED48F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0F51-A167-421C-8B98-C443CF75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E737-D497-47F1-AA5F-035342CD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224F-4E6B-40E5-A9DC-9381CF79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3184-2E94-460E-ACE8-FED9465B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328A-2882-4BF9-BC85-8E7FA872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B4A2-2110-4EEE-8604-D079ADC7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9C45-7CF1-470A-8780-BB39D5ED80D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5C32-BE59-46A1-871E-9AAFEF1C84D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Комплексные числа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02920" y="429228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Модуль комплексного 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1258920" y="2276640"/>
            <a:ext cx="2087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Z=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- 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35280" y="242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64000" y="2565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ОПРЯЖ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2349360"/>
            <a:ext cx="2087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Z=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+ 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2421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0" y="328464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Z) =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9236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42920" y="40464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Комплексно сопряженные числа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92360" y="321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0920" y="4869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Z  =  A + B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5003640" y="4724280"/>
                <a:ext cx="18860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205092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5928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5600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игонометрическая форма комплексного 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3419280" cy="41338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284720" y="2060640"/>
            <a:ext cx="37432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 =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ргумент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ргумент комплексного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=r co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 si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r (co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=0 аргумент не опреде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56000" y="21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43280" y="21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.к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Z  =r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940360" y="2492280"/>
                <a:ext cx="12319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1547640" y="105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79640" y="105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2349360"/>
            <a:ext cx="7200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Z=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+ 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=                cos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i              sin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771640" y="981000"/>
                <a:ext cx="12114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276720" y="2492280"/>
                <a:ext cx="12110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826920" y="3573360"/>
                <a:ext cx="262908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816440" y="3645000"/>
                <a:ext cx="257004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В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780000" y="4941720"/>
                <a:ext cx="1655640" cy="119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ложение и умножение комплексных 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5258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лгебраическая форм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4859280" y="1773360"/>
            <a:ext cx="3525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Геометрическая 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2565360"/>
            <a:ext cx="295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Су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+iB) + (C+iD)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+C)+(B+D)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80000" y="3357720"/>
            <a:ext cx="4679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оизведение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r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o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r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o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·Z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r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cos(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+isin (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005360"/>
            <a:ext cx="3097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оизве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+iB) · (C+iD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-BD)+(AD+BC)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99640" y="620640"/>
            <a:ext cx="7054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Z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то получи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²=[r (cos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²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² (cos2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2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³= Z²·Z=[r (cos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²·r (cos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= r³ (cos3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3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908000" y="4419720"/>
                <a:ext cx="554364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n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nϕ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1835280" y="400536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Формула Муав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573408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ля любого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= r (cos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≠0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и любого натурального числа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88640"/>
            <a:ext cx="8137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исло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зывается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корнем степени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n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числа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(обозначается      ), есл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(*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данного определения вытекает, что каждое решение уравн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является корнем степен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числа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4643280" y="620640"/>
                <a:ext cx="503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ω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364000" y="1413000"/>
                <a:ext cx="1293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372360" y="549360"/>
                <a:ext cx="1293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1258920" y="27082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= r (cos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27082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s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ψ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ψ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763640" y="3213000"/>
                <a:ext cx="5329440" cy="16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n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nϕ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ρ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и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nϕ</m:t>
                        </m:r>
                        <m:r>
                          <m:t xml:space="preserve">=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или</m:t>
                        </m:r>
                        <m:m>
                          <m:mr>
                            <m:e/>
                            <m:e>
                              <m:r>
                                <m:t xml:space="preserve">r</m:t>
                              </m:r>
                              <m:r>
                                <m:t xml:space="preserve">=</m:t>
                              </m:r>
                              <m:rad>
                                <m:deg>
                                  <m:r>
                                    <m:t xml:space="preserve">n</m:t>
                                  </m:r>
                                </m:deg>
                                <m:e>
                                  <m:r>
                                    <m:t xml:space="preserve">ρ</m:t>
                                  </m:r>
                                  <m:m>
                                    <m:mr>
                                      <m:e/>
                                    </m:mr>
                                  </m:m>
                                </m:e>
                              </m:rad>
                              <m:m>
                                <m:mr>
                                  <m:e/>
                                </m:mr>
                              </m:m>
                              <m:r>
                                <m:t xml:space="preserve">,</m:t>
                              </m:r>
                              <m:m>
                                <m:mr>
                                  <m:e>
                                    <m:r>
                                      <m:t xml:space="preserve">ϕ</m:t>
                                    </m:r>
                                    <m:r>
                                      <m:t xml:space="preserve">=</m:t>
                                    </m:r>
                                    <m:f>
                                      <m:num>
                                        <m:r>
                                          <m:t xml:space="preserve">ψ</m:t>
                                        </m:r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</m:e>
                                </m:mr>
                              </m:m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,</m:t>
                              </m:r>
                              <m:m>
                                <m:mr>
                                  <m:e/>
                                </m:mr>
                              </m:m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835280" y="5013360"/>
                <a:ext cx="66243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ρ</m:t>
                        </m:r>
                      </m:e>
                    </m:rad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ψ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ψ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,</m:t>
                    </m:r>
                    <m:m>
                      <m:mr>
                        <m:e>
                          <m:r>
                            <m:t xml:space="preserve">k</m:t>
                          </m:r>
                          <m:r>
                            <m:t xml:space="preserve">∈</m:t>
                          </m:r>
                          <m:r>
                            <m:t xml:space="preserve">Z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1835280" y="4869000"/>
            <a:ext cx="6769080" cy="1152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43280" y="616572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Вторая формула Муав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Вторая формула Муавр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определяет все корни двучленного уравнения степен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332000" y="1916280"/>
                <a:ext cx="6913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m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,</m:t>
                                  </m:r>
                                </m:sub>
                              </m:sSub>
                            </m:e>
                          </m:mr>
                        </m: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заданные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копмплексные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числ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1116000" y="4076640"/>
            <a:ext cx="75596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ждое алгебраическое уравнение  степени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имеет  в множестве комплексных чисел ровно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-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р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42920" y="3141720"/>
            <a:ext cx="75596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Теорема Гаусс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каждое алгебраическое уравнение имеет в множестве комплексных чисел по крайне мере один кор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692280"/>
            <a:ext cx="377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ешить уравнени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908000" y="1268280"/>
                <a:ext cx="6120000" cy="516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3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тогда</m:t>
                        </m:r>
                        <m:m>
                          <m:mr>
                            <m:e/>
                            <m:e>
                              <m:r>
                                <m:t xml:space="preserve">3</m:t>
                              </m:r>
                              <m:r>
                                <m:t xml:space="preserve">ϕ</m:t>
                              </m:r>
                              <m:r>
                                <m:t xml:space="preserve">=</m:t>
                              </m:r>
                            </m:e>
                          </m:mr>
                        </m:m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</m:e>
                      <m:e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,1,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t xml:space="preserve">i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войства сложения и умнож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ереместительное свойств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четательное свойств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спределительные свойств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826920" y="242100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03640" y="249228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·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·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360" y="494172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3500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+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(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88000" y="350028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·(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еометрическое изображение суммы комплексных 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341928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ОБЯЗАТЕЛЬНЫЙ МИНИМУМ СОДЕРЖАНИ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ОСНОВНЫХ ОБРАЗОВАТЕЛЬНЫХ ПРОГРАМ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6048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ЧИСЛОВЫЕ И БУКВЕННЫЕ ВЫРАЖЕНИЯ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Комплексные числа. Геометрическая интерпретация комплексных чисел. Действительная и мнимая часть, модуль и аргумент комплексного числа. Алгебраическая и тригонометрическая формы записи комплексных чисел. Арифметические действия над комплексными числами в разных формах записи. Комплексно сопряженные числа.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Возведение в натуральную степень (формула Муавра). Основная теорема алгебры.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ычитание и деление комплексных 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1042920" y="22766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71640" y="1773360"/>
            <a:ext cx="69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Вычитание 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ерация, обратная сложен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71640" y="263700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+(-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Z</a:t>
            </a: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+(-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Z</a:t>
            </a: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42920" y="30686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–раз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71640" y="386064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Делени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операция, обратная умножен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08000" y="4365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·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494172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делив обе части н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луч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771640" y="5651640"/>
                <a:ext cx="280836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m>
                      <m:m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≠</m:t>
                          </m:r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еометрическое изображение разности комплексных 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rcRect l="9202" t="1182" r="43953" b="62978"/>
          <a:stretch/>
        </p:blipFill>
        <p:spPr>
          <a:xfrm>
            <a:off x="1187280" y="1773360"/>
            <a:ext cx="410544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имер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41528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йти разность и частное комплексных чисе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340000" y="2349360"/>
                <a:ext cx="273672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i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611280" y="2781360"/>
            <a:ext cx="784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979640" y="3357720"/>
                <a:ext cx="597528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Литература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4920" y="1828440"/>
            <a:ext cx="798660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лимов Ш.А., Колягин Ю.М., Сидоров Ю.В. и др/ Алгебра и начала анализа 10-11кл, Просвещение 2005г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лмагоров А.Н., Абрамов, Дудицин/ Алгебра и начала анализа 10-11кл, Просвещение 2005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икольскийС.М., Потапов Н.К, и др. Алгебра и начала анализа 10-11кл, Просвещение 2005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онятие комплексного чис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828800"/>
            <a:ext cx="813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+А=В -   недостаточно положительных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 + В=0 (А≠0) – разрешимы н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ножестве рац.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2 или 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5  - корни - иррациональны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3780000" y="2492280"/>
            <a:ext cx="2376360" cy="503280"/>
          </a:xfrm>
          <a:prstGeom prst="cloudCallout">
            <a:avLst>
              <a:gd name="adj1" fmla="val -32097"/>
              <a:gd name="adj2" fmla="val 4684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+5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1476360" y="1125360"/>
            <a:ext cx="6191280" cy="4319640"/>
            <a:chOff x="1476360" y="1125360"/>
            <a:chExt cx="6191280" cy="4319640"/>
          </a:xfrm>
        </p:grpSpPr>
        <p:sp>
          <p:nvSpPr>
            <p:cNvPr id="159" name=""/>
            <p:cNvSpPr/>
            <p:nvPr/>
          </p:nvSpPr>
          <p:spPr>
            <a:xfrm>
              <a:off x="4716360" y="2060640"/>
              <a:ext cx="2232000" cy="21603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Иррациональ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68360" y="2060640"/>
              <a:ext cx="2232360" cy="21603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Рациональ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76360" y="1125360"/>
              <a:ext cx="6191280" cy="4319640"/>
            </a:xfrm>
            <a:prstGeom prst="ellipse">
              <a:avLst/>
            </a:prstGeom>
            <a:noFill/>
            <a:ln w="572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16360" y="4437000"/>
              <a:ext cx="36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Действительные 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квадратных уравнен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Х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+ В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Х+ С =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При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&lt;0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действительных корней н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547640" y="3716280"/>
            <a:ext cx="5616720" cy="2879640"/>
            <a:chOff x="1547640" y="3716280"/>
            <a:chExt cx="5616720" cy="2879640"/>
          </a:xfrm>
        </p:grpSpPr>
        <p:sp>
          <p:nvSpPr>
            <p:cNvPr id="166" name=""/>
            <p:cNvSpPr/>
            <p:nvPr/>
          </p:nvSpPr>
          <p:spPr>
            <a:xfrm>
              <a:off x="3419640" y="4365720"/>
              <a:ext cx="1584000" cy="14396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Иррациона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63640" y="4365720"/>
              <a:ext cx="1428840" cy="14396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Рациона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47640" y="3716280"/>
              <a:ext cx="3961080" cy="2879640"/>
            </a:xfrm>
            <a:prstGeom prst="ellipse">
              <a:avLst/>
            </a:prstGeom>
            <a:noFill/>
            <a:ln w="572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68520" y="5924520"/>
              <a:ext cx="230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Действительные 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96000" y="4508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6516720" y="4076640"/>
              <a:ext cx="647640" cy="151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?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258920" y="1916280"/>
            <a:ext cx="5616720" cy="2879640"/>
            <a:chOff x="1258920" y="1916280"/>
            <a:chExt cx="5616720" cy="2879640"/>
          </a:xfrm>
        </p:grpSpPr>
        <p:sp>
          <p:nvSpPr>
            <p:cNvPr id="173" name=""/>
            <p:cNvSpPr/>
            <p:nvPr/>
          </p:nvSpPr>
          <p:spPr>
            <a:xfrm>
              <a:off x="3130920" y="2565720"/>
              <a:ext cx="1584000" cy="14396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Иррациона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74920" y="2565720"/>
              <a:ext cx="1428840" cy="14396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Рациона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58920" y="1916280"/>
              <a:ext cx="3961080" cy="2879640"/>
            </a:xfrm>
            <a:prstGeom prst="ellipse">
              <a:avLst/>
            </a:prstGeom>
            <a:noFill/>
            <a:ln w="572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79800" y="4124520"/>
              <a:ext cx="230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Действительные 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7280" y="2708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6228000" y="2276640"/>
              <a:ext cx="647640" cy="151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?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95280" y="1125360"/>
            <a:ext cx="8280360" cy="4680000"/>
          </a:xfrm>
          <a:prstGeom prst="ellipse">
            <a:avLst/>
          </a:prstGeom>
          <a:noFill/>
          <a:ln w="7632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32000" y="50133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Комплексны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ид комплексного чис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-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-корень уравн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плексное число, такое , чт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=-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4140360" y="4437000"/>
            <a:ext cx="2087280" cy="936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+ 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360" y="544500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ЗАПИСЬ КОМПЛЕКСНОГО ЧИСЛА В ОБЩЕМ ВИ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и В – действительные 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который символ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такой, что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=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 – действительная ча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 – мнимая ча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– мнимая единиц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199280" cy="1600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А + В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Геометрическая интерпретация комплексного числ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0" t="0" r="0" b="12201"/>
          <a:stretch/>
        </p:blipFill>
        <p:spPr>
          <a:xfrm>
            <a:off x="1042920" y="2133720"/>
            <a:ext cx="3121200" cy="3313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34196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8T13:16:18Z</dcterms:created>
  <dc:creator>User</dc:creator>
  <dc:description/>
  <dc:language>en-US</dc:language>
  <cp:lastModifiedBy>User</cp:lastModifiedBy>
  <dcterms:modified xsi:type="dcterms:W3CDTF">2006-12-25T12:07:04Z</dcterms:modified>
  <cp:revision>17</cp:revision>
  <dc:subject/>
  <dc:title>Комплексные числа</dc:title>
</cp:coreProperties>
</file>