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BAC-715C-4D92-94B8-3504798FA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C33D-AE3A-41B6-ABA3-979C6F15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8389-E7B4-4986-8B29-8C29D660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E318-BE61-4897-BC7E-AA0EA135B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7FF03-9DD2-49C7-9BAE-487A50A76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D4BC-F651-4DDE-AC90-12439287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0261C-0C0A-4B20-BD2A-BE228A8F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9E4C-B49D-4883-BA91-737E6292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51F2-0F46-49C7-B1E9-32705C65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7D49-EE46-472E-B674-A9BBC44C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7D0A-1FEB-4E36-9988-0AEB68CF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C74A-06F3-4633-9F59-67D5CC68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32BFB-12D7-437F-A7E8-2835CA6A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0C3F-D404-4830-B5DC-77AF5CDB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7607-3E0F-463D-8DA8-C045762CF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7168-47EE-4593-AD56-CE5BAB1C5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25A0-C11C-4B72-A294-E20684F9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270D-2CC1-4616-AEFB-544CFE254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663-F788-4333-B025-363838EA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D49-8F87-4D27-B88A-A38BA346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E09-E7B8-47C2-BADD-76CCAF9E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1221-2500-4D03-8F12-BD9BFA55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50A2-01F5-4540-B254-A33D2D90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27A-CBF7-47BC-8686-2DF0D4B8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4A9D-0756-4D3F-B49C-321C3E279F4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76E5-19DA-47BF-8E1D-CDFB636B2CA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мплексные чис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429228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дуль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2276640"/>
            <a:ext cx="208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-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56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ПРЯ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349360"/>
            <a:ext cx="20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28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Z) 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мплексно сопряженные числа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86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  =  A + 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03640" y="4724280"/>
                <a:ext cx="1886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05092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гонометрическая форма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19280" cy="413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84720" y="2060640"/>
            <a:ext cx="374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=r 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 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0 аргумент н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Z  =r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40360" y="2492280"/>
                <a:ext cx="123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547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349360"/>
            <a:ext cx="72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=                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              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771640" y="981000"/>
                <a:ext cx="1211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492280"/>
                <a:ext cx="121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26920" y="3573360"/>
                <a:ext cx="2629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16440" y="3645000"/>
                <a:ext cx="2570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80000" y="4941720"/>
                <a:ext cx="165564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жение и умнож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258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гебраическая фор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773360"/>
            <a:ext cx="352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метриче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565360"/>
            <a:ext cx="295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+ (C+iD)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C)+(B+D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357720"/>
            <a:ext cx="4679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·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os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+isin 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005360"/>
            <a:ext cx="309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· (C+iD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-BD)+(AD+BC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05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о получ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²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² (cos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³= Z²·Z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·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= r³ (cos3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3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08000" y="4419720"/>
                <a:ext cx="5543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835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ула Му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любог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≠0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любого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орнем степени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n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обозначается      ), ес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(*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данного определения вытекает, что каждое решение урав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вляется корнем степе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643280" y="620640"/>
                <a:ext cx="50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ω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64000" y="141300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54936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58920" y="270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0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3213000"/>
                <a:ext cx="532944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ρ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и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nϕ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m>
                          <m:mr>
                            <m:e/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ρ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</m:e>
                              </m:rad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,</m:t>
                              </m:r>
                              <m:m>
                                <m:mr>
                                  <m:e>
                                    <m:r>
                                      <m:t xml:space="preserve">ϕ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ψ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5013360"/>
                <a:ext cx="66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35280" y="4869000"/>
            <a:ext cx="67690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ределяет все корни двучленного уравнения степе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32000" y="1916280"/>
                <a:ext cx="691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</m:e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задан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копмплекс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116000" y="407664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е алгебраическое уравнение  степен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меет  в множестве комплексных чисел ров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314172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Теорема Гаус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каждое алгебраическое уравнение имеет в множестве комплексных чисел по крайне мере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77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1268280"/>
                <a:ext cx="6120000" cy="51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m>
                          <m:mr>
                            <m:e/>
                            <m:e>
                              <m:r>
                                <m:t xml:space="preserve">3</m:t>
                              </m:r>
                              <m:r>
                                <m:t xml:space="preserve">ϕ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сложения и умн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мести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ета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ы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4941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500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суммы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419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ЯЗАТЕЛЬНЫЙ МИНИМУМ СОДЕРЖ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НОВНЫХ ОБРАЗОВАТЕЛЬНЫХ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ЧИСЛОВЫЕ И БУКВЕННЫЕ ВЫРАЖ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Комплексные числа. Геометрическая интерпретация комплексных чисел. Действительная и мнимая часть, модуль и аргумент комплексного числа. Алгебраическая и тригонометрическая формы записи комплексных чисел. Арифметические действия над комплексными числами в разных формах записи. Комплексно сопряженные числа.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Возведение в натуральную степень (формула Муавра). Основная теорема алгебры.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итание и дел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773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ычитание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ерация, обратная с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6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306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8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ерация, обратная умн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в обе ча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71640" y="5651640"/>
                <a:ext cx="2808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разности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9202" t="1182" r="43953" b="62978"/>
          <a:stretch/>
        </p:blipFill>
        <p:spPr>
          <a:xfrm>
            <a:off x="1187280" y="1773360"/>
            <a:ext cx="41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15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ти разность и частное комплексных чис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234936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278136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79640" y="3357720"/>
                <a:ext cx="597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имов Ш.А., Колягин Ю.М., Сидоров Ю.В. и др/ Алгебра и начала анализа 10-11кл, Просвещение 2005г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агоров А.Н., Абрамов, Дудицин/ Алгебра и начала анализа 10-11кл, Просвещение 2005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льскийС.М., Потапов Н.К, и др. Алгебра и начала анализа 10-11кл, Просвещение 2005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нятие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А=В -   недостаточно положи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+ В=0 (А≠0) – разрешимы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 рац.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 или 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5  - корни - иррациона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492280"/>
            <a:ext cx="2376360" cy="503280"/>
          </a:xfrm>
          <a:prstGeom prst="cloudCallout">
            <a:avLst>
              <a:gd name="adj1" fmla="val -32097"/>
              <a:gd name="adj2" fmla="val 468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+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76360" y="1125360"/>
            <a:ext cx="6191280" cy="4319640"/>
            <a:chOff x="1476360" y="1125360"/>
            <a:chExt cx="6191280" cy="4319640"/>
          </a:xfrm>
        </p:grpSpPr>
        <p:sp>
          <p:nvSpPr>
            <p:cNvPr id="159" name=""/>
            <p:cNvSpPr/>
            <p:nvPr/>
          </p:nvSpPr>
          <p:spPr>
            <a:xfrm>
              <a:off x="4716360" y="2060640"/>
              <a:ext cx="223200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2060640"/>
              <a:ext cx="223236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6191280" cy="431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443700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квадратных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Х+ С 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&lt;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йствительных корней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3716280"/>
            <a:ext cx="5616720" cy="2879640"/>
            <a:chOff x="1547640" y="3716280"/>
            <a:chExt cx="5616720" cy="2879640"/>
          </a:xfrm>
        </p:grpSpPr>
        <p:sp>
          <p:nvSpPr>
            <p:cNvPr id="166" name=""/>
            <p:cNvSpPr/>
            <p:nvPr/>
          </p:nvSpPr>
          <p:spPr>
            <a:xfrm>
              <a:off x="3419640" y="43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3640" y="43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37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68520" y="59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45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516720" y="40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58920" y="1916280"/>
            <a:ext cx="5616720" cy="2879640"/>
            <a:chOff x="1258920" y="1916280"/>
            <a:chExt cx="5616720" cy="2879640"/>
          </a:xfrm>
        </p:grpSpPr>
        <p:sp>
          <p:nvSpPr>
            <p:cNvPr id="173" name=""/>
            <p:cNvSpPr/>
            <p:nvPr/>
          </p:nvSpPr>
          <p:spPr>
            <a:xfrm>
              <a:off x="3130920" y="25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4920" y="25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920" y="19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9800" y="41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7280" y="27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228000" y="22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1125360"/>
            <a:ext cx="8280360" cy="4680000"/>
          </a:xfrm>
          <a:prstGeom prst="ellipse">
            <a:avLst/>
          </a:prstGeom>
          <a:noFill/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01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плекс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ид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-корень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ное число, такое ,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437000"/>
            <a:ext cx="2087280" cy="93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ПИСЬ КОМПЛЕКСНОГО ЧИСЛА В ОБЩЕ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и В – действитель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й симво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акой, что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ействительн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мним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мнимая еди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ометрическая интерпретация комплексного чис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12201"/>
          <a:stretch/>
        </p:blipFill>
        <p:spPr>
          <a:xfrm>
            <a:off x="1042920" y="2133720"/>
            <a:ext cx="31212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19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16:18Z</dcterms:created>
  <dc:creator>User</dc:creator>
  <dc:description/>
  <dc:language>en-US</dc:language>
  <cp:lastModifiedBy>User</cp:lastModifiedBy>
  <dcterms:modified xsi:type="dcterms:W3CDTF">2006-12-25T12:07:04Z</dcterms:modified>
  <cp:revision>17</cp:revision>
  <dc:subject/>
  <dc:title>Комплексные числа</dc:title>
</cp:coreProperties>
</file>