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E80-A630-4536-83F0-F3F76472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0E92-D454-4763-A7EF-10892E67A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D6D-B84F-45A8-B8D3-E390BA4B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B64-C9A1-40CF-B617-47BA5A190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C190-09A1-490A-A218-D37BD40F0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0388-E91B-4BF8-80EE-D5577BDAC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E573C-4619-4BA4-ACA4-6A4B10777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49C3-59E4-4E91-95A7-22B94BBE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05F32-C75B-440A-9733-8C82F669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4EB0-9380-4738-B5C0-A079DB655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35831-2F4D-4ACE-86FF-2A8E8107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922-B511-4234-989A-F7E5367B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013D0-ADB8-4906-B98C-3D60156C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AE42-0D1E-4094-8414-011F5D5A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4767-328C-4B31-935D-4CA15D6E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A2BB-A66B-456F-B4C1-5D5787F86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E349-57AD-4EE5-9533-6490097BB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64A9-2DD4-4E32-8BAF-DA8C01E8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43DD-EA2E-4652-B88F-ABA64C8D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2784-2594-48AA-A9C7-C1F199AA4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8289-02C2-446A-8B40-6FFDA6829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BA66-227F-4130-9456-F207D002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9EF9-2CC3-4F3D-A03D-5B6B3EC1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5C8-2292-4666-BB75-73EA5098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D57B1-B83B-4BF0-82FF-25104A5981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AC66-6AB7-4CE6-B08E-95FC1EBB6A5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Комплексные числа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02920" y="4292280"/>
            <a:ext cx="68706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Модуль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/>
          <p:nvPr/>
        </p:nvSpPr>
        <p:spPr>
          <a:xfrm>
            <a:off x="1258920" y="2276640"/>
            <a:ext cx="208764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-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35280" y="2421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2565360"/>
            <a:ext cx="21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СОПРЯЖЕН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24360" y="2349360"/>
            <a:ext cx="208764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187280" y="2421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0" y="328464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Z) =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492360" y="32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42920" y="40464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Комплексно сопряженные числа</a:t>
            </a:r>
            <a:r>
              <a:rPr b="1" lang="en-US" sz="4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492360" y="32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050920" y="4869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Z  =  A + B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5003640" y="4724280"/>
                <a:ext cx="18860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205092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356000" y="494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игонометрическая форма комплексного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3419280" cy="41338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4284720" y="2060640"/>
            <a:ext cx="374328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 =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ргумент комплексного чис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=r 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Z 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 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ля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=0 аргумент не определя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643280" y="21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000" y="981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.к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Z  =r 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5940360" y="2492280"/>
                <a:ext cx="123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1547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79640" y="1052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84360" y="2349360"/>
            <a:ext cx="720072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Z= 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=                cos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i              sin</a:t>
            </a:r>
            <a:r>
              <a:rPr b="1" i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φ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2771640" y="981000"/>
                <a:ext cx="12114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492280"/>
                <a:ext cx="121104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А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В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826920" y="3573360"/>
                <a:ext cx="262908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816440" y="3645000"/>
                <a:ext cx="257004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В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B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780000" y="4941720"/>
                <a:ext cx="1655640" cy="11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r>
                      <m:t xml:space="preserve">ϕ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ожение и умнож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525840" cy="87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лгебраическая форм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"/>
          <p:cNvSpPr/>
          <p:nvPr/>
        </p:nvSpPr>
        <p:spPr>
          <a:xfrm>
            <a:off x="4859280" y="1773360"/>
            <a:ext cx="35258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Геометриче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2565360"/>
            <a:ext cx="295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Су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+ (C+iD)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C)+(B+D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780000" y="3357720"/>
            <a:ext cx="4679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4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·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= r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[cos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+isin (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005360"/>
            <a:ext cx="3097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Произвед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A+iB) · (C+iD)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C-BD)+(AD+BC)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99640" y="620640"/>
            <a:ext cx="7054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Есл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Z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, то получим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²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=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² (cos2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2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³= Z²·Z=[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]²·r (cos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= r³ (cos3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n 3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908000" y="4419720"/>
                <a:ext cx="5543640" cy="13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[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1835280" y="400536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Формула Муав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57340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Для любог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≠0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 любого натурального числа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813744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Z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называется 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корнем степени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n</a:t>
            </a:r>
            <a:r>
              <a:rPr b="0" lang="ru-RU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(обозначается      ), если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(*)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данного определения вытекает, что каждое решение уравн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является корнем степен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з числа </a:t>
            </a:r>
            <a:r>
              <a:rPr b="0" lang="el-GR" sz="2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4643280" y="620640"/>
                <a:ext cx="50328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ω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364000" y="141300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372360" y="549360"/>
                <a:ext cx="129384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Z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1258920" y="270828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Z= r 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27082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ω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1" lang="el-G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cos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+ 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n </a:t>
            </a:r>
            <a:r>
              <a:rPr b="0" lang="el-GR" sz="1800" spc="-1" strike="noStrike">
                <a:solidFill>
                  <a:srgbClr val="000000"/>
                </a:solidFill>
                <a:latin typeface="Comic Sans MS"/>
              </a:rPr>
              <a:t>ψ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763640" y="3213000"/>
                <a:ext cx="5329440" cy="16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n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n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ψ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ρ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и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nϕ</m:t>
                        </m:r>
                        <m:r>
                          <m:t xml:space="preserve">=</m:t>
                        </m:r>
                        <m:r>
                          <m:t xml:space="preserve">ψ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</m:mr>
                        </m:m>
                        <m:r>
                          <m:t xml:space="preserve">k</m:t>
                        </m:r>
                        <m:r>
                          <m:t xml:space="preserve">∈</m:t>
                        </m:r>
                        <m:r>
                          <m:t xml:space="preserve">Z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или</m:t>
                        </m:r>
                        <m:m>
                          <m:mr>
                            <m:e/>
                            <m:e>
                              <m:r>
                                <m:t xml:space="preserve">r</m:t>
                              </m:r>
                              <m:r>
                                <m:t xml:space="preserve">=</m:t>
                              </m:r>
                              <m:rad>
                                <m:deg>
                                  <m:r>
                                    <m:t xml:space="preserve">n</m:t>
                                  </m:r>
                                </m:deg>
                                <m:e>
                                  <m:r>
                                    <m:t xml:space="preserve">ρ</m:t>
                                  </m:r>
                                  <m:m>
                                    <m:mr>
                                      <m:e/>
                                    </m:mr>
                                  </m:m>
                                </m:e>
                              </m:rad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,</m:t>
                              </m:r>
                              <m:m>
                                <m:mr>
                                  <m:e>
                                    <m:r>
                                      <m:t xml:space="preserve">ϕ</m:t>
                                    </m:r>
                                    <m:r>
                                      <m:t xml:space="preserve">=</m:t>
                                    </m:r>
                                    <m:f>
                                      <m:num>
                                        <m:r>
                                          <m:t xml:space="preserve">ψ</m:t>
                                        </m:r>
                                      </m:num>
                                      <m:den>
                                        <m:r>
                                          <m:t xml:space="preserve">n</m:t>
                                        </m:r>
                                      </m:den>
                                    </m:f>
                                  </m:e>
                                </m:mr>
                              </m:m>
                              <m:r>
                                <m:t xml:space="preserve">+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  <m:r>
                                    <m:t xml:space="preserve">π</m:t>
                                  </m:r>
                                </m:num>
                                <m:den>
                                  <m:r>
                                    <m:t xml:space="preserve">n</m:t>
                                  </m:r>
                                </m:den>
                              </m:f>
                              <m:r>
                                <m:t xml:space="preserve">k</m:t>
                              </m:r>
                              <m:r>
                                <m:t xml:space="preserve">,</m:t>
                              </m:r>
                              <m:m>
                                <m:mr>
                                  <m:e/>
                                </m:mr>
                              </m:m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1835280" y="5013360"/>
                <a:ext cx="662436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ρ</m:t>
                        </m:r>
                      </m:e>
                    </m:rad>
                    <m:r>
                      <m:t xml:space="preserve">[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ψ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k</m:t>
                    </m:r>
                    <m:r>
                      <m:t xml:space="preserve">)</m:t>
                    </m:r>
                    <m:r>
                      <m:t xml:space="preserve">]</m:t>
                    </m:r>
                    <m:r>
                      <m:t xml:space="preserve">,</m:t>
                    </m:r>
                    <m:m>
                      <m:mr>
                        <m:e>
                          <m:r>
                            <m:t xml:space="preserve">k</m:t>
                          </m:r>
                          <m:r>
                            <m:t xml:space="preserve">∈</m:t>
                          </m:r>
                          <m:r>
                            <m:t xml:space="preserve">Z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1835280" y="4869000"/>
            <a:ext cx="6769080" cy="1152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843280" y="6165720"/>
            <a:ext cx="46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omic Sans MS"/>
              </a:rPr>
              <a:t>Вторая формула Муавра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 определяет все корни двучленного уравнения степе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1332000" y="1916280"/>
                <a:ext cx="691344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Z</m:t>
                            </m:r>
                          </m:e>
                          <m:sup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где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,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,</m:t>
                                  </m:r>
                                </m:sub>
                              </m:sSub>
                            </m:e>
                          </m:mr>
                        </m: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задан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копмплексные</m:t>
                        </m:r>
                        <m:m>
                          <m:mr>
                            <m:e/>
                          </m:mr>
                        </m:m>
                        <m:r>
                          <m:rPr>
                            <m:lit/>
                            <m:nor/>
                          </m:rPr>
                          <m:t xml:space="preserve">числа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1116000" y="407664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аждое алгебраическое уравнение  степени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имеет  в множестве комплексных чисел ровно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-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рн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42920" y="3141720"/>
            <a:ext cx="7559640" cy="642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Теорема Гаусса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каждое алгебраическое уравнение имеет в множестве комплексных чисел по крайне мере один кор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5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692280"/>
            <a:ext cx="377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шить уравнение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1908000" y="1268280"/>
                <a:ext cx="6120000" cy="516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−</m:t>
                        </m:r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3</m:t>
                        </m:r>
                        <m:r>
                          <m:t xml:space="preserve">ϕ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тогда</m:t>
                        </m:r>
                        <m:m>
                          <m:mr>
                            <m:e/>
                            <m:e>
                              <m:r>
                                <m:t xml:space="preserve">3</m:t>
                              </m:r>
                              <m:r>
                                <m:t xml:space="preserve">ϕ</m:t>
                              </m:r>
                              <m:r>
                                <m:t xml:space="preserve">=</m:t>
                              </m:r>
                            </m:e>
                          </m:mr>
                        </m:m>
                        <m:r>
                          <m:t xml:space="preserve">π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πk</m:t>
                        </m:r>
                      </m:e>
                      <m:e>
                        <m:r>
                          <m:t xml:space="preserve">ϕ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π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  <m:m>
                          <m:mr>
                            <m:e/>
                            <m:e>
                              <m:r>
                                <m:t xml:space="preserve">k</m:t>
                              </m:r>
                              <m:r>
                                <m:t xml:space="preserve">∈</m:t>
                              </m:r>
                              <m:r>
                                <m:t xml:space="preserve">Z</m:t>
                              </m:r>
                            </m:e>
                          </m:mr>
                        </m:m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войства сложения и умнож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Перемести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очетательно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спределительные свойств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"/>
          <p:cNvSpPr/>
          <p:nvPr/>
        </p:nvSpPr>
        <p:spPr>
          <a:xfrm>
            <a:off x="826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00364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360" y="494172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95280" y="350028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+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88000" y="3500280"/>
            <a:ext cx="43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·(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суммы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3419280" cy="41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БЯЗАТЕЛЬНЫЙ МИНИМУМ СОДЕРЖАНИЯ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ОСНОВНЫХ ОБРАЗОВАТЕЛЬНЫХ ПРОГРАМ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86048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ЧИСЛОВЫЕ И БУКВЕННЫЕ ВЫРАЖЕНИЯ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Комплексные числа. Геометрическая интерпретация комплексных чисел. Действительная и мнимая часть, модуль и аргумент комплексного числа. Алгебраическая и тригонометрическая формы записи комплексных чисел. Арифметические действия над комплексными числами в разных формах записи. Комплексно сопряженные числа. </a:t>
            </a:r>
            <a:r>
              <a:rPr b="1" i="1" lang="en-US" sz="2600" spc="-1" strike="noStrike">
                <a:solidFill>
                  <a:srgbClr val="000000"/>
                </a:solidFill>
                <a:latin typeface="Comic Sans MS"/>
              </a:rPr>
              <a:t>Возведение в натуральную степень (формула Муавра). Основная теорема алгебры.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ычитание и деление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"/>
          <p:cNvSpPr/>
          <p:nvPr/>
        </p:nvSpPr>
        <p:spPr>
          <a:xfrm>
            <a:off x="1042920" y="227664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71640" y="1773360"/>
            <a:ext cx="69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Вычитание –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перация, обратная сл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71640" y="263700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+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+(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Z</a:t>
            </a:r>
            <a:r>
              <a:rPr b="1" lang="ru-RU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42920" y="3068640"/>
            <a:ext cx="54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–раз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71640" y="386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Дел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– операция, обратная умножению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908000" y="436572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·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= Z</a:t>
            </a: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494172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зделив обе части н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n-US" sz="9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лучи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2771640" y="5651640"/>
                <a:ext cx="2808360" cy="92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m>
                      <m:mr>
                        <m:e>
                          <m:sSub>
                            <m:e>
                              <m:r>
                                <m:t xml:space="preserve">Z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≠</m:t>
                          </m:r>
                          <m:r>
                            <m:t xml:space="preserve">0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Геометрическое изображение разности комплексных 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9202" t="1182" r="43953" b="62978"/>
          <a:stretch/>
        </p:blipFill>
        <p:spPr>
          <a:xfrm>
            <a:off x="1187280" y="1773360"/>
            <a:ext cx="4105440" cy="43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мер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41528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йти разность и частное комплексных чисе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2349360"/>
                <a:ext cx="2736720" cy="3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i</m:t>
                    </m:r>
                    <m:m>
                      <m:mr>
                        <m:e/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274" name=""/>
          <p:cNvSpPr/>
          <p:nvPr/>
        </p:nvSpPr>
        <p:spPr>
          <a:xfrm>
            <a:off x="611280" y="2781360"/>
            <a:ext cx="78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1979640" y="3357720"/>
                <a:ext cx="597528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i</m:t>
                        </m:r>
                      </m:e>
                      <m:e>
                        <m:f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i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⋅</m:t>
                            </m:r>
                            <m:r>
                              <m:t xml:space="preserve">4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1</m:t>
                            </m:r>
                          </m:den>
                        </m:f>
                        <m:r>
                          <m:t xml:space="preserve">i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Литература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94920" y="1828440"/>
            <a:ext cx="798660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имов Ш.А., Колягин Ю.М., Сидоров Ю.В. и др/ Алгебра и начала анализа 10-11кл, Просвещение 2005г,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лмагоров А.Н., Абрамов, Дудицин/ Алгебра и начала анализа 10-11кл, Просвещение 2005г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икольскийС.М., Потапов Н.К, и др. Алгебра и начала анализа 10-11кл, Просвещение 2005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онятие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920" y="1828800"/>
            <a:ext cx="8130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+А=В -   недостаточно положительных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 + В=0 (А≠0) – разрешимы на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множестве рац.чисе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2 или 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³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5  - корни - иррациональные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3780000" y="2492280"/>
            <a:ext cx="2376360" cy="503280"/>
          </a:xfrm>
          <a:prstGeom prst="cloudCallout">
            <a:avLst>
              <a:gd name="adj1" fmla="val -32097"/>
              <a:gd name="adj2" fmla="val 4684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Х+5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"/>
          <p:cNvGrpSpPr/>
          <p:nvPr/>
        </p:nvGrpSpPr>
        <p:grpSpPr>
          <a:xfrm>
            <a:off x="1476360" y="1125360"/>
            <a:ext cx="6191280" cy="4319640"/>
            <a:chOff x="1476360" y="1125360"/>
            <a:chExt cx="6191280" cy="4319640"/>
          </a:xfrm>
        </p:grpSpPr>
        <p:sp>
          <p:nvSpPr>
            <p:cNvPr id="159" name=""/>
            <p:cNvSpPr/>
            <p:nvPr/>
          </p:nvSpPr>
          <p:spPr>
            <a:xfrm>
              <a:off x="4716360" y="2060640"/>
              <a:ext cx="223200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268360" y="2060640"/>
              <a:ext cx="2232360" cy="216036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76360" y="1125360"/>
              <a:ext cx="6191280" cy="431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4437000"/>
              <a:ext cx="36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квадратных уравнений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Х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+ В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Х+ С =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При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&lt;0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действительных корней не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1547640" y="3716280"/>
            <a:ext cx="5616720" cy="2879640"/>
            <a:chOff x="1547640" y="3716280"/>
            <a:chExt cx="5616720" cy="2879640"/>
          </a:xfrm>
        </p:grpSpPr>
        <p:sp>
          <p:nvSpPr>
            <p:cNvPr id="166" name=""/>
            <p:cNvSpPr/>
            <p:nvPr/>
          </p:nvSpPr>
          <p:spPr>
            <a:xfrm>
              <a:off x="3419640" y="43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63640" y="43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47640" y="37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68520" y="59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796000" y="45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6516720" y="40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258920" y="1916280"/>
            <a:ext cx="5616720" cy="2879640"/>
            <a:chOff x="1258920" y="1916280"/>
            <a:chExt cx="5616720" cy="2879640"/>
          </a:xfrm>
        </p:grpSpPr>
        <p:sp>
          <p:nvSpPr>
            <p:cNvPr id="173" name=""/>
            <p:cNvSpPr/>
            <p:nvPr/>
          </p:nvSpPr>
          <p:spPr>
            <a:xfrm>
              <a:off x="3130920" y="2565720"/>
              <a:ext cx="158400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Ир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4920" y="2565720"/>
              <a:ext cx="1428840" cy="1439640"/>
            </a:xfrm>
            <a:prstGeom prst="ellipse">
              <a:avLst/>
            </a:prstGeom>
            <a:solidFill>
              <a:srgbClr val="ffe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Рациональны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числ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258920" y="1916280"/>
              <a:ext cx="3961080" cy="2879640"/>
            </a:xfrm>
            <a:prstGeom prst="ellipse">
              <a:avLst/>
            </a:prstGeom>
            <a:noFill/>
            <a:ln w="572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179800" y="4124520"/>
              <a:ext cx="230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Действительные числ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7280" y="2708640"/>
              <a:ext cx="86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 txBox="1"/>
            <p:nvPr/>
          </p:nvSpPr>
          <p:spPr>
            <a:xfrm>
              <a:off x="6228000" y="2276640"/>
              <a:ext cx="647640" cy="1513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blipFill rotWithShape="0">
                    <a:blip r:embed="rId1"/>
                    <a:srcRect/>
                    <a:stretch/>
                  </a:blip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Impact"/>
                </a:rPr>
                <a:t>?</a:t>
              </a:r>
              <a:endPara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5280" y="1125360"/>
            <a:ext cx="8280360" cy="4680000"/>
          </a:xfrm>
          <a:prstGeom prst="ellipse">
            <a:avLst/>
          </a:prstGeom>
          <a:noFill/>
          <a:ln w="76320">
            <a:solidFill>
              <a:srgbClr val="ffb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132000" y="50133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омплексные чис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ид комплексного числ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Х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     -корень урав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мплексное число, такое , что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"/>
          <p:cNvSpPr/>
          <p:nvPr/>
        </p:nvSpPr>
        <p:spPr>
          <a:xfrm>
            <a:off x="4140360" y="4437000"/>
            <a:ext cx="2087280" cy="93672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92360" y="544500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ЗАПИСЬ КОМПЛЕКСНОГО ЧИСЛА В ОБЩЕМ ВИ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 и В – действительные числ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некоторый символ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i="1" lang="ru-RU" sz="3200" spc="-1" strike="noStrike">
                <a:solidFill>
                  <a:srgbClr val="000000"/>
                </a:solidFill>
                <a:latin typeface="Comic Sans MS"/>
              </a:rPr>
              <a:t>такой, что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=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А – действительн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В – мнимая ча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– мнимая единица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199280" cy="16002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А + В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·</a:t>
            </a: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еометрическая интерпретация комплексного числ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rcRect l="0" t="0" r="0" b="12201"/>
          <a:stretch/>
        </p:blipFill>
        <p:spPr>
          <a:xfrm>
            <a:off x="1042920" y="2133720"/>
            <a:ext cx="3121200" cy="33130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1964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8T13:16:18Z</dcterms:created>
  <dc:creator>User</dc:creator>
  <dc:description/>
  <dc:language>en-US</dc:language>
  <cp:lastModifiedBy>User</cp:lastModifiedBy>
  <dcterms:modified xsi:type="dcterms:W3CDTF">2006-12-25T12:07:04Z</dcterms:modified>
  <cp:revision>17</cp:revision>
  <dc:subject/>
  <dc:title>Комплексные числа</dc:title>
</cp:coreProperties>
</file>